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D4A-E1E5-4DAD-B273-3C6008D5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E89-9E8A-429A-B53A-ACCBD4F4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B48-7048-4018-9F8E-A538588C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7F0-7309-4F91-A5EA-FD99C0D2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4D0-14AF-4CA1-B995-94E3796C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8BA-3CF9-4340-A6DA-0D07299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17-15D6-45FD-95E7-940A84C2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CDE-EC84-49ED-AAA0-E7FC593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967-C9BC-4A20-AAB5-1FEFE4F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EFA-42D3-4002-9E05-181FA0E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E62-8619-4C2B-8FD0-1741B65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DF8-A9E1-4D7F-84F9-18FF5CB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005-64F6-4873-B33C-43ED41D4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6080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elcom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960" y="1932120"/>
            <a:ext cx="2005200" cy="290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8960" y="5396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8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34040" y="3443400"/>
            <a:ext cx="24591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657840" y="5584680"/>
            <a:ext cx="2198880" cy="1074960"/>
            <a:chOff x="6657840" y="5584680"/>
            <a:chExt cx="2198880" cy="1074960"/>
          </a:xfrm>
        </p:grpSpPr>
        <p:sp>
          <p:nvSpPr>
            <p:cNvPr id="47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657840" y="5584680"/>
              <a:ext cx="1113120" cy="10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7504560" y="149400"/>
            <a:ext cx="1485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1 (8/20/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08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76560" y="4772160"/>
            <a:ext cx="1447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220240" y="173160"/>
            <a:ext cx="85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5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658080" y="547560"/>
            <a:ext cx="6674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tive stuff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s on the Web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www.csee.usf.edu/~christen/class7/class7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670040" y="2039760"/>
            <a:ext cx="5541840" cy="43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21680" y="173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6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49800" y="547560"/>
            <a:ext cx="772416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tive stuff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written exams (given in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1 and #2 - Both will be two-hour written ex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 “hands-on” quizzes (given in lab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f 6 problems one to two weeks before qu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z will be a random selection of 1 of the 6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1 new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udent will roll a die to select the random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 lab exercises (given in lab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, a si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problem in lab and get checked-off before end of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219880" y="173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7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657360" y="547560"/>
            <a:ext cx="51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tive stuff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uy and bring to lab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manila envelope (9 in by 13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08680" y="1600200"/>
            <a:ext cx="289080" cy="738360"/>
          </a:xfrm>
          <a:custGeom>
            <a:avLst/>
            <a:gdLst/>
            <a:ahLst/>
            <a:rect l="l" t="t" r="r" b="b"/>
            <a:pathLst>
              <a:path w="182" h="465">
                <a:moveTo>
                  <a:pt x="0" y="0"/>
                </a:moveTo>
                <a:lnTo>
                  <a:pt x="37" y="2"/>
                </a:lnTo>
                <a:lnTo>
                  <a:pt x="69" y="12"/>
                </a:lnTo>
                <a:lnTo>
                  <a:pt x="87" y="24"/>
                </a:lnTo>
                <a:lnTo>
                  <a:pt x="94" y="38"/>
                </a:lnTo>
                <a:lnTo>
                  <a:pt x="94" y="193"/>
                </a:lnTo>
                <a:lnTo>
                  <a:pt x="100" y="207"/>
                </a:lnTo>
                <a:lnTo>
                  <a:pt x="119" y="219"/>
                </a:lnTo>
                <a:lnTo>
                  <a:pt x="144" y="228"/>
                </a:lnTo>
                <a:lnTo>
                  <a:pt x="181" y="231"/>
                </a:lnTo>
                <a:lnTo>
                  <a:pt x="144" y="233"/>
                </a:lnTo>
                <a:lnTo>
                  <a:pt x="119" y="243"/>
                </a:lnTo>
                <a:lnTo>
                  <a:pt x="100" y="254"/>
                </a:lnTo>
                <a:lnTo>
                  <a:pt x="94" y="271"/>
                </a:lnTo>
                <a:lnTo>
                  <a:pt x="94" y="424"/>
                </a:lnTo>
                <a:lnTo>
                  <a:pt x="87" y="438"/>
                </a:lnTo>
                <a:lnTo>
                  <a:pt x="69" y="452"/>
                </a:lnTo>
                <a:lnTo>
                  <a:pt x="37" y="462"/>
                </a:lnTo>
                <a:lnTo>
                  <a:pt x="0" y="4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07120" y="1738440"/>
            <a:ext cx="221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Buy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several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of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1060000">
            <a:off x="2503800" y="2552760"/>
            <a:ext cx="234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o it this wee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54200" y="2211480"/>
            <a:ext cx="4062240" cy="1163520"/>
          </a:xfrm>
          <a:custGeom>
            <a:avLst/>
            <a:gdLst/>
            <a:ahLst/>
            <a:rect l="l" t="t" r="r" b="b"/>
            <a:pathLst>
              <a:path w="2559" h="733">
                <a:moveTo>
                  <a:pt x="2558" y="166"/>
                </a:moveTo>
                <a:lnTo>
                  <a:pt x="2230" y="194"/>
                </a:lnTo>
                <a:lnTo>
                  <a:pt x="2524" y="110"/>
                </a:lnTo>
                <a:lnTo>
                  <a:pt x="2187" y="156"/>
                </a:lnTo>
                <a:lnTo>
                  <a:pt x="2443" y="64"/>
                </a:lnTo>
                <a:lnTo>
                  <a:pt x="2108" y="125"/>
                </a:lnTo>
                <a:lnTo>
                  <a:pt x="2316" y="29"/>
                </a:lnTo>
                <a:lnTo>
                  <a:pt x="1998" y="104"/>
                </a:lnTo>
                <a:lnTo>
                  <a:pt x="2150" y="8"/>
                </a:lnTo>
                <a:lnTo>
                  <a:pt x="1860" y="93"/>
                </a:lnTo>
                <a:lnTo>
                  <a:pt x="1950" y="0"/>
                </a:lnTo>
                <a:lnTo>
                  <a:pt x="1700" y="93"/>
                </a:lnTo>
                <a:lnTo>
                  <a:pt x="1724" y="6"/>
                </a:lnTo>
                <a:lnTo>
                  <a:pt x="1523" y="103"/>
                </a:lnTo>
                <a:lnTo>
                  <a:pt x="1482" y="27"/>
                </a:lnTo>
                <a:lnTo>
                  <a:pt x="1337" y="123"/>
                </a:lnTo>
                <a:lnTo>
                  <a:pt x="1231" y="60"/>
                </a:lnTo>
                <a:lnTo>
                  <a:pt x="1149" y="152"/>
                </a:lnTo>
                <a:lnTo>
                  <a:pt x="982" y="105"/>
                </a:lnTo>
                <a:lnTo>
                  <a:pt x="966" y="190"/>
                </a:lnTo>
                <a:lnTo>
                  <a:pt x="745" y="160"/>
                </a:lnTo>
                <a:lnTo>
                  <a:pt x="795" y="234"/>
                </a:lnTo>
                <a:lnTo>
                  <a:pt x="528" y="223"/>
                </a:lnTo>
                <a:lnTo>
                  <a:pt x="642" y="284"/>
                </a:lnTo>
                <a:lnTo>
                  <a:pt x="340" y="291"/>
                </a:lnTo>
                <a:lnTo>
                  <a:pt x="514" y="336"/>
                </a:lnTo>
                <a:lnTo>
                  <a:pt x="189" y="362"/>
                </a:lnTo>
                <a:lnTo>
                  <a:pt x="416" y="390"/>
                </a:lnTo>
                <a:lnTo>
                  <a:pt x="79" y="434"/>
                </a:lnTo>
                <a:lnTo>
                  <a:pt x="350" y="443"/>
                </a:lnTo>
                <a:lnTo>
                  <a:pt x="15" y="503"/>
                </a:lnTo>
                <a:lnTo>
                  <a:pt x="321" y="493"/>
                </a:lnTo>
                <a:lnTo>
                  <a:pt x="0" y="566"/>
                </a:lnTo>
                <a:lnTo>
                  <a:pt x="328" y="538"/>
                </a:lnTo>
                <a:lnTo>
                  <a:pt x="34" y="622"/>
                </a:lnTo>
                <a:lnTo>
                  <a:pt x="371" y="576"/>
                </a:lnTo>
                <a:lnTo>
                  <a:pt x="115" y="668"/>
                </a:lnTo>
                <a:lnTo>
                  <a:pt x="450" y="607"/>
                </a:lnTo>
                <a:lnTo>
                  <a:pt x="242" y="703"/>
                </a:lnTo>
                <a:lnTo>
                  <a:pt x="560" y="628"/>
                </a:lnTo>
                <a:lnTo>
                  <a:pt x="408" y="724"/>
                </a:lnTo>
                <a:lnTo>
                  <a:pt x="698" y="639"/>
                </a:lnTo>
                <a:lnTo>
                  <a:pt x="608" y="732"/>
                </a:lnTo>
                <a:lnTo>
                  <a:pt x="858" y="639"/>
                </a:lnTo>
                <a:lnTo>
                  <a:pt x="834" y="726"/>
                </a:lnTo>
                <a:lnTo>
                  <a:pt x="1035" y="629"/>
                </a:lnTo>
                <a:lnTo>
                  <a:pt x="1076" y="705"/>
                </a:lnTo>
                <a:lnTo>
                  <a:pt x="1221" y="609"/>
                </a:lnTo>
                <a:lnTo>
                  <a:pt x="1327" y="672"/>
                </a:lnTo>
                <a:lnTo>
                  <a:pt x="1409" y="580"/>
                </a:lnTo>
                <a:lnTo>
                  <a:pt x="1576" y="627"/>
                </a:lnTo>
                <a:lnTo>
                  <a:pt x="1592" y="542"/>
                </a:lnTo>
                <a:lnTo>
                  <a:pt x="1813" y="572"/>
                </a:lnTo>
                <a:lnTo>
                  <a:pt x="1763" y="498"/>
                </a:lnTo>
                <a:lnTo>
                  <a:pt x="2030" y="509"/>
                </a:lnTo>
                <a:lnTo>
                  <a:pt x="1916" y="448"/>
                </a:lnTo>
                <a:lnTo>
                  <a:pt x="2217" y="441"/>
                </a:lnTo>
                <a:lnTo>
                  <a:pt x="2044" y="396"/>
                </a:lnTo>
                <a:lnTo>
                  <a:pt x="2369" y="370"/>
                </a:lnTo>
                <a:lnTo>
                  <a:pt x="2142" y="342"/>
                </a:lnTo>
                <a:lnTo>
                  <a:pt x="2479" y="298"/>
                </a:lnTo>
                <a:lnTo>
                  <a:pt x="2208" y="289"/>
                </a:lnTo>
                <a:lnTo>
                  <a:pt x="2543" y="229"/>
                </a:lnTo>
                <a:lnTo>
                  <a:pt x="2237" y="239"/>
                </a:lnTo>
                <a:lnTo>
                  <a:pt x="2558" y="166"/>
                </a:lnTo>
              </a:path>
            </a:pathLst>
          </a:custGeom>
          <a:noFill/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32200" y="3765600"/>
            <a:ext cx="4346640" cy="1087560"/>
            <a:chOff x="3832200" y="3765600"/>
            <a:chExt cx="4346640" cy="1087560"/>
          </a:xfrm>
        </p:grpSpPr>
        <p:sp>
          <p:nvSpPr>
            <p:cNvPr id="282" name=""/>
            <p:cNvSpPr/>
            <p:nvPr/>
          </p:nvSpPr>
          <p:spPr>
            <a:xfrm>
              <a:off x="3832200" y="3765600"/>
              <a:ext cx="4346640" cy="1087560"/>
            </a:xfrm>
            <a:custGeom>
              <a:avLst/>
              <a:gdLst/>
              <a:ahLst/>
              <a:rect l="l" t="t" r="r" b="b"/>
              <a:pathLst>
                <a:path w="2738" h="685">
                  <a:moveTo>
                    <a:pt x="2737" y="566"/>
                  </a:moveTo>
                  <a:lnTo>
                    <a:pt x="2393" y="490"/>
                  </a:lnTo>
                  <a:lnTo>
                    <a:pt x="2719" y="511"/>
                  </a:lnTo>
                  <a:lnTo>
                    <a:pt x="2360" y="446"/>
                  </a:lnTo>
                  <a:lnTo>
                    <a:pt x="2649" y="449"/>
                  </a:lnTo>
                  <a:lnTo>
                    <a:pt x="2289" y="398"/>
                  </a:lnTo>
                  <a:lnTo>
                    <a:pt x="2530" y="384"/>
                  </a:lnTo>
                  <a:lnTo>
                    <a:pt x="2182" y="348"/>
                  </a:lnTo>
                  <a:lnTo>
                    <a:pt x="2366" y="317"/>
                  </a:lnTo>
                  <a:lnTo>
                    <a:pt x="2044" y="298"/>
                  </a:lnTo>
                  <a:lnTo>
                    <a:pt x="2164" y="250"/>
                  </a:lnTo>
                  <a:lnTo>
                    <a:pt x="1880" y="249"/>
                  </a:lnTo>
                  <a:lnTo>
                    <a:pt x="1931" y="188"/>
                  </a:lnTo>
                  <a:lnTo>
                    <a:pt x="1697" y="204"/>
                  </a:lnTo>
                  <a:lnTo>
                    <a:pt x="1677" y="131"/>
                  </a:lnTo>
                  <a:lnTo>
                    <a:pt x="1501" y="165"/>
                  </a:lnTo>
                  <a:lnTo>
                    <a:pt x="1411" y="82"/>
                  </a:lnTo>
                  <a:lnTo>
                    <a:pt x="1300" y="132"/>
                  </a:lnTo>
                  <a:lnTo>
                    <a:pt x="1143" y="44"/>
                  </a:lnTo>
                  <a:lnTo>
                    <a:pt x="1101" y="107"/>
                  </a:lnTo>
                  <a:lnTo>
                    <a:pt x="884" y="17"/>
                  </a:lnTo>
                  <a:lnTo>
                    <a:pt x="913" y="91"/>
                  </a:lnTo>
                  <a:lnTo>
                    <a:pt x="644" y="2"/>
                  </a:lnTo>
                  <a:lnTo>
                    <a:pt x="742" y="85"/>
                  </a:lnTo>
                  <a:lnTo>
                    <a:pt x="431" y="0"/>
                  </a:lnTo>
                  <a:lnTo>
                    <a:pt x="595" y="89"/>
                  </a:lnTo>
                  <a:lnTo>
                    <a:pt x="254" y="12"/>
                  </a:lnTo>
                  <a:lnTo>
                    <a:pt x="478" y="102"/>
                  </a:lnTo>
                  <a:lnTo>
                    <a:pt x="121" y="36"/>
                  </a:lnTo>
                  <a:lnTo>
                    <a:pt x="396" y="125"/>
                  </a:lnTo>
                  <a:lnTo>
                    <a:pt x="35" y="72"/>
                  </a:lnTo>
                  <a:lnTo>
                    <a:pt x="350" y="156"/>
                  </a:lnTo>
                  <a:lnTo>
                    <a:pt x="0" y="118"/>
                  </a:lnTo>
                  <a:lnTo>
                    <a:pt x="344" y="194"/>
                  </a:lnTo>
                  <a:lnTo>
                    <a:pt x="18" y="173"/>
                  </a:lnTo>
                  <a:lnTo>
                    <a:pt x="377" y="238"/>
                  </a:lnTo>
                  <a:lnTo>
                    <a:pt x="88" y="235"/>
                  </a:lnTo>
                  <a:lnTo>
                    <a:pt x="448" y="286"/>
                  </a:lnTo>
                  <a:lnTo>
                    <a:pt x="207" y="300"/>
                  </a:lnTo>
                  <a:lnTo>
                    <a:pt x="555" y="336"/>
                  </a:lnTo>
                  <a:lnTo>
                    <a:pt x="371" y="367"/>
                  </a:lnTo>
                  <a:lnTo>
                    <a:pt x="693" y="386"/>
                  </a:lnTo>
                  <a:lnTo>
                    <a:pt x="573" y="434"/>
                  </a:lnTo>
                  <a:lnTo>
                    <a:pt x="857" y="435"/>
                  </a:lnTo>
                  <a:lnTo>
                    <a:pt x="806" y="496"/>
                  </a:lnTo>
                  <a:lnTo>
                    <a:pt x="1040" y="480"/>
                  </a:lnTo>
                  <a:lnTo>
                    <a:pt x="1060" y="553"/>
                  </a:lnTo>
                  <a:lnTo>
                    <a:pt x="1236" y="519"/>
                  </a:lnTo>
                  <a:lnTo>
                    <a:pt x="1326" y="602"/>
                  </a:lnTo>
                  <a:lnTo>
                    <a:pt x="1437" y="552"/>
                  </a:lnTo>
                  <a:lnTo>
                    <a:pt x="1594" y="640"/>
                  </a:lnTo>
                  <a:lnTo>
                    <a:pt x="1636" y="577"/>
                  </a:lnTo>
                  <a:lnTo>
                    <a:pt x="1853" y="667"/>
                  </a:lnTo>
                  <a:lnTo>
                    <a:pt x="1824" y="593"/>
                  </a:lnTo>
                  <a:lnTo>
                    <a:pt x="2093" y="682"/>
                  </a:lnTo>
                  <a:lnTo>
                    <a:pt x="1995" y="599"/>
                  </a:lnTo>
                  <a:lnTo>
                    <a:pt x="2306" y="684"/>
                  </a:lnTo>
                  <a:lnTo>
                    <a:pt x="2142" y="595"/>
                  </a:lnTo>
                  <a:lnTo>
                    <a:pt x="2483" y="672"/>
                  </a:lnTo>
                  <a:lnTo>
                    <a:pt x="2259" y="582"/>
                  </a:lnTo>
                  <a:lnTo>
                    <a:pt x="2616" y="648"/>
                  </a:lnTo>
                  <a:lnTo>
                    <a:pt x="2341" y="559"/>
                  </a:lnTo>
                  <a:lnTo>
                    <a:pt x="2702" y="612"/>
                  </a:lnTo>
                  <a:lnTo>
                    <a:pt x="2387" y="528"/>
                  </a:lnTo>
                  <a:lnTo>
                    <a:pt x="2737" y="566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">
              <a:off x="4567680" y="4070520"/>
              <a:ext cx="2931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Do roll with 3x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0400" y="4583160"/>
            <a:ext cx="4046760" cy="1160280"/>
            <a:chOff x="590400" y="4583160"/>
            <a:chExt cx="4046760" cy="1160280"/>
          </a:xfrm>
        </p:grpSpPr>
        <p:sp>
          <p:nvSpPr>
            <p:cNvPr id="285" name=""/>
            <p:cNvSpPr/>
            <p:nvPr/>
          </p:nvSpPr>
          <p:spPr>
            <a:xfrm rot="21060000">
              <a:off x="1225800" y="4938480"/>
              <a:ext cx="2542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Do signature 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0400" y="4583160"/>
              <a:ext cx="4046760" cy="1160280"/>
            </a:xfrm>
            <a:custGeom>
              <a:avLst/>
              <a:gdLst/>
              <a:ahLst/>
              <a:rect l="l" t="t" r="r" b="b"/>
              <a:pathLst>
                <a:path w="2549" h="731">
                  <a:moveTo>
                    <a:pt x="2548" y="166"/>
                  </a:moveTo>
                  <a:lnTo>
                    <a:pt x="2221" y="194"/>
                  </a:lnTo>
                  <a:lnTo>
                    <a:pt x="2514" y="110"/>
                  </a:lnTo>
                  <a:lnTo>
                    <a:pt x="2178" y="155"/>
                  </a:lnTo>
                  <a:lnTo>
                    <a:pt x="2432" y="64"/>
                  </a:lnTo>
                  <a:lnTo>
                    <a:pt x="2099" y="125"/>
                  </a:lnTo>
                  <a:lnTo>
                    <a:pt x="2306" y="29"/>
                  </a:lnTo>
                  <a:lnTo>
                    <a:pt x="1989" y="104"/>
                  </a:lnTo>
                  <a:lnTo>
                    <a:pt x="2141" y="8"/>
                  </a:lnTo>
                  <a:lnTo>
                    <a:pt x="1852" y="93"/>
                  </a:lnTo>
                  <a:lnTo>
                    <a:pt x="1942" y="0"/>
                  </a:lnTo>
                  <a:lnTo>
                    <a:pt x="1693" y="92"/>
                  </a:lnTo>
                  <a:lnTo>
                    <a:pt x="1717" y="6"/>
                  </a:lnTo>
                  <a:lnTo>
                    <a:pt x="1517" y="102"/>
                  </a:lnTo>
                  <a:lnTo>
                    <a:pt x="1475" y="26"/>
                  </a:lnTo>
                  <a:lnTo>
                    <a:pt x="1332" y="122"/>
                  </a:lnTo>
                  <a:lnTo>
                    <a:pt x="1226" y="59"/>
                  </a:lnTo>
                  <a:lnTo>
                    <a:pt x="1145" y="151"/>
                  </a:lnTo>
                  <a:lnTo>
                    <a:pt x="979" y="104"/>
                  </a:lnTo>
                  <a:lnTo>
                    <a:pt x="962" y="189"/>
                  </a:lnTo>
                  <a:lnTo>
                    <a:pt x="742" y="158"/>
                  </a:lnTo>
                  <a:lnTo>
                    <a:pt x="792" y="233"/>
                  </a:lnTo>
                  <a:lnTo>
                    <a:pt x="527" y="221"/>
                  </a:lnTo>
                  <a:lnTo>
                    <a:pt x="640" y="282"/>
                  </a:lnTo>
                  <a:lnTo>
                    <a:pt x="340" y="289"/>
                  </a:lnTo>
                  <a:lnTo>
                    <a:pt x="513" y="335"/>
                  </a:lnTo>
                  <a:lnTo>
                    <a:pt x="188" y="361"/>
                  </a:lnTo>
                  <a:lnTo>
                    <a:pt x="415" y="389"/>
                  </a:lnTo>
                  <a:lnTo>
                    <a:pt x="79" y="432"/>
                  </a:lnTo>
                  <a:lnTo>
                    <a:pt x="350" y="441"/>
                  </a:lnTo>
                  <a:lnTo>
                    <a:pt x="16" y="501"/>
                  </a:lnTo>
                  <a:lnTo>
                    <a:pt x="320" y="491"/>
                  </a:lnTo>
                  <a:lnTo>
                    <a:pt x="0" y="564"/>
                  </a:lnTo>
                  <a:lnTo>
                    <a:pt x="327" y="536"/>
                  </a:lnTo>
                  <a:lnTo>
                    <a:pt x="34" y="620"/>
                  </a:lnTo>
                  <a:lnTo>
                    <a:pt x="370" y="575"/>
                  </a:lnTo>
                  <a:lnTo>
                    <a:pt x="116" y="666"/>
                  </a:lnTo>
                  <a:lnTo>
                    <a:pt x="449" y="605"/>
                  </a:lnTo>
                  <a:lnTo>
                    <a:pt x="242" y="701"/>
                  </a:lnTo>
                  <a:lnTo>
                    <a:pt x="559" y="626"/>
                  </a:lnTo>
                  <a:lnTo>
                    <a:pt x="407" y="722"/>
                  </a:lnTo>
                  <a:lnTo>
                    <a:pt x="696" y="637"/>
                  </a:lnTo>
                  <a:lnTo>
                    <a:pt x="606" y="730"/>
                  </a:lnTo>
                  <a:lnTo>
                    <a:pt x="855" y="638"/>
                  </a:lnTo>
                  <a:lnTo>
                    <a:pt x="831" y="724"/>
                  </a:lnTo>
                  <a:lnTo>
                    <a:pt x="1031" y="628"/>
                  </a:lnTo>
                  <a:lnTo>
                    <a:pt x="1073" y="704"/>
                  </a:lnTo>
                  <a:lnTo>
                    <a:pt x="1216" y="608"/>
                  </a:lnTo>
                  <a:lnTo>
                    <a:pt x="1322" y="671"/>
                  </a:lnTo>
                  <a:lnTo>
                    <a:pt x="1403" y="579"/>
                  </a:lnTo>
                  <a:lnTo>
                    <a:pt x="1569" y="626"/>
                  </a:lnTo>
                  <a:lnTo>
                    <a:pt x="1586" y="541"/>
                  </a:lnTo>
                  <a:lnTo>
                    <a:pt x="1806" y="572"/>
                  </a:lnTo>
                  <a:lnTo>
                    <a:pt x="1756" y="497"/>
                  </a:lnTo>
                  <a:lnTo>
                    <a:pt x="2021" y="509"/>
                  </a:lnTo>
                  <a:lnTo>
                    <a:pt x="1908" y="448"/>
                  </a:lnTo>
                  <a:lnTo>
                    <a:pt x="2208" y="441"/>
                  </a:lnTo>
                  <a:lnTo>
                    <a:pt x="2035" y="395"/>
                  </a:lnTo>
                  <a:lnTo>
                    <a:pt x="2360" y="369"/>
                  </a:lnTo>
                  <a:lnTo>
                    <a:pt x="2133" y="341"/>
                  </a:lnTo>
                  <a:lnTo>
                    <a:pt x="2469" y="298"/>
                  </a:lnTo>
                  <a:lnTo>
                    <a:pt x="2198" y="289"/>
                  </a:lnTo>
                  <a:lnTo>
                    <a:pt x="2532" y="229"/>
                  </a:lnTo>
                  <a:lnTo>
                    <a:pt x="2228" y="239"/>
                  </a:lnTo>
                  <a:lnTo>
                    <a:pt x="2548" y="166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rot="21060000">
            <a:off x="3824280" y="5638320"/>
            <a:ext cx="23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ns for mist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3720" y="5343480"/>
            <a:ext cx="3403440" cy="1041480"/>
          </a:xfrm>
          <a:custGeom>
            <a:avLst/>
            <a:gdLst/>
            <a:ahLst/>
            <a:rect l="l" t="t" r="r" b="b"/>
            <a:pathLst>
              <a:path w="2144" h="656">
                <a:moveTo>
                  <a:pt x="2143" y="149"/>
                </a:moveTo>
                <a:lnTo>
                  <a:pt x="1868" y="174"/>
                </a:lnTo>
                <a:lnTo>
                  <a:pt x="2115" y="99"/>
                </a:lnTo>
                <a:lnTo>
                  <a:pt x="1832" y="139"/>
                </a:lnTo>
                <a:lnTo>
                  <a:pt x="2046" y="57"/>
                </a:lnTo>
                <a:lnTo>
                  <a:pt x="1765" y="112"/>
                </a:lnTo>
                <a:lnTo>
                  <a:pt x="1940" y="26"/>
                </a:lnTo>
                <a:lnTo>
                  <a:pt x="1673" y="93"/>
                </a:lnTo>
                <a:lnTo>
                  <a:pt x="1801" y="7"/>
                </a:lnTo>
                <a:lnTo>
                  <a:pt x="1558" y="83"/>
                </a:lnTo>
                <a:lnTo>
                  <a:pt x="1633" y="0"/>
                </a:lnTo>
                <a:lnTo>
                  <a:pt x="1424" y="83"/>
                </a:lnTo>
                <a:lnTo>
                  <a:pt x="1444" y="5"/>
                </a:lnTo>
                <a:lnTo>
                  <a:pt x="1276" y="92"/>
                </a:lnTo>
                <a:lnTo>
                  <a:pt x="1241" y="23"/>
                </a:lnTo>
                <a:lnTo>
                  <a:pt x="1120" y="109"/>
                </a:lnTo>
                <a:lnTo>
                  <a:pt x="1031" y="53"/>
                </a:lnTo>
                <a:lnTo>
                  <a:pt x="963" y="136"/>
                </a:lnTo>
                <a:lnTo>
                  <a:pt x="823" y="93"/>
                </a:lnTo>
                <a:lnTo>
                  <a:pt x="809" y="170"/>
                </a:lnTo>
                <a:lnTo>
                  <a:pt x="624" y="142"/>
                </a:lnTo>
                <a:lnTo>
                  <a:pt x="666" y="209"/>
                </a:lnTo>
                <a:lnTo>
                  <a:pt x="443" y="198"/>
                </a:lnTo>
                <a:lnTo>
                  <a:pt x="538" y="253"/>
                </a:lnTo>
                <a:lnTo>
                  <a:pt x="286" y="259"/>
                </a:lnTo>
                <a:lnTo>
                  <a:pt x="431" y="301"/>
                </a:lnTo>
                <a:lnTo>
                  <a:pt x="158" y="324"/>
                </a:lnTo>
                <a:lnTo>
                  <a:pt x="349" y="349"/>
                </a:lnTo>
                <a:lnTo>
                  <a:pt x="66" y="388"/>
                </a:lnTo>
                <a:lnTo>
                  <a:pt x="294" y="396"/>
                </a:lnTo>
                <a:lnTo>
                  <a:pt x="13" y="450"/>
                </a:lnTo>
                <a:lnTo>
                  <a:pt x="269" y="441"/>
                </a:lnTo>
                <a:lnTo>
                  <a:pt x="0" y="506"/>
                </a:lnTo>
                <a:lnTo>
                  <a:pt x="275" y="481"/>
                </a:lnTo>
                <a:lnTo>
                  <a:pt x="29" y="556"/>
                </a:lnTo>
                <a:lnTo>
                  <a:pt x="311" y="516"/>
                </a:lnTo>
                <a:lnTo>
                  <a:pt x="98" y="598"/>
                </a:lnTo>
                <a:lnTo>
                  <a:pt x="378" y="543"/>
                </a:lnTo>
                <a:lnTo>
                  <a:pt x="204" y="629"/>
                </a:lnTo>
                <a:lnTo>
                  <a:pt x="470" y="562"/>
                </a:lnTo>
                <a:lnTo>
                  <a:pt x="342" y="648"/>
                </a:lnTo>
                <a:lnTo>
                  <a:pt x="585" y="572"/>
                </a:lnTo>
                <a:lnTo>
                  <a:pt x="510" y="655"/>
                </a:lnTo>
                <a:lnTo>
                  <a:pt x="719" y="573"/>
                </a:lnTo>
                <a:lnTo>
                  <a:pt x="699" y="650"/>
                </a:lnTo>
                <a:lnTo>
                  <a:pt x="867" y="564"/>
                </a:lnTo>
                <a:lnTo>
                  <a:pt x="903" y="632"/>
                </a:lnTo>
                <a:lnTo>
                  <a:pt x="1023" y="546"/>
                </a:lnTo>
                <a:lnTo>
                  <a:pt x="1112" y="602"/>
                </a:lnTo>
                <a:lnTo>
                  <a:pt x="1180" y="520"/>
                </a:lnTo>
                <a:lnTo>
                  <a:pt x="1320" y="562"/>
                </a:lnTo>
                <a:lnTo>
                  <a:pt x="1334" y="485"/>
                </a:lnTo>
                <a:lnTo>
                  <a:pt x="1519" y="513"/>
                </a:lnTo>
                <a:lnTo>
                  <a:pt x="1477" y="446"/>
                </a:lnTo>
                <a:lnTo>
                  <a:pt x="1700" y="457"/>
                </a:lnTo>
                <a:lnTo>
                  <a:pt x="1605" y="402"/>
                </a:lnTo>
                <a:lnTo>
                  <a:pt x="1857" y="396"/>
                </a:lnTo>
                <a:lnTo>
                  <a:pt x="1712" y="354"/>
                </a:lnTo>
                <a:lnTo>
                  <a:pt x="1985" y="331"/>
                </a:lnTo>
                <a:lnTo>
                  <a:pt x="1794" y="306"/>
                </a:lnTo>
                <a:lnTo>
                  <a:pt x="2077" y="267"/>
                </a:lnTo>
                <a:lnTo>
                  <a:pt x="1849" y="259"/>
                </a:lnTo>
                <a:lnTo>
                  <a:pt x="2130" y="206"/>
                </a:lnTo>
                <a:lnTo>
                  <a:pt x="1874" y="214"/>
                </a:lnTo>
                <a:lnTo>
                  <a:pt x="2143" y="149"/>
                </a:lnTo>
              </a:path>
            </a:pathLst>
          </a:custGeom>
          <a:noFill/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897440" y="2508120"/>
            <a:ext cx="4046400" cy="1160280"/>
            <a:chOff x="4897440" y="2508120"/>
            <a:chExt cx="4046400" cy="1160280"/>
          </a:xfrm>
        </p:grpSpPr>
        <p:sp>
          <p:nvSpPr>
            <p:cNvPr id="290" name=""/>
            <p:cNvSpPr/>
            <p:nvPr/>
          </p:nvSpPr>
          <p:spPr>
            <a:xfrm rot="21060000">
              <a:off x="5531760" y="2852640"/>
              <a:ext cx="2676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Do student surve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97440" y="2508120"/>
              <a:ext cx="4046400" cy="1160280"/>
            </a:xfrm>
            <a:custGeom>
              <a:avLst/>
              <a:gdLst/>
              <a:ahLst/>
              <a:rect l="l" t="t" r="r" b="b"/>
              <a:pathLst>
                <a:path w="2549" h="731">
                  <a:moveTo>
                    <a:pt x="2548" y="166"/>
                  </a:moveTo>
                  <a:lnTo>
                    <a:pt x="2221" y="194"/>
                  </a:lnTo>
                  <a:lnTo>
                    <a:pt x="2514" y="110"/>
                  </a:lnTo>
                  <a:lnTo>
                    <a:pt x="2178" y="155"/>
                  </a:lnTo>
                  <a:lnTo>
                    <a:pt x="2432" y="64"/>
                  </a:lnTo>
                  <a:lnTo>
                    <a:pt x="2099" y="125"/>
                  </a:lnTo>
                  <a:lnTo>
                    <a:pt x="2306" y="29"/>
                  </a:lnTo>
                  <a:lnTo>
                    <a:pt x="1989" y="104"/>
                  </a:lnTo>
                  <a:lnTo>
                    <a:pt x="2141" y="8"/>
                  </a:lnTo>
                  <a:lnTo>
                    <a:pt x="1852" y="93"/>
                  </a:lnTo>
                  <a:lnTo>
                    <a:pt x="1942" y="0"/>
                  </a:lnTo>
                  <a:lnTo>
                    <a:pt x="1693" y="92"/>
                  </a:lnTo>
                  <a:lnTo>
                    <a:pt x="1717" y="6"/>
                  </a:lnTo>
                  <a:lnTo>
                    <a:pt x="1517" y="102"/>
                  </a:lnTo>
                  <a:lnTo>
                    <a:pt x="1475" y="26"/>
                  </a:lnTo>
                  <a:lnTo>
                    <a:pt x="1332" y="122"/>
                  </a:lnTo>
                  <a:lnTo>
                    <a:pt x="1226" y="59"/>
                  </a:lnTo>
                  <a:lnTo>
                    <a:pt x="1145" y="151"/>
                  </a:lnTo>
                  <a:lnTo>
                    <a:pt x="979" y="104"/>
                  </a:lnTo>
                  <a:lnTo>
                    <a:pt x="962" y="189"/>
                  </a:lnTo>
                  <a:lnTo>
                    <a:pt x="742" y="158"/>
                  </a:lnTo>
                  <a:lnTo>
                    <a:pt x="792" y="233"/>
                  </a:lnTo>
                  <a:lnTo>
                    <a:pt x="527" y="221"/>
                  </a:lnTo>
                  <a:lnTo>
                    <a:pt x="640" y="282"/>
                  </a:lnTo>
                  <a:lnTo>
                    <a:pt x="340" y="289"/>
                  </a:lnTo>
                  <a:lnTo>
                    <a:pt x="513" y="335"/>
                  </a:lnTo>
                  <a:lnTo>
                    <a:pt x="188" y="361"/>
                  </a:lnTo>
                  <a:lnTo>
                    <a:pt x="415" y="389"/>
                  </a:lnTo>
                  <a:lnTo>
                    <a:pt x="79" y="432"/>
                  </a:lnTo>
                  <a:lnTo>
                    <a:pt x="350" y="441"/>
                  </a:lnTo>
                  <a:lnTo>
                    <a:pt x="16" y="501"/>
                  </a:lnTo>
                  <a:lnTo>
                    <a:pt x="320" y="491"/>
                  </a:lnTo>
                  <a:lnTo>
                    <a:pt x="0" y="564"/>
                  </a:lnTo>
                  <a:lnTo>
                    <a:pt x="327" y="536"/>
                  </a:lnTo>
                  <a:lnTo>
                    <a:pt x="34" y="620"/>
                  </a:lnTo>
                  <a:lnTo>
                    <a:pt x="370" y="575"/>
                  </a:lnTo>
                  <a:lnTo>
                    <a:pt x="116" y="666"/>
                  </a:lnTo>
                  <a:lnTo>
                    <a:pt x="449" y="605"/>
                  </a:lnTo>
                  <a:lnTo>
                    <a:pt x="242" y="701"/>
                  </a:lnTo>
                  <a:lnTo>
                    <a:pt x="559" y="626"/>
                  </a:lnTo>
                  <a:lnTo>
                    <a:pt x="407" y="722"/>
                  </a:lnTo>
                  <a:lnTo>
                    <a:pt x="696" y="637"/>
                  </a:lnTo>
                  <a:lnTo>
                    <a:pt x="606" y="730"/>
                  </a:lnTo>
                  <a:lnTo>
                    <a:pt x="855" y="638"/>
                  </a:lnTo>
                  <a:lnTo>
                    <a:pt x="831" y="724"/>
                  </a:lnTo>
                  <a:lnTo>
                    <a:pt x="1031" y="628"/>
                  </a:lnTo>
                  <a:lnTo>
                    <a:pt x="1073" y="704"/>
                  </a:lnTo>
                  <a:lnTo>
                    <a:pt x="1216" y="608"/>
                  </a:lnTo>
                  <a:lnTo>
                    <a:pt x="1322" y="671"/>
                  </a:lnTo>
                  <a:lnTo>
                    <a:pt x="1403" y="579"/>
                  </a:lnTo>
                  <a:lnTo>
                    <a:pt x="1569" y="626"/>
                  </a:lnTo>
                  <a:lnTo>
                    <a:pt x="1586" y="541"/>
                  </a:lnTo>
                  <a:lnTo>
                    <a:pt x="1806" y="572"/>
                  </a:lnTo>
                  <a:lnTo>
                    <a:pt x="1756" y="497"/>
                  </a:lnTo>
                  <a:lnTo>
                    <a:pt x="2021" y="509"/>
                  </a:lnTo>
                  <a:lnTo>
                    <a:pt x="1908" y="448"/>
                  </a:lnTo>
                  <a:lnTo>
                    <a:pt x="2208" y="441"/>
                  </a:lnTo>
                  <a:lnTo>
                    <a:pt x="2035" y="395"/>
                  </a:lnTo>
                  <a:lnTo>
                    <a:pt x="2360" y="369"/>
                  </a:lnTo>
                  <a:lnTo>
                    <a:pt x="2133" y="341"/>
                  </a:lnTo>
                  <a:lnTo>
                    <a:pt x="2469" y="298"/>
                  </a:lnTo>
                  <a:lnTo>
                    <a:pt x="2198" y="289"/>
                  </a:lnTo>
                  <a:lnTo>
                    <a:pt x="2532" y="229"/>
                  </a:lnTo>
                  <a:lnTo>
                    <a:pt x="2228" y="239"/>
                  </a:lnTo>
                  <a:lnTo>
                    <a:pt x="2548" y="166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9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8208720" y="173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4840" y="547560"/>
            <a:ext cx="5869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“bad news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 strain, no pain, no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urse requires a lot of continuou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not a “cram the night before”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you train for a spor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our everyday for 20 da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20 hours the day before the competi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70560" y="2860560"/>
            <a:ext cx="289080" cy="1398600"/>
          </a:xfrm>
          <a:custGeom>
            <a:avLst/>
            <a:gdLst/>
            <a:ahLst/>
            <a:rect l="l" t="t" r="r" b="b"/>
            <a:pathLst>
              <a:path w="182" h="881">
                <a:moveTo>
                  <a:pt x="0" y="0"/>
                </a:moveTo>
                <a:lnTo>
                  <a:pt x="37" y="4"/>
                </a:lnTo>
                <a:lnTo>
                  <a:pt x="69" y="23"/>
                </a:lnTo>
                <a:lnTo>
                  <a:pt x="87" y="46"/>
                </a:lnTo>
                <a:lnTo>
                  <a:pt x="94" y="72"/>
                </a:lnTo>
                <a:lnTo>
                  <a:pt x="94" y="366"/>
                </a:lnTo>
                <a:lnTo>
                  <a:pt x="100" y="393"/>
                </a:lnTo>
                <a:lnTo>
                  <a:pt x="119" y="415"/>
                </a:lnTo>
                <a:lnTo>
                  <a:pt x="144" y="432"/>
                </a:lnTo>
                <a:lnTo>
                  <a:pt x="181" y="438"/>
                </a:lnTo>
                <a:lnTo>
                  <a:pt x="144" y="442"/>
                </a:lnTo>
                <a:lnTo>
                  <a:pt x="119" y="461"/>
                </a:lnTo>
                <a:lnTo>
                  <a:pt x="100" y="482"/>
                </a:lnTo>
                <a:lnTo>
                  <a:pt x="94" y="514"/>
                </a:lnTo>
                <a:lnTo>
                  <a:pt x="94" y="804"/>
                </a:lnTo>
                <a:lnTo>
                  <a:pt x="87" y="831"/>
                </a:lnTo>
                <a:lnTo>
                  <a:pt x="69" y="857"/>
                </a:lnTo>
                <a:lnTo>
                  <a:pt x="37" y="876"/>
                </a:lnTo>
                <a:lnTo>
                  <a:pt x="0" y="8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55320" y="336708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hink about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0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666000" y="547560"/>
            <a:ext cx="77104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“good news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 strain, no pain, no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very rewarding course… you will learn useful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help you in your future engineering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help you find a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believe that this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HE MOST IMPORTANT ENGINEERING CORE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19880" y="1602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3120" y="4826160"/>
            <a:ext cx="436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is why I love to teach this cour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7880" y="2801880"/>
            <a:ext cx="2097720" cy="22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1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661320" y="547560"/>
            <a:ext cx="7666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“good news”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 strain, no pain, no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do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not just become a business maj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 = less work and higher gra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 = LOWER STARTING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 = LOWER PROFESSIONAL 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544840" y="4219200"/>
            <a:ext cx="3362040" cy="1352880"/>
            <a:chOff x="2544840" y="4219200"/>
            <a:chExt cx="3362040" cy="1352880"/>
          </a:xfrm>
        </p:grpSpPr>
        <p:sp>
          <p:nvSpPr>
            <p:cNvPr id="317" name=""/>
            <p:cNvSpPr/>
            <p:nvPr/>
          </p:nvSpPr>
          <p:spPr>
            <a:xfrm rot="21000000">
              <a:off x="2809440" y="4659480"/>
              <a:ext cx="278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Show me the money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1000000">
              <a:off x="2589120" y="4497120"/>
              <a:ext cx="3273480" cy="79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132600" y="1157400"/>
            <a:ext cx="1762200" cy="1374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196120" y="1746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2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655560" y="547560"/>
            <a:ext cx="61833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 me the mone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 $1000 in the bank at 10% compounded y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16600" y="2287440"/>
            <a:ext cx="422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year #1 … $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year #2 … $1200 or $121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year #3 … $1300 or $133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year #n … What is the formu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77920" y="2163600"/>
            <a:ext cx="464364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7840" y="5694480"/>
            <a:ext cx="40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way we compute salary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3659040"/>
            <a:ext cx="2098440" cy="22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19880" y="1857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3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"/>
          <p:cNvSpPr/>
          <p:nvPr/>
        </p:nvSpPr>
        <p:spPr>
          <a:xfrm>
            <a:off x="651600" y="547560"/>
            <a:ext cx="67914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 me the money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growth works in the same way (with compou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derive the formulas f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ly salary for ye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lary after N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79240" y="3753000"/>
            <a:ext cx="612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$$$ value of an engineering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us some other type of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960" y="3435480"/>
            <a:ext cx="8334360" cy="1452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08720" y="173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4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669600" y="547560"/>
            <a:ext cx="4993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 me the money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ing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ly r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years in car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for a given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lary for a given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41400" y="4121280"/>
            <a:ext cx="5919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start = $3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start = $2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ly raise = 10% (given at the end of a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17760" y="3995640"/>
            <a:ext cx="6429240" cy="148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08720" y="1602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5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668160" y="547560"/>
            <a:ext cx="4993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 me the money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ing the formul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66520" y="1965240"/>
            <a:ext cx="4607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year #1 = start_salary * (1 + raise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year #2 = start_salary * (1 + raise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year #3 = start_salary * (1 + raise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year #n = start_salary * (1 + raise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12800" y="1851120"/>
            <a:ext cx="5048280" cy="31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5452920"/>
            <a:ext cx="313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oney you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74840" y="4439880"/>
            <a:ext cx="3120840" cy="13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3760" y="723960"/>
            <a:ext cx="227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se = 0.10 for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950760"/>
            <a:ext cx="1500840" cy="20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36"/>
                </a:moveTo>
                <a:arcTo wR="10800" hR="10800" stAng="-10747917" swAng="5340648"/>
                <a:lnTo>
                  <a:pt x="10800" y="10800"/>
                </a:lnTo>
                <a:close/>
              </a:path>
              <a:path fill="none" w="21600" h="21600">
                <a:moveTo>
                  <a:pt x="1" y="10636"/>
                </a:moveTo>
                <a:arcTo wR="10800" hR="10800" stAng="-10747917" swAng="53406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08720" y="162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200" y="547560"/>
            <a:ext cx="55814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comments and discussion of course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and lab i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ing administrative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llabus, outlin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d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od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me the mone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for yearly and total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right tool for the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5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5573880" y="4675320"/>
            <a:ext cx="1266480" cy="1120680"/>
          </a:xfrm>
          <a:custGeom>
            <a:avLst/>
            <a:gdLst/>
            <a:ahLst/>
            <a:rect l="l" t="t" r="r" b="b"/>
            <a:pathLst>
              <a:path w="798" h="706">
                <a:moveTo>
                  <a:pt x="96" y="8"/>
                </a:moveTo>
                <a:lnTo>
                  <a:pt x="226" y="32"/>
                </a:lnTo>
                <a:lnTo>
                  <a:pt x="224" y="0"/>
                </a:lnTo>
                <a:lnTo>
                  <a:pt x="379" y="37"/>
                </a:lnTo>
                <a:lnTo>
                  <a:pt x="379" y="0"/>
                </a:lnTo>
                <a:lnTo>
                  <a:pt x="544" y="0"/>
                </a:lnTo>
                <a:lnTo>
                  <a:pt x="541" y="35"/>
                </a:lnTo>
                <a:lnTo>
                  <a:pt x="742" y="0"/>
                </a:lnTo>
                <a:lnTo>
                  <a:pt x="499" y="198"/>
                </a:lnTo>
                <a:lnTo>
                  <a:pt x="523" y="200"/>
                </a:lnTo>
                <a:lnTo>
                  <a:pt x="550" y="205"/>
                </a:lnTo>
                <a:lnTo>
                  <a:pt x="580" y="213"/>
                </a:lnTo>
                <a:lnTo>
                  <a:pt x="609" y="223"/>
                </a:lnTo>
                <a:lnTo>
                  <a:pt x="640" y="236"/>
                </a:lnTo>
                <a:lnTo>
                  <a:pt x="665" y="248"/>
                </a:lnTo>
                <a:lnTo>
                  <a:pt x="692" y="267"/>
                </a:lnTo>
                <a:lnTo>
                  <a:pt x="716" y="285"/>
                </a:lnTo>
                <a:lnTo>
                  <a:pt x="735" y="302"/>
                </a:lnTo>
                <a:lnTo>
                  <a:pt x="752" y="322"/>
                </a:lnTo>
                <a:lnTo>
                  <a:pt x="768" y="345"/>
                </a:lnTo>
                <a:lnTo>
                  <a:pt x="781" y="371"/>
                </a:lnTo>
                <a:lnTo>
                  <a:pt x="790" y="395"/>
                </a:lnTo>
                <a:lnTo>
                  <a:pt x="795" y="418"/>
                </a:lnTo>
                <a:lnTo>
                  <a:pt x="797" y="448"/>
                </a:lnTo>
                <a:lnTo>
                  <a:pt x="795" y="479"/>
                </a:lnTo>
                <a:lnTo>
                  <a:pt x="789" y="504"/>
                </a:lnTo>
                <a:lnTo>
                  <a:pt x="781" y="526"/>
                </a:lnTo>
                <a:lnTo>
                  <a:pt x="772" y="546"/>
                </a:lnTo>
                <a:lnTo>
                  <a:pt x="757" y="569"/>
                </a:lnTo>
                <a:lnTo>
                  <a:pt x="737" y="593"/>
                </a:lnTo>
                <a:lnTo>
                  <a:pt x="711" y="619"/>
                </a:lnTo>
                <a:lnTo>
                  <a:pt x="681" y="640"/>
                </a:lnTo>
                <a:lnTo>
                  <a:pt x="651" y="657"/>
                </a:lnTo>
                <a:lnTo>
                  <a:pt x="624" y="669"/>
                </a:lnTo>
                <a:lnTo>
                  <a:pt x="598" y="680"/>
                </a:lnTo>
                <a:lnTo>
                  <a:pt x="573" y="688"/>
                </a:lnTo>
                <a:lnTo>
                  <a:pt x="545" y="695"/>
                </a:lnTo>
                <a:lnTo>
                  <a:pt x="522" y="699"/>
                </a:lnTo>
                <a:lnTo>
                  <a:pt x="487" y="703"/>
                </a:lnTo>
                <a:lnTo>
                  <a:pt x="460" y="705"/>
                </a:lnTo>
                <a:lnTo>
                  <a:pt x="323" y="705"/>
                </a:lnTo>
                <a:lnTo>
                  <a:pt x="295" y="703"/>
                </a:lnTo>
                <a:lnTo>
                  <a:pt x="261" y="697"/>
                </a:lnTo>
                <a:lnTo>
                  <a:pt x="219" y="687"/>
                </a:lnTo>
                <a:lnTo>
                  <a:pt x="176" y="672"/>
                </a:lnTo>
                <a:lnTo>
                  <a:pt x="135" y="653"/>
                </a:lnTo>
                <a:lnTo>
                  <a:pt x="98" y="629"/>
                </a:lnTo>
                <a:lnTo>
                  <a:pt x="72" y="606"/>
                </a:lnTo>
                <a:lnTo>
                  <a:pt x="50" y="584"/>
                </a:lnTo>
                <a:lnTo>
                  <a:pt x="30" y="556"/>
                </a:lnTo>
                <a:lnTo>
                  <a:pt x="15" y="526"/>
                </a:lnTo>
                <a:lnTo>
                  <a:pt x="9" y="503"/>
                </a:lnTo>
                <a:lnTo>
                  <a:pt x="3" y="481"/>
                </a:lnTo>
                <a:lnTo>
                  <a:pt x="0" y="458"/>
                </a:lnTo>
                <a:lnTo>
                  <a:pt x="1" y="438"/>
                </a:lnTo>
                <a:lnTo>
                  <a:pt x="6" y="405"/>
                </a:lnTo>
                <a:lnTo>
                  <a:pt x="17" y="372"/>
                </a:lnTo>
                <a:lnTo>
                  <a:pt x="34" y="339"/>
                </a:lnTo>
                <a:lnTo>
                  <a:pt x="58" y="308"/>
                </a:lnTo>
                <a:lnTo>
                  <a:pt x="84" y="282"/>
                </a:lnTo>
                <a:lnTo>
                  <a:pt x="118" y="256"/>
                </a:lnTo>
                <a:lnTo>
                  <a:pt x="153" y="237"/>
                </a:lnTo>
                <a:lnTo>
                  <a:pt x="198" y="218"/>
                </a:lnTo>
                <a:lnTo>
                  <a:pt x="248" y="205"/>
                </a:lnTo>
                <a:lnTo>
                  <a:pt x="278" y="199"/>
                </a:lnTo>
                <a:lnTo>
                  <a:pt x="96" y="8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1880" y="5037120"/>
            <a:ext cx="319320" cy="665280"/>
          </a:xfrm>
          <a:custGeom>
            <a:avLst/>
            <a:gdLst/>
            <a:ahLst/>
            <a:rect l="l" t="t" r="r" b="b"/>
            <a:pathLst>
              <a:path w="201" h="419">
                <a:moveTo>
                  <a:pt x="77" y="41"/>
                </a:moveTo>
                <a:lnTo>
                  <a:pt x="124" y="41"/>
                </a:lnTo>
                <a:lnTo>
                  <a:pt x="124" y="0"/>
                </a:lnTo>
                <a:lnTo>
                  <a:pt x="148" y="0"/>
                </a:lnTo>
                <a:lnTo>
                  <a:pt x="148" y="41"/>
                </a:lnTo>
                <a:lnTo>
                  <a:pt x="200" y="93"/>
                </a:lnTo>
                <a:lnTo>
                  <a:pt x="200" y="151"/>
                </a:lnTo>
                <a:lnTo>
                  <a:pt x="136" y="151"/>
                </a:lnTo>
                <a:lnTo>
                  <a:pt x="136" y="105"/>
                </a:lnTo>
                <a:lnTo>
                  <a:pt x="71" y="105"/>
                </a:lnTo>
                <a:lnTo>
                  <a:pt x="71" y="180"/>
                </a:lnTo>
                <a:lnTo>
                  <a:pt x="154" y="180"/>
                </a:lnTo>
                <a:lnTo>
                  <a:pt x="200" y="227"/>
                </a:lnTo>
                <a:lnTo>
                  <a:pt x="200" y="325"/>
                </a:lnTo>
                <a:lnTo>
                  <a:pt x="148" y="377"/>
                </a:lnTo>
                <a:lnTo>
                  <a:pt x="148" y="418"/>
                </a:lnTo>
                <a:lnTo>
                  <a:pt x="124" y="418"/>
                </a:lnTo>
                <a:lnTo>
                  <a:pt x="124" y="377"/>
                </a:lnTo>
                <a:lnTo>
                  <a:pt x="77" y="377"/>
                </a:lnTo>
                <a:lnTo>
                  <a:pt x="77" y="418"/>
                </a:lnTo>
                <a:lnTo>
                  <a:pt x="53" y="418"/>
                </a:lnTo>
                <a:lnTo>
                  <a:pt x="53" y="377"/>
                </a:lnTo>
                <a:lnTo>
                  <a:pt x="0" y="325"/>
                </a:lnTo>
                <a:lnTo>
                  <a:pt x="0" y="278"/>
                </a:lnTo>
                <a:lnTo>
                  <a:pt x="71" y="278"/>
                </a:lnTo>
                <a:lnTo>
                  <a:pt x="71" y="320"/>
                </a:lnTo>
                <a:lnTo>
                  <a:pt x="136" y="320"/>
                </a:lnTo>
                <a:lnTo>
                  <a:pt x="136" y="244"/>
                </a:lnTo>
                <a:lnTo>
                  <a:pt x="53" y="244"/>
                </a:lnTo>
                <a:lnTo>
                  <a:pt x="0" y="192"/>
                </a:lnTo>
                <a:lnTo>
                  <a:pt x="0" y="93"/>
                </a:lnTo>
                <a:lnTo>
                  <a:pt x="53" y="41"/>
                </a:lnTo>
                <a:lnTo>
                  <a:pt x="53" y="0"/>
                </a:lnTo>
                <a:lnTo>
                  <a:pt x="77" y="0"/>
                </a:lnTo>
                <a:lnTo>
                  <a:pt x="77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21680" y="1494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54240" y="4368960"/>
            <a:ext cx="258840" cy="264960"/>
            <a:chOff x="3054240" y="4368960"/>
            <a:chExt cx="258840" cy="264960"/>
          </a:xfrm>
        </p:grpSpPr>
        <p:grpSp>
          <p:nvGrpSpPr>
            <p:cNvPr id="64" name=""/>
            <p:cNvGrpSpPr/>
            <p:nvPr/>
          </p:nvGrpSpPr>
          <p:grpSpPr>
            <a:xfrm>
              <a:off x="3111840" y="4447440"/>
              <a:ext cx="171000" cy="127800"/>
              <a:chOff x="3111840" y="4447440"/>
              <a:chExt cx="171000" cy="127800"/>
            </a:xfrm>
          </p:grpSpPr>
          <p:sp>
            <p:nvSpPr>
              <p:cNvPr id="65" name=""/>
              <p:cNvSpPr/>
              <p:nvPr/>
            </p:nvSpPr>
            <p:spPr>
              <a:xfrm>
                <a:off x="3111840" y="4447800"/>
                <a:ext cx="16452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737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7379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114720" y="4447440"/>
                <a:ext cx="16812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554" y="21528"/>
                    </a:moveTo>
                    <a:arcTo wR="10800" hR="10800" stAng="5797378" swAng="5002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554" y="21528"/>
                    </a:moveTo>
                    <a:arcTo wR="10800" hR="10800" stAng="5797378" swAng="500262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054240" y="4368960"/>
              <a:ext cx="258840" cy="264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124080" y="4435560"/>
              <a:ext cx="114480" cy="33120"/>
              <a:chOff x="3124080" y="4435560"/>
              <a:chExt cx="114480" cy="33120"/>
            </a:xfrm>
          </p:grpSpPr>
          <p:sp>
            <p:nvSpPr>
              <p:cNvPr id="69" name=""/>
              <p:cNvSpPr/>
              <p:nvPr/>
            </p:nvSpPr>
            <p:spPr>
              <a:xfrm>
                <a:off x="3124080" y="4435560"/>
                <a:ext cx="33480" cy="33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06880" y="4435560"/>
                <a:ext cx="31680" cy="33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911320" y="3770280"/>
            <a:ext cx="258840" cy="270000"/>
            <a:chOff x="2911320" y="3770280"/>
            <a:chExt cx="258840" cy="270000"/>
          </a:xfrm>
        </p:grpSpPr>
        <p:grpSp>
          <p:nvGrpSpPr>
            <p:cNvPr id="72" name=""/>
            <p:cNvGrpSpPr/>
            <p:nvPr/>
          </p:nvGrpSpPr>
          <p:grpSpPr>
            <a:xfrm>
              <a:off x="2955960" y="3913200"/>
              <a:ext cx="186840" cy="127080"/>
              <a:chOff x="2955960" y="3913200"/>
              <a:chExt cx="186840" cy="127080"/>
            </a:xfrm>
          </p:grpSpPr>
          <p:sp>
            <p:nvSpPr>
              <p:cNvPr id="73" name=""/>
              <p:cNvSpPr/>
              <p:nvPr/>
            </p:nvSpPr>
            <p:spPr>
              <a:xfrm rot="10800000">
                <a:off x="2975400" y="3913200"/>
                <a:ext cx="16740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554" y="21528"/>
                    </a:moveTo>
                    <a:arcTo wR="10800" hR="10800" stAng="5797378" swAng="5002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554" y="21528"/>
                    </a:moveTo>
                    <a:arcTo wR="10800" hR="10800" stAng="5797378" swAng="500262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0800000">
                <a:off x="2955960" y="3913560"/>
                <a:ext cx="16416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737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7379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2911320" y="3770280"/>
              <a:ext cx="258840" cy="26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981160" y="3836880"/>
              <a:ext cx="114480" cy="33480"/>
              <a:chOff x="2981160" y="3836880"/>
              <a:chExt cx="114480" cy="33480"/>
            </a:xfrm>
          </p:grpSpPr>
          <p:sp>
            <p:nvSpPr>
              <p:cNvPr id="77" name=""/>
              <p:cNvSpPr/>
              <p:nvPr/>
            </p:nvSpPr>
            <p:spPr>
              <a:xfrm>
                <a:off x="2981160" y="3836880"/>
                <a:ext cx="3348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063960" y="3836880"/>
                <a:ext cx="3168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6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"/>
          <p:cNvSpPr/>
          <p:nvPr/>
        </p:nvSpPr>
        <p:spPr>
          <a:xfrm>
            <a:off x="668160" y="547560"/>
            <a:ext cx="4993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 me the money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ing the formul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18480" y="2405160"/>
            <a:ext cx="566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_salary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_salary * (1 + rais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6480" y="2278080"/>
            <a:ext cx="45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65360" y="2709720"/>
            <a:ext cx="38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25480" y="2187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89000" y="2089080"/>
            <a:ext cx="6489720" cy="101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7160" y="3808440"/>
            <a:ext cx="2586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amount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N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04480" y="2343240"/>
            <a:ext cx="3861000" cy="186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96120" y="1494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3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668160" y="547560"/>
            <a:ext cx="4993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w me the money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do an examp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82120" y="2325600"/>
            <a:ext cx="5919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starting salary = $3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starting salary = $2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ly raise = 10% (given at the end of a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60640" y="2200320"/>
            <a:ext cx="6429240" cy="148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97600" y="4514760"/>
            <a:ext cx="613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total amount of money earned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ears for both maj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720" y="4197240"/>
            <a:ext cx="8334360" cy="1452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81720" y="1857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1040" y="547560"/>
            <a:ext cx="2504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 your des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8196120" y="1602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6560" y="1608120"/>
            <a:ext cx="4303800" cy="4653000"/>
          </a:xfrm>
          <a:custGeom>
            <a:avLst/>
            <a:gdLst/>
            <a:ahLst/>
            <a:rect l="l" t="t" r="r" b="b"/>
            <a:pathLst>
              <a:path w="2711" h="2931">
                <a:moveTo>
                  <a:pt x="1875" y="2930"/>
                </a:moveTo>
                <a:lnTo>
                  <a:pt x="1887" y="2923"/>
                </a:lnTo>
                <a:lnTo>
                  <a:pt x="1895" y="2912"/>
                </a:lnTo>
                <a:lnTo>
                  <a:pt x="1908" y="2636"/>
                </a:lnTo>
                <a:lnTo>
                  <a:pt x="1924" y="2629"/>
                </a:lnTo>
                <a:lnTo>
                  <a:pt x="1944" y="2625"/>
                </a:lnTo>
                <a:lnTo>
                  <a:pt x="1964" y="2622"/>
                </a:lnTo>
                <a:lnTo>
                  <a:pt x="1983" y="2617"/>
                </a:lnTo>
                <a:lnTo>
                  <a:pt x="2004" y="2615"/>
                </a:lnTo>
                <a:lnTo>
                  <a:pt x="2023" y="2612"/>
                </a:lnTo>
                <a:lnTo>
                  <a:pt x="2043" y="2609"/>
                </a:lnTo>
                <a:lnTo>
                  <a:pt x="2062" y="2606"/>
                </a:lnTo>
                <a:lnTo>
                  <a:pt x="2083" y="2602"/>
                </a:lnTo>
                <a:lnTo>
                  <a:pt x="2102" y="2598"/>
                </a:lnTo>
                <a:lnTo>
                  <a:pt x="2122" y="2594"/>
                </a:lnTo>
                <a:lnTo>
                  <a:pt x="2142" y="2590"/>
                </a:lnTo>
                <a:lnTo>
                  <a:pt x="2173" y="2585"/>
                </a:lnTo>
                <a:lnTo>
                  <a:pt x="2205" y="2581"/>
                </a:lnTo>
                <a:lnTo>
                  <a:pt x="2237" y="2576"/>
                </a:lnTo>
                <a:lnTo>
                  <a:pt x="2268" y="2571"/>
                </a:lnTo>
                <a:lnTo>
                  <a:pt x="2300" y="2566"/>
                </a:lnTo>
                <a:lnTo>
                  <a:pt x="2332" y="2561"/>
                </a:lnTo>
                <a:lnTo>
                  <a:pt x="2363" y="2557"/>
                </a:lnTo>
                <a:lnTo>
                  <a:pt x="2393" y="2553"/>
                </a:lnTo>
                <a:lnTo>
                  <a:pt x="2398" y="2593"/>
                </a:lnTo>
                <a:lnTo>
                  <a:pt x="2398" y="2639"/>
                </a:lnTo>
                <a:lnTo>
                  <a:pt x="2396" y="2720"/>
                </a:lnTo>
                <a:lnTo>
                  <a:pt x="2393" y="2800"/>
                </a:lnTo>
                <a:lnTo>
                  <a:pt x="2399" y="2805"/>
                </a:lnTo>
                <a:lnTo>
                  <a:pt x="2406" y="2811"/>
                </a:lnTo>
                <a:lnTo>
                  <a:pt x="2413" y="2816"/>
                </a:lnTo>
                <a:lnTo>
                  <a:pt x="2421" y="2821"/>
                </a:lnTo>
                <a:lnTo>
                  <a:pt x="2428" y="2818"/>
                </a:lnTo>
                <a:lnTo>
                  <a:pt x="2435" y="2813"/>
                </a:lnTo>
                <a:lnTo>
                  <a:pt x="2441" y="2808"/>
                </a:lnTo>
                <a:lnTo>
                  <a:pt x="2448" y="2803"/>
                </a:lnTo>
                <a:lnTo>
                  <a:pt x="2465" y="2535"/>
                </a:lnTo>
                <a:lnTo>
                  <a:pt x="2476" y="2526"/>
                </a:lnTo>
                <a:lnTo>
                  <a:pt x="2482" y="2511"/>
                </a:lnTo>
                <a:lnTo>
                  <a:pt x="2489" y="2412"/>
                </a:lnTo>
                <a:lnTo>
                  <a:pt x="2499" y="2311"/>
                </a:lnTo>
                <a:lnTo>
                  <a:pt x="2511" y="2212"/>
                </a:lnTo>
                <a:lnTo>
                  <a:pt x="2527" y="2112"/>
                </a:lnTo>
                <a:lnTo>
                  <a:pt x="2542" y="2020"/>
                </a:lnTo>
                <a:lnTo>
                  <a:pt x="2567" y="1927"/>
                </a:lnTo>
                <a:lnTo>
                  <a:pt x="2598" y="1835"/>
                </a:lnTo>
                <a:lnTo>
                  <a:pt x="2631" y="1744"/>
                </a:lnTo>
                <a:lnTo>
                  <a:pt x="2662" y="1656"/>
                </a:lnTo>
                <a:lnTo>
                  <a:pt x="2689" y="1567"/>
                </a:lnTo>
                <a:lnTo>
                  <a:pt x="2705" y="1479"/>
                </a:lnTo>
                <a:lnTo>
                  <a:pt x="2710" y="1392"/>
                </a:lnTo>
                <a:lnTo>
                  <a:pt x="2692" y="1366"/>
                </a:lnTo>
                <a:lnTo>
                  <a:pt x="2671" y="1342"/>
                </a:lnTo>
                <a:lnTo>
                  <a:pt x="2645" y="1323"/>
                </a:lnTo>
                <a:lnTo>
                  <a:pt x="2614" y="1313"/>
                </a:lnTo>
                <a:lnTo>
                  <a:pt x="2605" y="1310"/>
                </a:lnTo>
                <a:lnTo>
                  <a:pt x="2595" y="1310"/>
                </a:lnTo>
                <a:lnTo>
                  <a:pt x="2587" y="1308"/>
                </a:lnTo>
                <a:lnTo>
                  <a:pt x="2581" y="1304"/>
                </a:lnTo>
                <a:lnTo>
                  <a:pt x="2641" y="1300"/>
                </a:lnTo>
                <a:lnTo>
                  <a:pt x="2648" y="1291"/>
                </a:lnTo>
                <a:lnTo>
                  <a:pt x="2653" y="1277"/>
                </a:lnTo>
                <a:lnTo>
                  <a:pt x="2668" y="1268"/>
                </a:lnTo>
                <a:lnTo>
                  <a:pt x="2665" y="1250"/>
                </a:lnTo>
                <a:lnTo>
                  <a:pt x="2651" y="1237"/>
                </a:lnTo>
                <a:lnTo>
                  <a:pt x="2626" y="1218"/>
                </a:lnTo>
                <a:lnTo>
                  <a:pt x="2602" y="1201"/>
                </a:lnTo>
                <a:lnTo>
                  <a:pt x="2577" y="1183"/>
                </a:lnTo>
                <a:lnTo>
                  <a:pt x="2552" y="1164"/>
                </a:lnTo>
                <a:lnTo>
                  <a:pt x="2528" y="1145"/>
                </a:lnTo>
                <a:lnTo>
                  <a:pt x="2504" y="1125"/>
                </a:lnTo>
                <a:lnTo>
                  <a:pt x="2482" y="1103"/>
                </a:lnTo>
                <a:lnTo>
                  <a:pt x="2460" y="1080"/>
                </a:lnTo>
                <a:lnTo>
                  <a:pt x="2434" y="1053"/>
                </a:lnTo>
                <a:lnTo>
                  <a:pt x="2408" y="1029"/>
                </a:lnTo>
                <a:lnTo>
                  <a:pt x="2382" y="1007"/>
                </a:lnTo>
                <a:lnTo>
                  <a:pt x="2356" y="985"/>
                </a:lnTo>
                <a:lnTo>
                  <a:pt x="2334" y="965"/>
                </a:lnTo>
                <a:lnTo>
                  <a:pt x="2313" y="948"/>
                </a:lnTo>
                <a:lnTo>
                  <a:pt x="2293" y="930"/>
                </a:lnTo>
                <a:lnTo>
                  <a:pt x="2272" y="910"/>
                </a:lnTo>
                <a:lnTo>
                  <a:pt x="2256" y="895"/>
                </a:lnTo>
                <a:lnTo>
                  <a:pt x="2240" y="879"/>
                </a:lnTo>
                <a:lnTo>
                  <a:pt x="2224" y="863"/>
                </a:lnTo>
                <a:lnTo>
                  <a:pt x="2207" y="847"/>
                </a:lnTo>
                <a:lnTo>
                  <a:pt x="2191" y="830"/>
                </a:lnTo>
                <a:lnTo>
                  <a:pt x="2175" y="813"/>
                </a:lnTo>
                <a:lnTo>
                  <a:pt x="2161" y="797"/>
                </a:lnTo>
                <a:lnTo>
                  <a:pt x="2147" y="781"/>
                </a:lnTo>
                <a:lnTo>
                  <a:pt x="2132" y="773"/>
                </a:lnTo>
                <a:lnTo>
                  <a:pt x="2117" y="768"/>
                </a:lnTo>
                <a:lnTo>
                  <a:pt x="2100" y="767"/>
                </a:lnTo>
                <a:lnTo>
                  <a:pt x="2084" y="766"/>
                </a:lnTo>
                <a:lnTo>
                  <a:pt x="2065" y="767"/>
                </a:lnTo>
                <a:lnTo>
                  <a:pt x="2047" y="767"/>
                </a:lnTo>
                <a:lnTo>
                  <a:pt x="2030" y="768"/>
                </a:lnTo>
                <a:lnTo>
                  <a:pt x="2013" y="769"/>
                </a:lnTo>
                <a:lnTo>
                  <a:pt x="2008" y="767"/>
                </a:lnTo>
                <a:lnTo>
                  <a:pt x="2006" y="764"/>
                </a:lnTo>
                <a:lnTo>
                  <a:pt x="2005" y="713"/>
                </a:lnTo>
                <a:lnTo>
                  <a:pt x="1972" y="699"/>
                </a:lnTo>
                <a:lnTo>
                  <a:pt x="1978" y="678"/>
                </a:lnTo>
                <a:lnTo>
                  <a:pt x="1990" y="672"/>
                </a:lnTo>
                <a:lnTo>
                  <a:pt x="1996" y="613"/>
                </a:lnTo>
                <a:lnTo>
                  <a:pt x="1991" y="608"/>
                </a:lnTo>
                <a:lnTo>
                  <a:pt x="1984" y="607"/>
                </a:lnTo>
                <a:lnTo>
                  <a:pt x="1976" y="609"/>
                </a:lnTo>
                <a:lnTo>
                  <a:pt x="1969" y="611"/>
                </a:lnTo>
                <a:lnTo>
                  <a:pt x="1963" y="655"/>
                </a:lnTo>
                <a:lnTo>
                  <a:pt x="1961" y="656"/>
                </a:lnTo>
                <a:lnTo>
                  <a:pt x="1957" y="657"/>
                </a:lnTo>
                <a:lnTo>
                  <a:pt x="1946" y="648"/>
                </a:lnTo>
                <a:lnTo>
                  <a:pt x="1940" y="631"/>
                </a:lnTo>
                <a:lnTo>
                  <a:pt x="1941" y="624"/>
                </a:lnTo>
                <a:lnTo>
                  <a:pt x="1942" y="617"/>
                </a:lnTo>
                <a:lnTo>
                  <a:pt x="1910" y="621"/>
                </a:lnTo>
                <a:lnTo>
                  <a:pt x="1909" y="641"/>
                </a:lnTo>
                <a:lnTo>
                  <a:pt x="1919" y="660"/>
                </a:lnTo>
                <a:lnTo>
                  <a:pt x="1926" y="667"/>
                </a:lnTo>
                <a:lnTo>
                  <a:pt x="1931" y="671"/>
                </a:lnTo>
                <a:lnTo>
                  <a:pt x="1934" y="675"/>
                </a:lnTo>
                <a:lnTo>
                  <a:pt x="1935" y="682"/>
                </a:lnTo>
                <a:lnTo>
                  <a:pt x="1919" y="686"/>
                </a:lnTo>
                <a:lnTo>
                  <a:pt x="1901" y="689"/>
                </a:lnTo>
                <a:lnTo>
                  <a:pt x="1883" y="691"/>
                </a:lnTo>
                <a:lnTo>
                  <a:pt x="1865" y="690"/>
                </a:lnTo>
                <a:lnTo>
                  <a:pt x="1863" y="684"/>
                </a:lnTo>
                <a:lnTo>
                  <a:pt x="1864" y="678"/>
                </a:lnTo>
                <a:lnTo>
                  <a:pt x="1868" y="676"/>
                </a:lnTo>
                <a:lnTo>
                  <a:pt x="1872" y="672"/>
                </a:lnTo>
                <a:lnTo>
                  <a:pt x="1878" y="622"/>
                </a:lnTo>
                <a:lnTo>
                  <a:pt x="1872" y="619"/>
                </a:lnTo>
                <a:lnTo>
                  <a:pt x="1865" y="620"/>
                </a:lnTo>
                <a:lnTo>
                  <a:pt x="1857" y="623"/>
                </a:lnTo>
                <a:lnTo>
                  <a:pt x="1849" y="626"/>
                </a:lnTo>
                <a:lnTo>
                  <a:pt x="1843" y="667"/>
                </a:lnTo>
                <a:lnTo>
                  <a:pt x="1841" y="667"/>
                </a:lnTo>
                <a:lnTo>
                  <a:pt x="1839" y="667"/>
                </a:lnTo>
                <a:lnTo>
                  <a:pt x="1829" y="628"/>
                </a:lnTo>
                <a:lnTo>
                  <a:pt x="1822" y="626"/>
                </a:lnTo>
                <a:lnTo>
                  <a:pt x="1815" y="627"/>
                </a:lnTo>
                <a:lnTo>
                  <a:pt x="1809" y="628"/>
                </a:lnTo>
                <a:lnTo>
                  <a:pt x="1803" y="631"/>
                </a:lnTo>
                <a:lnTo>
                  <a:pt x="1799" y="655"/>
                </a:lnTo>
                <a:lnTo>
                  <a:pt x="1806" y="678"/>
                </a:lnTo>
                <a:lnTo>
                  <a:pt x="1812" y="683"/>
                </a:lnTo>
                <a:lnTo>
                  <a:pt x="1816" y="685"/>
                </a:lnTo>
                <a:lnTo>
                  <a:pt x="1823" y="688"/>
                </a:lnTo>
                <a:lnTo>
                  <a:pt x="1829" y="691"/>
                </a:lnTo>
                <a:lnTo>
                  <a:pt x="1830" y="692"/>
                </a:lnTo>
                <a:lnTo>
                  <a:pt x="1831" y="696"/>
                </a:lnTo>
                <a:lnTo>
                  <a:pt x="1761" y="734"/>
                </a:lnTo>
                <a:lnTo>
                  <a:pt x="1759" y="731"/>
                </a:lnTo>
                <a:lnTo>
                  <a:pt x="1756" y="728"/>
                </a:lnTo>
                <a:lnTo>
                  <a:pt x="1752" y="729"/>
                </a:lnTo>
                <a:lnTo>
                  <a:pt x="1750" y="734"/>
                </a:lnTo>
                <a:lnTo>
                  <a:pt x="1751" y="738"/>
                </a:lnTo>
                <a:lnTo>
                  <a:pt x="1750" y="741"/>
                </a:lnTo>
                <a:lnTo>
                  <a:pt x="1744" y="738"/>
                </a:lnTo>
                <a:lnTo>
                  <a:pt x="1739" y="729"/>
                </a:lnTo>
                <a:lnTo>
                  <a:pt x="1736" y="728"/>
                </a:lnTo>
                <a:lnTo>
                  <a:pt x="1732" y="729"/>
                </a:lnTo>
                <a:lnTo>
                  <a:pt x="1732" y="732"/>
                </a:lnTo>
                <a:lnTo>
                  <a:pt x="1729" y="736"/>
                </a:lnTo>
                <a:lnTo>
                  <a:pt x="1726" y="731"/>
                </a:lnTo>
                <a:lnTo>
                  <a:pt x="1721" y="725"/>
                </a:lnTo>
                <a:lnTo>
                  <a:pt x="1717" y="731"/>
                </a:lnTo>
                <a:lnTo>
                  <a:pt x="1719" y="740"/>
                </a:lnTo>
                <a:lnTo>
                  <a:pt x="1722" y="743"/>
                </a:lnTo>
                <a:lnTo>
                  <a:pt x="1724" y="744"/>
                </a:lnTo>
                <a:lnTo>
                  <a:pt x="1735" y="744"/>
                </a:lnTo>
                <a:lnTo>
                  <a:pt x="1736" y="745"/>
                </a:lnTo>
                <a:lnTo>
                  <a:pt x="1738" y="749"/>
                </a:lnTo>
                <a:lnTo>
                  <a:pt x="1732" y="755"/>
                </a:lnTo>
                <a:lnTo>
                  <a:pt x="1727" y="759"/>
                </a:lnTo>
                <a:lnTo>
                  <a:pt x="1719" y="762"/>
                </a:lnTo>
                <a:lnTo>
                  <a:pt x="1711" y="767"/>
                </a:lnTo>
                <a:lnTo>
                  <a:pt x="1707" y="765"/>
                </a:lnTo>
                <a:lnTo>
                  <a:pt x="1702" y="764"/>
                </a:lnTo>
                <a:lnTo>
                  <a:pt x="1665" y="767"/>
                </a:lnTo>
                <a:lnTo>
                  <a:pt x="1659" y="756"/>
                </a:lnTo>
                <a:lnTo>
                  <a:pt x="1659" y="740"/>
                </a:lnTo>
                <a:lnTo>
                  <a:pt x="1663" y="735"/>
                </a:lnTo>
                <a:lnTo>
                  <a:pt x="1668" y="728"/>
                </a:lnTo>
                <a:lnTo>
                  <a:pt x="1662" y="718"/>
                </a:lnTo>
                <a:lnTo>
                  <a:pt x="1657" y="706"/>
                </a:lnTo>
                <a:lnTo>
                  <a:pt x="1654" y="705"/>
                </a:lnTo>
                <a:lnTo>
                  <a:pt x="1650" y="705"/>
                </a:lnTo>
                <a:lnTo>
                  <a:pt x="1642" y="701"/>
                </a:lnTo>
                <a:lnTo>
                  <a:pt x="1637" y="690"/>
                </a:lnTo>
                <a:lnTo>
                  <a:pt x="1614" y="670"/>
                </a:lnTo>
                <a:lnTo>
                  <a:pt x="1591" y="646"/>
                </a:lnTo>
                <a:lnTo>
                  <a:pt x="1567" y="622"/>
                </a:lnTo>
                <a:lnTo>
                  <a:pt x="1548" y="596"/>
                </a:lnTo>
                <a:lnTo>
                  <a:pt x="1548" y="592"/>
                </a:lnTo>
                <a:lnTo>
                  <a:pt x="1550" y="588"/>
                </a:lnTo>
                <a:lnTo>
                  <a:pt x="1553" y="482"/>
                </a:lnTo>
                <a:lnTo>
                  <a:pt x="1551" y="375"/>
                </a:lnTo>
                <a:lnTo>
                  <a:pt x="1537" y="267"/>
                </a:lnTo>
                <a:lnTo>
                  <a:pt x="1508" y="161"/>
                </a:lnTo>
                <a:lnTo>
                  <a:pt x="1508" y="158"/>
                </a:lnTo>
                <a:lnTo>
                  <a:pt x="1508" y="156"/>
                </a:lnTo>
                <a:lnTo>
                  <a:pt x="1487" y="147"/>
                </a:lnTo>
                <a:lnTo>
                  <a:pt x="1464" y="140"/>
                </a:lnTo>
                <a:lnTo>
                  <a:pt x="1439" y="137"/>
                </a:lnTo>
                <a:lnTo>
                  <a:pt x="1415" y="134"/>
                </a:lnTo>
                <a:lnTo>
                  <a:pt x="1389" y="133"/>
                </a:lnTo>
                <a:lnTo>
                  <a:pt x="1363" y="133"/>
                </a:lnTo>
                <a:lnTo>
                  <a:pt x="1339" y="133"/>
                </a:lnTo>
                <a:lnTo>
                  <a:pt x="1314" y="131"/>
                </a:lnTo>
                <a:lnTo>
                  <a:pt x="1315" y="107"/>
                </a:lnTo>
                <a:lnTo>
                  <a:pt x="1321" y="82"/>
                </a:lnTo>
                <a:lnTo>
                  <a:pt x="1322" y="57"/>
                </a:lnTo>
                <a:lnTo>
                  <a:pt x="1314" y="36"/>
                </a:lnTo>
                <a:lnTo>
                  <a:pt x="1272" y="27"/>
                </a:lnTo>
                <a:lnTo>
                  <a:pt x="1264" y="13"/>
                </a:lnTo>
                <a:lnTo>
                  <a:pt x="1259" y="6"/>
                </a:lnTo>
                <a:lnTo>
                  <a:pt x="1250" y="2"/>
                </a:lnTo>
                <a:lnTo>
                  <a:pt x="1239" y="0"/>
                </a:lnTo>
                <a:lnTo>
                  <a:pt x="1228" y="3"/>
                </a:lnTo>
                <a:lnTo>
                  <a:pt x="1221" y="9"/>
                </a:lnTo>
                <a:lnTo>
                  <a:pt x="1210" y="14"/>
                </a:lnTo>
                <a:lnTo>
                  <a:pt x="1196" y="18"/>
                </a:lnTo>
                <a:lnTo>
                  <a:pt x="1188" y="10"/>
                </a:lnTo>
                <a:lnTo>
                  <a:pt x="1178" y="3"/>
                </a:lnTo>
                <a:lnTo>
                  <a:pt x="1171" y="4"/>
                </a:lnTo>
                <a:lnTo>
                  <a:pt x="1165" y="7"/>
                </a:lnTo>
                <a:lnTo>
                  <a:pt x="1159" y="11"/>
                </a:lnTo>
                <a:lnTo>
                  <a:pt x="1153" y="14"/>
                </a:lnTo>
                <a:lnTo>
                  <a:pt x="1099" y="106"/>
                </a:lnTo>
                <a:lnTo>
                  <a:pt x="1123" y="142"/>
                </a:lnTo>
                <a:lnTo>
                  <a:pt x="1123" y="143"/>
                </a:lnTo>
                <a:lnTo>
                  <a:pt x="1122" y="146"/>
                </a:lnTo>
                <a:lnTo>
                  <a:pt x="1098" y="149"/>
                </a:lnTo>
                <a:lnTo>
                  <a:pt x="1073" y="152"/>
                </a:lnTo>
                <a:lnTo>
                  <a:pt x="1048" y="154"/>
                </a:lnTo>
                <a:lnTo>
                  <a:pt x="1023" y="158"/>
                </a:lnTo>
                <a:lnTo>
                  <a:pt x="998" y="162"/>
                </a:lnTo>
                <a:lnTo>
                  <a:pt x="974" y="168"/>
                </a:lnTo>
                <a:lnTo>
                  <a:pt x="951" y="176"/>
                </a:lnTo>
                <a:lnTo>
                  <a:pt x="929" y="188"/>
                </a:lnTo>
                <a:lnTo>
                  <a:pt x="911" y="241"/>
                </a:lnTo>
                <a:lnTo>
                  <a:pt x="903" y="297"/>
                </a:lnTo>
                <a:lnTo>
                  <a:pt x="899" y="355"/>
                </a:lnTo>
                <a:lnTo>
                  <a:pt x="891" y="410"/>
                </a:lnTo>
                <a:lnTo>
                  <a:pt x="888" y="631"/>
                </a:lnTo>
                <a:lnTo>
                  <a:pt x="861" y="652"/>
                </a:lnTo>
                <a:lnTo>
                  <a:pt x="835" y="674"/>
                </a:lnTo>
                <a:lnTo>
                  <a:pt x="812" y="701"/>
                </a:lnTo>
                <a:lnTo>
                  <a:pt x="800" y="734"/>
                </a:lnTo>
                <a:lnTo>
                  <a:pt x="801" y="751"/>
                </a:lnTo>
                <a:lnTo>
                  <a:pt x="803" y="767"/>
                </a:lnTo>
                <a:lnTo>
                  <a:pt x="788" y="770"/>
                </a:lnTo>
                <a:lnTo>
                  <a:pt x="773" y="772"/>
                </a:lnTo>
                <a:lnTo>
                  <a:pt x="756" y="773"/>
                </a:lnTo>
                <a:lnTo>
                  <a:pt x="739" y="773"/>
                </a:lnTo>
                <a:lnTo>
                  <a:pt x="721" y="772"/>
                </a:lnTo>
                <a:lnTo>
                  <a:pt x="704" y="771"/>
                </a:lnTo>
                <a:lnTo>
                  <a:pt x="687" y="772"/>
                </a:lnTo>
                <a:lnTo>
                  <a:pt x="670" y="773"/>
                </a:lnTo>
                <a:lnTo>
                  <a:pt x="653" y="613"/>
                </a:lnTo>
                <a:lnTo>
                  <a:pt x="678" y="606"/>
                </a:lnTo>
                <a:lnTo>
                  <a:pt x="703" y="600"/>
                </a:lnTo>
                <a:lnTo>
                  <a:pt x="730" y="597"/>
                </a:lnTo>
                <a:lnTo>
                  <a:pt x="755" y="592"/>
                </a:lnTo>
                <a:lnTo>
                  <a:pt x="781" y="585"/>
                </a:lnTo>
                <a:lnTo>
                  <a:pt x="805" y="576"/>
                </a:lnTo>
                <a:lnTo>
                  <a:pt x="827" y="565"/>
                </a:lnTo>
                <a:lnTo>
                  <a:pt x="845" y="549"/>
                </a:lnTo>
                <a:lnTo>
                  <a:pt x="825" y="517"/>
                </a:lnTo>
                <a:lnTo>
                  <a:pt x="797" y="490"/>
                </a:lnTo>
                <a:lnTo>
                  <a:pt x="766" y="464"/>
                </a:lnTo>
                <a:lnTo>
                  <a:pt x="737" y="436"/>
                </a:lnTo>
                <a:lnTo>
                  <a:pt x="730" y="428"/>
                </a:lnTo>
                <a:lnTo>
                  <a:pt x="722" y="420"/>
                </a:lnTo>
                <a:lnTo>
                  <a:pt x="715" y="413"/>
                </a:lnTo>
                <a:lnTo>
                  <a:pt x="706" y="405"/>
                </a:lnTo>
                <a:lnTo>
                  <a:pt x="703" y="382"/>
                </a:lnTo>
                <a:lnTo>
                  <a:pt x="680" y="377"/>
                </a:lnTo>
                <a:lnTo>
                  <a:pt x="657" y="374"/>
                </a:lnTo>
                <a:lnTo>
                  <a:pt x="633" y="373"/>
                </a:lnTo>
                <a:lnTo>
                  <a:pt x="609" y="374"/>
                </a:lnTo>
                <a:lnTo>
                  <a:pt x="584" y="377"/>
                </a:lnTo>
                <a:lnTo>
                  <a:pt x="558" y="380"/>
                </a:lnTo>
                <a:lnTo>
                  <a:pt x="534" y="385"/>
                </a:lnTo>
                <a:lnTo>
                  <a:pt x="510" y="390"/>
                </a:lnTo>
                <a:lnTo>
                  <a:pt x="501" y="395"/>
                </a:lnTo>
                <a:lnTo>
                  <a:pt x="494" y="401"/>
                </a:lnTo>
                <a:lnTo>
                  <a:pt x="488" y="408"/>
                </a:lnTo>
                <a:lnTo>
                  <a:pt x="485" y="418"/>
                </a:lnTo>
                <a:lnTo>
                  <a:pt x="470" y="437"/>
                </a:lnTo>
                <a:lnTo>
                  <a:pt x="454" y="457"/>
                </a:lnTo>
                <a:lnTo>
                  <a:pt x="436" y="473"/>
                </a:lnTo>
                <a:lnTo>
                  <a:pt x="419" y="489"/>
                </a:lnTo>
                <a:lnTo>
                  <a:pt x="401" y="506"/>
                </a:lnTo>
                <a:lnTo>
                  <a:pt x="382" y="522"/>
                </a:lnTo>
                <a:lnTo>
                  <a:pt x="362" y="538"/>
                </a:lnTo>
                <a:lnTo>
                  <a:pt x="343" y="555"/>
                </a:lnTo>
                <a:lnTo>
                  <a:pt x="338" y="563"/>
                </a:lnTo>
                <a:lnTo>
                  <a:pt x="338" y="572"/>
                </a:lnTo>
                <a:lnTo>
                  <a:pt x="361" y="586"/>
                </a:lnTo>
                <a:lnTo>
                  <a:pt x="386" y="595"/>
                </a:lnTo>
                <a:lnTo>
                  <a:pt x="413" y="601"/>
                </a:lnTo>
                <a:lnTo>
                  <a:pt x="441" y="607"/>
                </a:lnTo>
                <a:lnTo>
                  <a:pt x="470" y="610"/>
                </a:lnTo>
                <a:lnTo>
                  <a:pt x="498" y="611"/>
                </a:lnTo>
                <a:lnTo>
                  <a:pt x="527" y="611"/>
                </a:lnTo>
                <a:lnTo>
                  <a:pt x="554" y="611"/>
                </a:lnTo>
                <a:lnTo>
                  <a:pt x="563" y="767"/>
                </a:lnTo>
                <a:lnTo>
                  <a:pt x="542" y="769"/>
                </a:lnTo>
                <a:lnTo>
                  <a:pt x="521" y="770"/>
                </a:lnTo>
                <a:lnTo>
                  <a:pt x="500" y="770"/>
                </a:lnTo>
                <a:lnTo>
                  <a:pt x="479" y="769"/>
                </a:lnTo>
                <a:lnTo>
                  <a:pt x="457" y="770"/>
                </a:lnTo>
                <a:lnTo>
                  <a:pt x="438" y="774"/>
                </a:lnTo>
                <a:lnTo>
                  <a:pt x="421" y="783"/>
                </a:lnTo>
                <a:lnTo>
                  <a:pt x="405" y="795"/>
                </a:lnTo>
                <a:lnTo>
                  <a:pt x="0" y="1243"/>
                </a:lnTo>
                <a:lnTo>
                  <a:pt x="1" y="1296"/>
                </a:lnTo>
                <a:lnTo>
                  <a:pt x="107" y="1304"/>
                </a:lnTo>
                <a:lnTo>
                  <a:pt x="124" y="1420"/>
                </a:lnTo>
                <a:lnTo>
                  <a:pt x="134" y="1539"/>
                </a:lnTo>
                <a:lnTo>
                  <a:pt x="141" y="1660"/>
                </a:lnTo>
                <a:lnTo>
                  <a:pt x="146" y="1778"/>
                </a:lnTo>
                <a:lnTo>
                  <a:pt x="155" y="2023"/>
                </a:lnTo>
                <a:lnTo>
                  <a:pt x="140" y="2027"/>
                </a:lnTo>
                <a:lnTo>
                  <a:pt x="134" y="2063"/>
                </a:lnTo>
                <a:lnTo>
                  <a:pt x="141" y="2101"/>
                </a:lnTo>
                <a:lnTo>
                  <a:pt x="226" y="2102"/>
                </a:lnTo>
                <a:lnTo>
                  <a:pt x="312" y="2104"/>
                </a:lnTo>
                <a:lnTo>
                  <a:pt x="397" y="2105"/>
                </a:lnTo>
                <a:lnTo>
                  <a:pt x="482" y="2106"/>
                </a:lnTo>
                <a:lnTo>
                  <a:pt x="567" y="2106"/>
                </a:lnTo>
                <a:lnTo>
                  <a:pt x="652" y="2106"/>
                </a:lnTo>
                <a:lnTo>
                  <a:pt x="737" y="2106"/>
                </a:lnTo>
                <a:lnTo>
                  <a:pt x="823" y="2106"/>
                </a:lnTo>
                <a:lnTo>
                  <a:pt x="908" y="2106"/>
                </a:lnTo>
                <a:lnTo>
                  <a:pt x="993" y="2106"/>
                </a:lnTo>
                <a:lnTo>
                  <a:pt x="1079" y="2107"/>
                </a:lnTo>
                <a:lnTo>
                  <a:pt x="1163" y="2107"/>
                </a:lnTo>
                <a:lnTo>
                  <a:pt x="1248" y="2108"/>
                </a:lnTo>
                <a:lnTo>
                  <a:pt x="1333" y="2110"/>
                </a:lnTo>
                <a:lnTo>
                  <a:pt x="1418" y="2112"/>
                </a:lnTo>
                <a:lnTo>
                  <a:pt x="1503" y="2115"/>
                </a:lnTo>
                <a:lnTo>
                  <a:pt x="1504" y="2166"/>
                </a:lnTo>
                <a:lnTo>
                  <a:pt x="1500" y="2218"/>
                </a:lnTo>
                <a:lnTo>
                  <a:pt x="1503" y="2269"/>
                </a:lnTo>
                <a:lnTo>
                  <a:pt x="1521" y="2314"/>
                </a:lnTo>
                <a:lnTo>
                  <a:pt x="1517" y="2588"/>
                </a:lnTo>
                <a:lnTo>
                  <a:pt x="1550" y="2608"/>
                </a:lnTo>
                <a:lnTo>
                  <a:pt x="1573" y="2601"/>
                </a:lnTo>
                <a:lnTo>
                  <a:pt x="1582" y="2377"/>
                </a:lnTo>
                <a:lnTo>
                  <a:pt x="1592" y="2378"/>
                </a:lnTo>
                <a:lnTo>
                  <a:pt x="1602" y="2388"/>
                </a:lnTo>
                <a:lnTo>
                  <a:pt x="1619" y="2409"/>
                </a:lnTo>
                <a:lnTo>
                  <a:pt x="1637" y="2429"/>
                </a:lnTo>
                <a:lnTo>
                  <a:pt x="1656" y="2448"/>
                </a:lnTo>
                <a:lnTo>
                  <a:pt x="1675" y="2469"/>
                </a:lnTo>
                <a:lnTo>
                  <a:pt x="1695" y="2489"/>
                </a:lnTo>
                <a:lnTo>
                  <a:pt x="1714" y="2508"/>
                </a:lnTo>
                <a:lnTo>
                  <a:pt x="1733" y="2526"/>
                </a:lnTo>
                <a:lnTo>
                  <a:pt x="1752" y="2545"/>
                </a:lnTo>
                <a:lnTo>
                  <a:pt x="1776" y="2569"/>
                </a:lnTo>
                <a:lnTo>
                  <a:pt x="1799" y="2595"/>
                </a:lnTo>
                <a:lnTo>
                  <a:pt x="1822" y="2617"/>
                </a:lnTo>
                <a:lnTo>
                  <a:pt x="1849" y="2633"/>
                </a:lnTo>
                <a:lnTo>
                  <a:pt x="1845" y="2896"/>
                </a:lnTo>
                <a:lnTo>
                  <a:pt x="1845" y="2903"/>
                </a:lnTo>
                <a:lnTo>
                  <a:pt x="1844" y="2909"/>
                </a:lnTo>
                <a:lnTo>
                  <a:pt x="1873" y="2930"/>
                </a:lnTo>
                <a:lnTo>
                  <a:pt x="1875" y="29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080" y="5796000"/>
            <a:ext cx="31680" cy="436680"/>
          </a:xfrm>
          <a:custGeom>
            <a:avLst/>
            <a:gdLst/>
            <a:ahLst/>
            <a:rect l="l" t="t" r="r" b="b"/>
            <a:pathLst>
              <a:path w="20" h="275">
                <a:moveTo>
                  <a:pt x="3" y="274"/>
                </a:moveTo>
                <a:lnTo>
                  <a:pt x="17" y="138"/>
                </a:lnTo>
                <a:lnTo>
                  <a:pt x="19" y="0"/>
                </a:lnTo>
                <a:lnTo>
                  <a:pt x="8" y="2"/>
                </a:lnTo>
                <a:lnTo>
                  <a:pt x="0" y="274"/>
                </a:lnTo>
                <a:lnTo>
                  <a:pt x="1" y="274"/>
                </a:lnTo>
                <a:lnTo>
                  <a:pt x="3" y="274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3160" y="5797440"/>
            <a:ext cx="27000" cy="430200"/>
          </a:xfrm>
          <a:custGeom>
            <a:avLst/>
            <a:gdLst/>
            <a:ahLst/>
            <a:rect l="l" t="t" r="r" b="b"/>
            <a:pathLst>
              <a:path w="17" h="271">
                <a:moveTo>
                  <a:pt x="8" y="269"/>
                </a:moveTo>
                <a:lnTo>
                  <a:pt x="16" y="7"/>
                </a:lnTo>
                <a:lnTo>
                  <a:pt x="12" y="3"/>
                </a:lnTo>
                <a:lnTo>
                  <a:pt x="6" y="0"/>
                </a:lnTo>
                <a:lnTo>
                  <a:pt x="2" y="110"/>
                </a:lnTo>
                <a:lnTo>
                  <a:pt x="0" y="221"/>
                </a:lnTo>
                <a:lnTo>
                  <a:pt x="3" y="249"/>
                </a:lnTo>
                <a:lnTo>
                  <a:pt x="8" y="270"/>
                </a:lnTo>
                <a:lnTo>
                  <a:pt x="8" y="269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5661000"/>
            <a:ext cx="28440" cy="397080"/>
          </a:xfrm>
          <a:custGeom>
            <a:avLst/>
            <a:gdLst/>
            <a:ahLst/>
            <a:rect l="l" t="t" r="r" b="b"/>
            <a:pathLst>
              <a:path w="18" h="250">
                <a:moveTo>
                  <a:pt x="11" y="249"/>
                </a:moveTo>
                <a:lnTo>
                  <a:pt x="17" y="4"/>
                </a:lnTo>
                <a:lnTo>
                  <a:pt x="14" y="0"/>
                </a:lnTo>
                <a:lnTo>
                  <a:pt x="8" y="0"/>
                </a:lnTo>
                <a:lnTo>
                  <a:pt x="6" y="77"/>
                </a:lnTo>
                <a:lnTo>
                  <a:pt x="3" y="156"/>
                </a:lnTo>
                <a:lnTo>
                  <a:pt x="3" y="181"/>
                </a:lnTo>
                <a:lnTo>
                  <a:pt x="0" y="206"/>
                </a:lnTo>
                <a:lnTo>
                  <a:pt x="0" y="228"/>
                </a:lnTo>
                <a:lnTo>
                  <a:pt x="10" y="249"/>
                </a:lnTo>
                <a:lnTo>
                  <a:pt x="11" y="249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95760" y="5651640"/>
            <a:ext cx="34920" cy="399960"/>
          </a:xfrm>
          <a:custGeom>
            <a:avLst/>
            <a:gdLst/>
            <a:ahLst/>
            <a:rect l="l" t="t" r="r" b="b"/>
            <a:pathLst>
              <a:path w="22" h="252">
                <a:moveTo>
                  <a:pt x="2" y="250"/>
                </a:moveTo>
                <a:lnTo>
                  <a:pt x="16" y="126"/>
                </a:lnTo>
                <a:lnTo>
                  <a:pt x="21" y="0"/>
                </a:lnTo>
                <a:lnTo>
                  <a:pt x="2" y="4"/>
                </a:lnTo>
                <a:lnTo>
                  <a:pt x="0" y="251"/>
                </a:lnTo>
                <a:lnTo>
                  <a:pt x="1" y="250"/>
                </a:lnTo>
                <a:lnTo>
                  <a:pt x="2" y="250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83040" y="3705120"/>
            <a:ext cx="1938240" cy="2073240"/>
          </a:xfrm>
          <a:custGeom>
            <a:avLst/>
            <a:gdLst/>
            <a:ahLst/>
            <a:rect l="l" t="t" r="r" b="b"/>
            <a:pathLst>
              <a:path w="1221" h="1306">
                <a:moveTo>
                  <a:pt x="391" y="1305"/>
                </a:moveTo>
                <a:lnTo>
                  <a:pt x="427" y="1299"/>
                </a:lnTo>
                <a:lnTo>
                  <a:pt x="464" y="1293"/>
                </a:lnTo>
                <a:lnTo>
                  <a:pt x="500" y="1288"/>
                </a:lnTo>
                <a:lnTo>
                  <a:pt x="536" y="1282"/>
                </a:lnTo>
                <a:lnTo>
                  <a:pt x="573" y="1276"/>
                </a:lnTo>
                <a:lnTo>
                  <a:pt x="609" y="1270"/>
                </a:lnTo>
                <a:lnTo>
                  <a:pt x="645" y="1264"/>
                </a:lnTo>
                <a:lnTo>
                  <a:pt x="681" y="1258"/>
                </a:lnTo>
                <a:lnTo>
                  <a:pt x="718" y="1252"/>
                </a:lnTo>
                <a:lnTo>
                  <a:pt x="753" y="1246"/>
                </a:lnTo>
                <a:lnTo>
                  <a:pt x="790" y="1240"/>
                </a:lnTo>
                <a:lnTo>
                  <a:pt x="827" y="1234"/>
                </a:lnTo>
                <a:lnTo>
                  <a:pt x="862" y="1228"/>
                </a:lnTo>
                <a:lnTo>
                  <a:pt x="899" y="1222"/>
                </a:lnTo>
                <a:lnTo>
                  <a:pt x="936" y="1216"/>
                </a:lnTo>
                <a:lnTo>
                  <a:pt x="972" y="1209"/>
                </a:lnTo>
                <a:lnTo>
                  <a:pt x="989" y="1186"/>
                </a:lnTo>
                <a:lnTo>
                  <a:pt x="993" y="1157"/>
                </a:lnTo>
                <a:lnTo>
                  <a:pt x="994" y="1127"/>
                </a:lnTo>
                <a:lnTo>
                  <a:pt x="1001" y="1096"/>
                </a:lnTo>
                <a:lnTo>
                  <a:pt x="1004" y="1036"/>
                </a:lnTo>
                <a:lnTo>
                  <a:pt x="1012" y="975"/>
                </a:lnTo>
                <a:lnTo>
                  <a:pt x="1021" y="914"/>
                </a:lnTo>
                <a:lnTo>
                  <a:pt x="1028" y="854"/>
                </a:lnTo>
                <a:lnTo>
                  <a:pt x="1042" y="754"/>
                </a:lnTo>
                <a:lnTo>
                  <a:pt x="1067" y="653"/>
                </a:lnTo>
                <a:lnTo>
                  <a:pt x="1099" y="554"/>
                </a:lnTo>
                <a:lnTo>
                  <a:pt x="1133" y="456"/>
                </a:lnTo>
                <a:lnTo>
                  <a:pt x="1166" y="359"/>
                </a:lnTo>
                <a:lnTo>
                  <a:pt x="1194" y="262"/>
                </a:lnTo>
                <a:lnTo>
                  <a:pt x="1214" y="167"/>
                </a:lnTo>
                <a:lnTo>
                  <a:pt x="1220" y="73"/>
                </a:lnTo>
                <a:lnTo>
                  <a:pt x="1210" y="57"/>
                </a:lnTo>
                <a:lnTo>
                  <a:pt x="1197" y="42"/>
                </a:lnTo>
                <a:lnTo>
                  <a:pt x="1184" y="29"/>
                </a:lnTo>
                <a:lnTo>
                  <a:pt x="1167" y="18"/>
                </a:lnTo>
                <a:lnTo>
                  <a:pt x="1151" y="9"/>
                </a:lnTo>
                <a:lnTo>
                  <a:pt x="1133" y="4"/>
                </a:lnTo>
                <a:lnTo>
                  <a:pt x="1113" y="0"/>
                </a:lnTo>
                <a:lnTo>
                  <a:pt x="1094" y="0"/>
                </a:lnTo>
                <a:lnTo>
                  <a:pt x="1081" y="4"/>
                </a:lnTo>
                <a:lnTo>
                  <a:pt x="1071" y="9"/>
                </a:lnTo>
                <a:lnTo>
                  <a:pt x="1062" y="17"/>
                </a:lnTo>
                <a:lnTo>
                  <a:pt x="1057" y="26"/>
                </a:lnTo>
                <a:lnTo>
                  <a:pt x="1084" y="38"/>
                </a:lnTo>
                <a:lnTo>
                  <a:pt x="1109" y="53"/>
                </a:lnTo>
                <a:lnTo>
                  <a:pt x="1130" y="72"/>
                </a:lnTo>
                <a:lnTo>
                  <a:pt x="1148" y="97"/>
                </a:lnTo>
                <a:lnTo>
                  <a:pt x="1147" y="102"/>
                </a:lnTo>
                <a:lnTo>
                  <a:pt x="1145" y="106"/>
                </a:lnTo>
                <a:lnTo>
                  <a:pt x="1109" y="109"/>
                </a:lnTo>
                <a:lnTo>
                  <a:pt x="1075" y="111"/>
                </a:lnTo>
                <a:lnTo>
                  <a:pt x="1039" y="114"/>
                </a:lnTo>
                <a:lnTo>
                  <a:pt x="1004" y="116"/>
                </a:lnTo>
                <a:lnTo>
                  <a:pt x="969" y="120"/>
                </a:lnTo>
                <a:lnTo>
                  <a:pt x="933" y="123"/>
                </a:lnTo>
                <a:lnTo>
                  <a:pt x="897" y="126"/>
                </a:lnTo>
                <a:lnTo>
                  <a:pt x="861" y="130"/>
                </a:lnTo>
                <a:lnTo>
                  <a:pt x="827" y="134"/>
                </a:lnTo>
                <a:lnTo>
                  <a:pt x="790" y="138"/>
                </a:lnTo>
                <a:lnTo>
                  <a:pt x="754" y="142"/>
                </a:lnTo>
                <a:lnTo>
                  <a:pt x="719" y="146"/>
                </a:lnTo>
                <a:lnTo>
                  <a:pt x="683" y="150"/>
                </a:lnTo>
                <a:lnTo>
                  <a:pt x="647" y="155"/>
                </a:lnTo>
                <a:lnTo>
                  <a:pt x="611" y="160"/>
                </a:lnTo>
                <a:lnTo>
                  <a:pt x="576" y="166"/>
                </a:lnTo>
                <a:lnTo>
                  <a:pt x="572" y="164"/>
                </a:lnTo>
                <a:lnTo>
                  <a:pt x="569" y="163"/>
                </a:lnTo>
                <a:lnTo>
                  <a:pt x="563" y="151"/>
                </a:lnTo>
                <a:lnTo>
                  <a:pt x="558" y="138"/>
                </a:lnTo>
                <a:lnTo>
                  <a:pt x="554" y="126"/>
                </a:lnTo>
                <a:lnTo>
                  <a:pt x="544" y="116"/>
                </a:lnTo>
                <a:lnTo>
                  <a:pt x="519" y="99"/>
                </a:lnTo>
                <a:lnTo>
                  <a:pt x="494" y="84"/>
                </a:lnTo>
                <a:lnTo>
                  <a:pt x="466" y="74"/>
                </a:lnTo>
                <a:lnTo>
                  <a:pt x="436" y="75"/>
                </a:lnTo>
                <a:lnTo>
                  <a:pt x="410" y="88"/>
                </a:lnTo>
                <a:lnTo>
                  <a:pt x="389" y="105"/>
                </a:lnTo>
                <a:lnTo>
                  <a:pt x="373" y="126"/>
                </a:lnTo>
                <a:lnTo>
                  <a:pt x="361" y="152"/>
                </a:lnTo>
                <a:lnTo>
                  <a:pt x="355" y="220"/>
                </a:lnTo>
                <a:lnTo>
                  <a:pt x="360" y="287"/>
                </a:lnTo>
                <a:lnTo>
                  <a:pt x="368" y="354"/>
                </a:lnTo>
                <a:lnTo>
                  <a:pt x="371" y="422"/>
                </a:lnTo>
                <a:lnTo>
                  <a:pt x="376" y="500"/>
                </a:lnTo>
                <a:lnTo>
                  <a:pt x="382" y="578"/>
                </a:lnTo>
                <a:lnTo>
                  <a:pt x="390" y="656"/>
                </a:lnTo>
                <a:lnTo>
                  <a:pt x="403" y="733"/>
                </a:lnTo>
                <a:lnTo>
                  <a:pt x="401" y="738"/>
                </a:lnTo>
                <a:lnTo>
                  <a:pt x="397" y="740"/>
                </a:lnTo>
                <a:lnTo>
                  <a:pt x="394" y="740"/>
                </a:lnTo>
                <a:lnTo>
                  <a:pt x="391" y="738"/>
                </a:lnTo>
                <a:lnTo>
                  <a:pt x="386" y="706"/>
                </a:lnTo>
                <a:lnTo>
                  <a:pt x="352" y="682"/>
                </a:lnTo>
                <a:lnTo>
                  <a:pt x="319" y="657"/>
                </a:lnTo>
                <a:lnTo>
                  <a:pt x="287" y="630"/>
                </a:lnTo>
                <a:lnTo>
                  <a:pt x="253" y="605"/>
                </a:lnTo>
                <a:lnTo>
                  <a:pt x="219" y="582"/>
                </a:lnTo>
                <a:lnTo>
                  <a:pt x="181" y="563"/>
                </a:lnTo>
                <a:lnTo>
                  <a:pt x="140" y="548"/>
                </a:lnTo>
                <a:lnTo>
                  <a:pt x="94" y="540"/>
                </a:lnTo>
                <a:lnTo>
                  <a:pt x="71" y="547"/>
                </a:lnTo>
                <a:lnTo>
                  <a:pt x="51" y="557"/>
                </a:lnTo>
                <a:lnTo>
                  <a:pt x="33" y="568"/>
                </a:lnTo>
                <a:lnTo>
                  <a:pt x="20" y="587"/>
                </a:lnTo>
                <a:lnTo>
                  <a:pt x="7" y="611"/>
                </a:lnTo>
                <a:lnTo>
                  <a:pt x="1" y="638"/>
                </a:lnTo>
                <a:lnTo>
                  <a:pt x="0" y="664"/>
                </a:lnTo>
                <a:lnTo>
                  <a:pt x="6" y="689"/>
                </a:lnTo>
                <a:lnTo>
                  <a:pt x="366" y="936"/>
                </a:lnTo>
                <a:lnTo>
                  <a:pt x="366" y="939"/>
                </a:lnTo>
                <a:lnTo>
                  <a:pt x="365" y="942"/>
                </a:lnTo>
                <a:lnTo>
                  <a:pt x="357" y="944"/>
                </a:lnTo>
                <a:lnTo>
                  <a:pt x="348" y="941"/>
                </a:lnTo>
                <a:lnTo>
                  <a:pt x="308" y="914"/>
                </a:lnTo>
                <a:lnTo>
                  <a:pt x="269" y="886"/>
                </a:lnTo>
                <a:lnTo>
                  <a:pt x="230" y="858"/>
                </a:lnTo>
                <a:lnTo>
                  <a:pt x="192" y="830"/>
                </a:lnTo>
                <a:lnTo>
                  <a:pt x="153" y="803"/>
                </a:lnTo>
                <a:lnTo>
                  <a:pt x="115" y="775"/>
                </a:lnTo>
                <a:lnTo>
                  <a:pt x="76" y="748"/>
                </a:lnTo>
                <a:lnTo>
                  <a:pt x="37" y="722"/>
                </a:lnTo>
                <a:lnTo>
                  <a:pt x="32" y="844"/>
                </a:lnTo>
                <a:lnTo>
                  <a:pt x="39" y="968"/>
                </a:lnTo>
                <a:lnTo>
                  <a:pt x="67" y="990"/>
                </a:lnTo>
                <a:lnTo>
                  <a:pt x="91" y="1014"/>
                </a:lnTo>
                <a:lnTo>
                  <a:pt x="113" y="1039"/>
                </a:lnTo>
                <a:lnTo>
                  <a:pt x="136" y="1065"/>
                </a:lnTo>
                <a:lnTo>
                  <a:pt x="161" y="1093"/>
                </a:lnTo>
                <a:lnTo>
                  <a:pt x="187" y="1121"/>
                </a:lnTo>
                <a:lnTo>
                  <a:pt x="213" y="1149"/>
                </a:lnTo>
                <a:lnTo>
                  <a:pt x="240" y="1176"/>
                </a:lnTo>
                <a:lnTo>
                  <a:pt x="267" y="1203"/>
                </a:lnTo>
                <a:lnTo>
                  <a:pt x="294" y="1230"/>
                </a:lnTo>
                <a:lnTo>
                  <a:pt x="321" y="1257"/>
                </a:lnTo>
                <a:lnTo>
                  <a:pt x="348" y="1284"/>
                </a:lnTo>
                <a:lnTo>
                  <a:pt x="360" y="1289"/>
                </a:lnTo>
                <a:lnTo>
                  <a:pt x="369" y="1295"/>
                </a:lnTo>
                <a:lnTo>
                  <a:pt x="380" y="1301"/>
                </a:lnTo>
                <a:lnTo>
                  <a:pt x="391" y="1305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1560" y="5338800"/>
            <a:ext cx="27000" cy="387360"/>
          </a:xfrm>
          <a:custGeom>
            <a:avLst/>
            <a:gdLst/>
            <a:ahLst/>
            <a:rect l="l" t="t" r="r" b="b"/>
            <a:pathLst>
              <a:path w="17" h="244">
                <a:moveTo>
                  <a:pt x="4" y="243"/>
                </a:moveTo>
                <a:lnTo>
                  <a:pt x="5" y="241"/>
                </a:lnTo>
                <a:lnTo>
                  <a:pt x="5" y="240"/>
                </a:lnTo>
                <a:lnTo>
                  <a:pt x="16" y="120"/>
                </a:lnTo>
                <a:lnTo>
                  <a:pt x="4" y="0"/>
                </a:lnTo>
                <a:lnTo>
                  <a:pt x="0" y="243"/>
                </a:lnTo>
                <a:lnTo>
                  <a:pt x="1" y="243"/>
                </a:lnTo>
                <a:lnTo>
                  <a:pt x="4" y="243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4040" y="5289480"/>
            <a:ext cx="31680" cy="432000"/>
          </a:xfrm>
          <a:custGeom>
            <a:avLst/>
            <a:gdLst/>
            <a:ahLst/>
            <a:rect l="l" t="t" r="r" b="b"/>
            <a:pathLst>
              <a:path w="20" h="272">
                <a:moveTo>
                  <a:pt x="13" y="271"/>
                </a:moveTo>
                <a:lnTo>
                  <a:pt x="19" y="19"/>
                </a:lnTo>
                <a:lnTo>
                  <a:pt x="11" y="9"/>
                </a:lnTo>
                <a:lnTo>
                  <a:pt x="0" y="0"/>
                </a:lnTo>
                <a:lnTo>
                  <a:pt x="3" y="265"/>
                </a:lnTo>
                <a:lnTo>
                  <a:pt x="12" y="271"/>
                </a:lnTo>
                <a:lnTo>
                  <a:pt x="13" y="271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94320" y="3905280"/>
            <a:ext cx="1298520" cy="1816200"/>
          </a:xfrm>
          <a:custGeom>
            <a:avLst/>
            <a:gdLst/>
            <a:ahLst/>
            <a:rect l="l" t="t" r="r" b="b"/>
            <a:pathLst>
              <a:path w="818" h="1144">
                <a:moveTo>
                  <a:pt x="4" y="1143"/>
                </a:moveTo>
                <a:lnTo>
                  <a:pt x="5" y="1143"/>
                </a:lnTo>
                <a:lnTo>
                  <a:pt x="15" y="934"/>
                </a:lnTo>
                <a:lnTo>
                  <a:pt x="36" y="723"/>
                </a:lnTo>
                <a:lnTo>
                  <a:pt x="69" y="513"/>
                </a:lnTo>
                <a:lnTo>
                  <a:pt x="114" y="303"/>
                </a:lnTo>
                <a:lnTo>
                  <a:pt x="125" y="247"/>
                </a:lnTo>
                <a:lnTo>
                  <a:pt x="137" y="192"/>
                </a:lnTo>
                <a:lnTo>
                  <a:pt x="149" y="137"/>
                </a:lnTo>
                <a:lnTo>
                  <a:pt x="164" y="85"/>
                </a:lnTo>
                <a:lnTo>
                  <a:pt x="204" y="77"/>
                </a:lnTo>
                <a:lnTo>
                  <a:pt x="245" y="70"/>
                </a:lnTo>
                <a:lnTo>
                  <a:pt x="284" y="64"/>
                </a:lnTo>
                <a:lnTo>
                  <a:pt x="325" y="57"/>
                </a:lnTo>
                <a:lnTo>
                  <a:pt x="365" y="51"/>
                </a:lnTo>
                <a:lnTo>
                  <a:pt x="405" y="46"/>
                </a:lnTo>
                <a:lnTo>
                  <a:pt x="447" y="42"/>
                </a:lnTo>
                <a:lnTo>
                  <a:pt x="487" y="37"/>
                </a:lnTo>
                <a:lnTo>
                  <a:pt x="528" y="33"/>
                </a:lnTo>
                <a:lnTo>
                  <a:pt x="569" y="29"/>
                </a:lnTo>
                <a:lnTo>
                  <a:pt x="610" y="24"/>
                </a:lnTo>
                <a:lnTo>
                  <a:pt x="650" y="21"/>
                </a:lnTo>
                <a:lnTo>
                  <a:pt x="691" y="18"/>
                </a:lnTo>
                <a:lnTo>
                  <a:pt x="732" y="16"/>
                </a:lnTo>
                <a:lnTo>
                  <a:pt x="772" y="12"/>
                </a:lnTo>
                <a:lnTo>
                  <a:pt x="813" y="9"/>
                </a:lnTo>
                <a:lnTo>
                  <a:pt x="817" y="6"/>
                </a:lnTo>
                <a:lnTo>
                  <a:pt x="817" y="0"/>
                </a:lnTo>
                <a:lnTo>
                  <a:pt x="777" y="4"/>
                </a:lnTo>
                <a:lnTo>
                  <a:pt x="735" y="8"/>
                </a:lnTo>
                <a:lnTo>
                  <a:pt x="695" y="12"/>
                </a:lnTo>
                <a:lnTo>
                  <a:pt x="654" y="16"/>
                </a:lnTo>
                <a:lnTo>
                  <a:pt x="613" y="18"/>
                </a:lnTo>
                <a:lnTo>
                  <a:pt x="572" y="23"/>
                </a:lnTo>
                <a:lnTo>
                  <a:pt x="531" y="27"/>
                </a:lnTo>
                <a:lnTo>
                  <a:pt x="490" y="32"/>
                </a:lnTo>
                <a:lnTo>
                  <a:pt x="449" y="36"/>
                </a:lnTo>
                <a:lnTo>
                  <a:pt x="409" y="42"/>
                </a:lnTo>
                <a:lnTo>
                  <a:pt x="366" y="46"/>
                </a:lnTo>
                <a:lnTo>
                  <a:pt x="326" y="52"/>
                </a:lnTo>
                <a:lnTo>
                  <a:pt x="284" y="58"/>
                </a:lnTo>
                <a:lnTo>
                  <a:pt x="244" y="64"/>
                </a:lnTo>
                <a:lnTo>
                  <a:pt x="202" y="71"/>
                </a:lnTo>
                <a:lnTo>
                  <a:pt x="161" y="77"/>
                </a:lnTo>
                <a:lnTo>
                  <a:pt x="155" y="96"/>
                </a:lnTo>
                <a:lnTo>
                  <a:pt x="147" y="117"/>
                </a:lnTo>
                <a:lnTo>
                  <a:pt x="125" y="214"/>
                </a:lnTo>
                <a:lnTo>
                  <a:pt x="104" y="311"/>
                </a:lnTo>
                <a:lnTo>
                  <a:pt x="85" y="408"/>
                </a:lnTo>
                <a:lnTo>
                  <a:pt x="66" y="503"/>
                </a:lnTo>
                <a:lnTo>
                  <a:pt x="50" y="601"/>
                </a:lnTo>
                <a:lnTo>
                  <a:pt x="35" y="696"/>
                </a:lnTo>
                <a:lnTo>
                  <a:pt x="23" y="792"/>
                </a:lnTo>
                <a:lnTo>
                  <a:pt x="12" y="888"/>
                </a:lnTo>
                <a:lnTo>
                  <a:pt x="0" y="1143"/>
                </a:lnTo>
                <a:lnTo>
                  <a:pt x="2" y="1143"/>
                </a:lnTo>
                <a:lnTo>
                  <a:pt x="4" y="114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33480" y="3676680"/>
            <a:ext cx="3882960" cy="1260360"/>
          </a:xfrm>
          <a:custGeom>
            <a:avLst/>
            <a:gdLst/>
            <a:ahLst/>
            <a:rect l="l" t="t" r="r" b="b"/>
            <a:pathLst>
              <a:path w="2446" h="794">
                <a:moveTo>
                  <a:pt x="657" y="793"/>
                </a:moveTo>
                <a:lnTo>
                  <a:pt x="1375" y="793"/>
                </a:lnTo>
                <a:lnTo>
                  <a:pt x="1377" y="733"/>
                </a:lnTo>
                <a:lnTo>
                  <a:pt x="1366" y="726"/>
                </a:lnTo>
                <a:lnTo>
                  <a:pt x="1356" y="720"/>
                </a:lnTo>
                <a:lnTo>
                  <a:pt x="1348" y="711"/>
                </a:lnTo>
                <a:lnTo>
                  <a:pt x="1342" y="701"/>
                </a:lnTo>
                <a:lnTo>
                  <a:pt x="1339" y="669"/>
                </a:lnTo>
                <a:lnTo>
                  <a:pt x="1342" y="640"/>
                </a:lnTo>
                <a:lnTo>
                  <a:pt x="818" y="644"/>
                </a:lnTo>
                <a:lnTo>
                  <a:pt x="809" y="636"/>
                </a:lnTo>
                <a:lnTo>
                  <a:pt x="805" y="106"/>
                </a:lnTo>
                <a:lnTo>
                  <a:pt x="1415" y="97"/>
                </a:lnTo>
                <a:lnTo>
                  <a:pt x="1421" y="534"/>
                </a:lnTo>
                <a:lnTo>
                  <a:pt x="1421" y="548"/>
                </a:lnTo>
                <a:lnTo>
                  <a:pt x="1451" y="544"/>
                </a:lnTo>
                <a:lnTo>
                  <a:pt x="1481" y="545"/>
                </a:lnTo>
                <a:lnTo>
                  <a:pt x="1511" y="553"/>
                </a:lnTo>
                <a:lnTo>
                  <a:pt x="1538" y="566"/>
                </a:lnTo>
                <a:lnTo>
                  <a:pt x="1542" y="565"/>
                </a:lnTo>
                <a:lnTo>
                  <a:pt x="1543" y="565"/>
                </a:lnTo>
                <a:lnTo>
                  <a:pt x="1545" y="106"/>
                </a:lnTo>
                <a:lnTo>
                  <a:pt x="1557" y="102"/>
                </a:lnTo>
                <a:lnTo>
                  <a:pt x="1572" y="101"/>
                </a:lnTo>
                <a:lnTo>
                  <a:pt x="1585" y="100"/>
                </a:lnTo>
                <a:lnTo>
                  <a:pt x="1600" y="100"/>
                </a:lnTo>
                <a:lnTo>
                  <a:pt x="1615" y="100"/>
                </a:lnTo>
                <a:lnTo>
                  <a:pt x="1631" y="101"/>
                </a:lnTo>
                <a:lnTo>
                  <a:pt x="1647" y="100"/>
                </a:lnTo>
                <a:lnTo>
                  <a:pt x="1662" y="99"/>
                </a:lnTo>
                <a:lnTo>
                  <a:pt x="1688" y="102"/>
                </a:lnTo>
                <a:lnTo>
                  <a:pt x="1715" y="99"/>
                </a:lnTo>
                <a:lnTo>
                  <a:pt x="1739" y="93"/>
                </a:lnTo>
                <a:lnTo>
                  <a:pt x="1763" y="86"/>
                </a:lnTo>
                <a:lnTo>
                  <a:pt x="1787" y="80"/>
                </a:lnTo>
                <a:lnTo>
                  <a:pt x="1811" y="78"/>
                </a:lnTo>
                <a:lnTo>
                  <a:pt x="1835" y="80"/>
                </a:lnTo>
                <a:lnTo>
                  <a:pt x="1860" y="91"/>
                </a:lnTo>
                <a:lnTo>
                  <a:pt x="1895" y="91"/>
                </a:lnTo>
                <a:lnTo>
                  <a:pt x="1930" y="90"/>
                </a:lnTo>
                <a:lnTo>
                  <a:pt x="1963" y="89"/>
                </a:lnTo>
                <a:lnTo>
                  <a:pt x="1996" y="86"/>
                </a:lnTo>
                <a:lnTo>
                  <a:pt x="2029" y="84"/>
                </a:lnTo>
                <a:lnTo>
                  <a:pt x="2063" y="80"/>
                </a:lnTo>
                <a:lnTo>
                  <a:pt x="2097" y="76"/>
                </a:lnTo>
                <a:lnTo>
                  <a:pt x="2131" y="70"/>
                </a:lnTo>
                <a:lnTo>
                  <a:pt x="2165" y="64"/>
                </a:lnTo>
                <a:lnTo>
                  <a:pt x="2199" y="59"/>
                </a:lnTo>
                <a:lnTo>
                  <a:pt x="2232" y="55"/>
                </a:lnTo>
                <a:lnTo>
                  <a:pt x="2266" y="51"/>
                </a:lnTo>
                <a:lnTo>
                  <a:pt x="2298" y="50"/>
                </a:lnTo>
                <a:lnTo>
                  <a:pt x="2331" y="47"/>
                </a:lnTo>
                <a:lnTo>
                  <a:pt x="2364" y="46"/>
                </a:lnTo>
                <a:lnTo>
                  <a:pt x="2398" y="44"/>
                </a:lnTo>
                <a:lnTo>
                  <a:pt x="2405" y="29"/>
                </a:lnTo>
                <a:lnTo>
                  <a:pt x="2417" y="18"/>
                </a:lnTo>
                <a:lnTo>
                  <a:pt x="2430" y="8"/>
                </a:lnTo>
                <a:lnTo>
                  <a:pt x="2445" y="0"/>
                </a:lnTo>
                <a:lnTo>
                  <a:pt x="906" y="0"/>
                </a:lnTo>
                <a:lnTo>
                  <a:pt x="0" y="2"/>
                </a:lnTo>
                <a:lnTo>
                  <a:pt x="16" y="182"/>
                </a:lnTo>
                <a:lnTo>
                  <a:pt x="26" y="362"/>
                </a:lnTo>
                <a:lnTo>
                  <a:pt x="34" y="544"/>
                </a:lnTo>
                <a:lnTo>
                  <a:pt x="47" y="724"/>
                </a:lnTo>
                <a:lnTo>
                  <a:pt x="37" y="729"/>
                </a:lnTo>
                <a:lnTo>
                  <a:pt x="27" y="733"/>
                </a:lnTo>
                <a:lnTo>
                  <a:pt x="27" y="783"/>
                </a:lnTo>
                <a:lnTo>
                  <a:pt x="49" y="787"/>
                </a:lnTo>
                <a:lnTo>
                  <a:pt x="71" y="790"/>
                </a:lnTo>
                <a:lnTo>
                  <a:pt x="94" y="791"/>
                </a:lnTo>
                <a:lnTo>
                  <a:pt x="119" y="791"/>
                </a:lnTo>
                <a:lnTo>
                  <a:pt x="143" y="791"/>
                </a:lnTo>
                <a:lnTo>
                  <a:pt x="168" y="791"/>
                </a:lnTo>
                <a:lnTo>
                  <a:pt x="194" y="791"/>
                </a:lnTo>
                <a:lnTo>
                  <a:pt x="219" y="792"/>
                </a:lnTo>
                <a:lnTo>
                  <a:pt x="274" y="793"/>
                </a:lnTo>
                <a:lnTo>
                  <a:pt x="329" y="793"/>
                </a:lnTo>
                <a:lnTo>
                  <a:pt x="384" y="793"/>
                </a:lnTo>
                <a:lnTo>
                  <a:pt x="438" y="792"/>
                </a:lnTo>
                <a:lnTo>
                  <a:pt x="493" y="792"/>
                </a:lnTo>
                <a:lnTo>
                  <a:pt x="547" y="792"/>
                </a:lnTo>
                <a:lnTo>
                  <a:pt x="602" y="792"/>
                </a:lnTo>
                <a:lnTo>
                  <a:pt x="657" y="793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30880" y="4648320"/>
            <a:ext cx="160200" cy="149040"/>
          </a:xfrm>
          <a:custGeom>
            <a:avLst/>
            <a:gdLst/>
            <a:ahLst/>
            <a:rect l="l" t="t" r="r" b="b"/>
            <a:pathLst>
              <a:path w="101" h="94">
                <a:moveTo>
                  <a:pt x="100" y="92"/>
                </a:moveTo>
                <a:lnTo>
                  <a:pt x="88" y="3"/>
                </a:lnTo>
                <a:lnTo>
                  <a:pt x="69" y="0"/>
                </a:lnTo>
                <a:lnTo>
                  <a:pt x="49" y="2"/>
                </a:lnTo>
                <a:lnTo>
                  <a:pt x="27" y="8"/>
                </a:lnTo>
                <a:lnTo>
                  <a:pt x="6" y="13"/>
                </a:lnTo>
                <a:lnTo>
                  <a:pt x="2" y="15"/>
                </a:lnTo>
                <a:lnTo>
                  <a:pt x="0" y="16"/>
                </a:lnTo>
                <a:lnTo>
                  <a:pt x="99" y="93"/>
                </a:lnTo>
                <a:lnTo>
                  <a:pt x="100" y="93"/>
                </a:lnTo>
                <a:lnTo>
                  <a:pt x="100" y="92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2720" y="3843360"/>
            <a:ext cx="860400" cy="851040"/>
          </a:xfrm>
          <a:custGeom>
            <a:avLst/>
            <a:gdLst/>
            <a:ahLst/>
            <a:rect l="l" t="t" r="r" b="b"/>
            <a:pathLst>
              <a:path w="542" h="536">
                <a:moveTo>
                  <a:pt x="50" y="535"/>
                </a:moveTo>
                <a:lnTo>
                  <a:pt x="538" y="531"/>
                </a:lnTo>
                <a:lnTo>
                  <a:pt x="541" y="453"/>
                </a:lnTo>
                <a:lnTo>
                  <a:pt x="538" y="370"/>
                </a:lnTo>
                <a:lnTo>
                  <a:pt x="535" y="186"/>
                </a:lnTo>
                <a:lnTo>
                  <a:pt x="532" y="3"/>
                </a:lnTo>
                <a:lnTo>
                  <a:pt x="502" y="2"/>
                </a:lnTo>
                <a:lnTo>
                  <a:pt x="472" y="1"/>
                </a:lnTo>
                <a:lnTo>
                  <a:pt x="441" y="0"/>
                </a:lnTo>
                <a:lnTo>
                  <a:pt x="411" y="0"/>
                </a:lnTo>
                <a:lnTo>
                  <a:pt x="379" y="0"/>
                </a:lnTo>
                <a:lnTo>
                  <a:pt x="348" y="0"/>
                </a:lnTo>
                <a:lnTo>
                  <a:pt x="317" y="0"/>
                </a:lnTo>
                <a:lnTo>
                  <a:pt x="285" y="0"/>
                </a:lnTo>
                <a:lnTo>
                  <a:pt x="253" y="1"/>
                </a:lnTo>
                <a:lnTo>
                  <a:pt x="223" y="1"/>
                </a:lnTo>
                <a:lnTo>
                  <a:pt x="191" y="2"/>
                </a:lnTo>
                <a:lnTo>
                  <a:pt x="160" y="2"/>
                </a:lnTo>
                <a:lnTo>
                  <a:pt x="129" y="3"/>
                </a:lnTo>
                <a:lnTo>
                  <a:pt x="97" y="4"/>
                </a:lnTo>
                <a:lnTo>
                  <a:pt x="66" y="5"/>
                </a:lnTo>
                <a:lnTo>
                  <a:pt x="35" y="5"/>
                </a:lnTo>
                <a:lnTo>
                  <a:pt x="26" y="7"/>
                </a:lnTo>
                <a:lnTo>
                  <a:pt x="16" y="7"/>
                </a:lnTo>
                <a:lnTo>
                  <a:pt x="7" y="7"/>
                </a:lnTo>
                <a:lnTo>
                  <a:pt x="0" y="10"/>
                </a:lnTo>
                <a:lnTo>
                  <a:pt x="16" y="533"/>
                </a:lnTo>
                <a:lnTo>
                  <a:pt x="50" y="53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8840" y="3859200"/>
            <a:ext cx="833760" cy="824040"/>
          </a:xfrm>
          <a:custGeom>
            <a:avLst/>
            <a:gdLst/>
            <a:ahLst/>
            <a:rect l="l" t="t" r="r" b="b"/>
            <a:pathLst>
              <a:path w="525" h="519">
                <a:moveTo>
                  <a:pt x="244" y="518"/>
                </a:moveTo>
                <a:lnTo>
                  <a:pt x="524" y="510"/>
                </a:lnTo>
                <a:lnTo>
                  <a:pt x="519" y="0"/>
                </a:lnTo>
                <a:lnTo>
                  <a:pt x="0" y="6"/>
                </a:lnTo>
                <a:lnTo>
                  <a:pt x="20" y="514"/>
                </a:lnTo>
                <a:lnTo>
                  <a:pt x="244" y="518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7320" y="3848040"/>
            <a:ext cx="938160" cy="830160"/>
          </a:xfrm>
          <a:custGeom>
            <a:avLst/>
            <a:gdLst/>
            <a:ahLst/>
            <a:rect l="l" t="t" r="r" b="b"/>
            <a:pathLst>
              <a:path w="591" h="523">
                <a:moveTo>
                  <a:pt x="12" y="522"/>
                </a:moveTo>
                <a:lnTo>
                  <a:pt x="534" y="515"/>
                </a:lnTo>
                <a:lnTo>
                  <a:pt x="543" y="495"/>
                </a:lnTo>
                <a:lnTo>
                  <a:pt x="555" y="476"/>
                </a:lnTo>
                <a:lnTo>
                  <a:pt x="570" y="461"/>
                </a:lnTo>
                <a:lnTo>
                  <a:pt x="590" y="448"/>
                </a:lnTo>
                <a:lnTo>
                  <a:pt x="588" y="2"/>
                </a:lnTo>
                <a:lnTo>
                  <a:pt x="551" y="1"/>
                </a:lnTo>
                <a:lnTo>
                  <a:pt x="515" y="0"/>
                </a:lnTo>
                <a:lnTo>
                  <a:pt x="479" y="0"/>
                </a:lnTo>
                <a:lnTo>
                  <a:pt x="442" y="0"/>
                </a:lnTo>
                <a:lnTo>
                  <a:pt x="406" y="0"/>
                </a:lnTo>
                <a:lnTo>
                  <a:pt x="370" y="1"/>
                </a:lnTo>
                <a:lnTo>
                  <a:pt x="333" y="2"/>
                </a:lnTo>
                <a:lnTo>
                  <a:pt x="295" y="2"/>
                </a:lnTo>
                <a:lnTo>
                  <a:pt x="259" y="3"/>
                </a:lnTo>
                <a:lnTo>
                  <a:pt x="221" y="5"/>
                </a:lnTo>
                <a:lnTo>
                  <a:pt x="185" y="5"/>
                </a:lnTo>
                <a:lnTo>
                  <a:pt x="148" y="6"/>
                </a:lnTo>
                <a:lnTo>
                  <a:pt x="111" y="6"/>
                </a:lnTo>
                <a:lnTo>
                  <a:pt x="73" y="7"/>
                </a:lnTo>
                <a:lnTo>
                  <a:pt x="37" y="7"/>
                </a:lnTo>
                <a:lnTo>
                  <a:pt x="0" y="6"/>
                </a:lnTo>
                <a:lnTo>
                  <a:pt x="9" y="521"/>
                </a:lnTo>
                <a:lnTo>
                  <a:pt x="10" y="521"/>
                </a:lnTo>
                <a:lnTo>
                  <a:pt x="12" y="522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94080" y="3852720"/>
            <a:ext cx="293760" cy="806760"/>
          </a:xfrm>
          <a:custGeom>
            <a:avLst/>
            <a:gdLst/>
            <a:ahLst/>
            <a:rect l="l" t="t" r="r" b="b"/>
            <a:pathLst>
              <a:path w="185" h="508">
                <a:moveTo>
                  <a:pt x="69" y="507"/>
                </a:moveTo>
                <a:lnTo>
                  <a:pt x="168" y="485"/>
                </a:lnTo>
                <a:lnTo>
                  <a:pt x="166" y="366"/>
                </a:lnTo>
                <a:lnTo>
                  <a:pt x="152" y="245"/>
                </a:lnTo>
                <a:lnTo>
                  <a:pt x="146" y="125"/>
                </a:lnTo>
                <a:lnTo>
                  <a:pt x="174" y="12"/>
                </a:lnTo>
                <a:lnTo>
                  <a:pt x="180" y="6"/>
                </a:lnTo>
                <a:lnTo>
                  <a:pt x="184" y="0"/>
                </a:lnTo>
                <a:lnTo>
                  <a:pt x="10" y="0"/>
                </a:lnTo>
                <a:lnTo>
                  <a:pt x="0" y="222"/>
                </a:lnTo>
                <a:lnTo>
                  <a:pt x="4" y="448"/>
                </a:lnTo>
                <a:lnTo>
                  <a:pt x="7" y="461"/>
                </a:lnTo>
                <a:lnTo>
                  <a:pt x="10" y="470"/>
                </a:lnTo>
                <a:lnTo>
                  <a:pt x="68" y="507"/>
                </a:lnTo>
                <a:lnTo>
                  <a:pt x="69" y="507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9800" y="3773520"/>
            <a:ext cx="893880" cy="176040"/>
          </a:xfrm>
          <a:custGeom>
            <a:avLst/>
            <a:gdLst/>
            <a:ahLst/>
            <a:rect l="l" t="t" r="r" b="b"/>
            <a:pathLst>
              <a:path w="563" h="111">
                <a:moveTo>
                  <a:pt x="14" y="110"/>
                </a:moveTo>
                <a:lnTo>
                  <a:pt x="48" y="105"/>
                </a:lnTo>
                <a:lnTo>
                  <a:pt x="82" y="101"/>
                </a:lnTo>
                <a:lnTo>
                  <a:pt x="117" y="97"/>
                </a:lnTo>
                <a:lnTo>
                  <a:pt x="151" y="92"/>
                </a:lnTo>
                <a:lnTo>
                  <a:pt x="185" y="89"/>
                </a:lnTo>
                <a:lnTo>
                  <a:pt x="219" y="85"/>
                </a:lnTo>
                <a:lnTo>
                  <a:pt x="254" y="81"/>
                </a:lnTo>
                <a:lnTo>
                  <a:pt x="289" y="77"/>
                </a:lnTo>
                <a:lnTo>
                  <a:pt x="322" y="73"/>
                </a:lnTo>
                <a:lnTo>
                  <a:pt x="356" y="71"/>
                </a:lnTo>
                <a:lnTo>
                  <a:pt x="391" y="68"/>
                </a:lnTo>
                <a:lnTo>
                  <a:pt x="426" y="64"/>
                </a:lnTo>
                <a:lnTo>
                  <a:pt x="460" y="61"/>
                </a:lnTo>
                <a:lnTo>
                  <a:pt x="494" y="58"/>
                </a:lnTo>
                <a:lnTo>
                  <a:pt x="528" y="54"/>
                </a:lnTo>
                <a:lnTo>
                  <a:pt x="562" y="51"/>
                </a:lnTo>
                <a:lnTo>
                  <a:pt x="555" y="40"/>
                </a:lnTo>
                <a:lnTo>
                  <a:pt x="543" y="25"/>
                </a:lnTo>
                <a:lnTo>
                  <a:pt x="522" y="14"/>
                </a:lnTo>
                <a:lnTo>
                  <a:pt x="501" y="5"/>
                </a:lnTo>
                <a:lnTo>
                  <a:pt x="479" y="1"/>
                </a:lnTo>
                <a:lnTo>
                  <a:pt x="456" y="0"/>
                </a:lnTo>
                <a:lnTo>
                  <a:pt x="432" y="1"/>
                </a:lnTo>
                <a:lnTo>
                  <a:pt x="408" y="1"/>
                </a:lnTo>
                <a:lnTo>
                  <a:pt x="386" y="2"/>
                </a:lnTo>
                <a:lnTo>
                  <a:pt x="363" y="1"/>
                </a:lnTo>
                <a:lnTo>
                  <a:pt x="317" y="7"/>
                </a:lnTo>
                <a:lnTo>
                  <a:pt x="270" y="14"/>
                </a:lnTo>
                <a:lnTo>
                  <a:pt x="223" y="19"/>
                </a:lnTo>
                <a:lnTo>
                  <a:pt x="177" y="26"/>
                </a:lnTo>
                <a:lnTo>
                  <a:pt x="131" y="35"/>
                </a:lnTo>
                <a:lnTo>
                  <a:pt x="86" y="44"/>
                </a:lnTo>
                <a:lnTo>
                  <a:pt x="43" y="56"/>
                </a:lnTo>
                <a:lnTo>
                  <a:pt x="0" y="71"/>
                </a:lnTo>
                <a:lnTo>
                  <a:pt x="14" y="110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6160" y="3844800"/>
            <a:ext cx="9504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23" y="16"/>
                </a:moveTo>
                <a:lnTo>
                  <a:pt x="59" y="0"/>
                </a:lnTo>
                <a:lnTo>
                  <a:pt x="0" y="1"/>
                </a:lnTo>
                <a:lnTo>
                  <a:pt x="19" y="16"/>
                </a:lnTo>
                <a:lnTo>
                  <a:pt x="21" y="16"/>
                </a:lnTo>
                <a:lnTo>
                  <a:pt x="23" y="16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78320" y="2766960"/>
            <a:ext cx="420840" cy="233280"/>
          </a:xfrm>
          <a:custGeom>
            <a:avLst/>
            <a:gdLst/>
            <a:ahLst/>
            <a:rect l="l" t="t" r="r" b="b"/>
            <a:pathLst>
              <a:path w="265" h="147">
                <a:moveTo>
                  <a:pt x="102" y="146"/>
                </a:moveTo>
                <a:lnTo>
                  <a:pt x="264" y="114"/>
                </a:lnTo>
                <a:lnTo>
                  <a:pt x="264" y="3"/>
                </a:lnTo>
                <a:lnTo>
                  <a:pt x="121" y="22"/>
                </a:lnTo>
                <a:lnTo>
                  <a:pt x="115" y="134"/>
                </a:lnTo>
                <a:lnTo>
                  <a:pt x="114" y="135"/>
                </a:lnTo>
                <a:lnTo>
                  <a:pt x="111" y="136"/>
                </a:lnTo>
                <a:lnTo>
                  <a:pt x="106" y="83"/>
                </a:lnTo>
                <a:lnTo>
                  <a:pt x="104" y="26"/>
                </a:lnTo>
                <a:lnTo>
                  <a:pt x="66" y="0"/>
                </a:lnTo>
                <a:lnTo>
                  <a:pt x="1" y="43"/>
                </a:lnTo>
                <a:lnTo>
                  <a:pt x="0" y="64"/>
                </a:lnTo>
                <a:lnTo>
                  <a:pt x="102" y="146"/>
                </a:lnTo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2120" y="2843280"/>
            <a:ext cx="4195800" cy="815760"/>
          </a:xfrm>
          <a:custGeom>
            <a:avLst/>
            <a:gdLst/>
            <a:ahLst/>
            <a:rect l="l" t="t" r="r" b="b"/>
            <a:pathLst>
              <a:path w="2643" h="514">
                <a:moveTo>
                  <a:pt x="1107" y="4"/>
                </a:moveTo>
                <a:lnTo>
                  <a:pt x="1695" y="2"/>
                </a:lnTo>
                <a:lnTo>
                  <a:pt x="1705" y="45"/>
                </a:lnTo>
                <a:lnTo>
                  <a:pt x="1708" y="49"/>
                </a:lnTo>
                <a:lnTo>
                  <a:pt x="1711" y="53"/>
                </a:lnTo>
                <a:lnTo>
                  <a:pt x="1716" y="58"/>
                </a:lnTo>
                <a:lnTo>
                  <a:pt x="1723" y="59"/>
                </a:lnTo>
                <a:lnTo>
                  <a:pt x="1731" y="59"/>
                </a:lnTo>
                <a:lnTo>
                  <a:pt x="1738" y="58"/>
                </a:lnTo>
                <a:lnTo>
                  <a:pt x="1784" y="96"/>
                </a:lnTo>
                <a:lnTo>
                  <a:pt x="1792" y="125"/>
                </a:lnTo>
                <a:lnTo>
                  <a:pt x="1807" y="133"/>
                </a:lnTo>
                <a:lnTo>
                  <a:pt x="1823" y="127"/>
                </a:lnTo>
                <a:lnTo>
                  <a:pt x="1825" y="118"/>
                </a:lnTo>
                <a:lnTo>
                  <a:pt x="1828" y="111"/>
                </a:lnTo>
                <a:lnTo>
                  <a:pt x="1948" y="87"/>
                </a:lnTo>
                <a:lnTo>
                  <a:pt x="1949" y="92"/>
                </a:lnTo>
                <a:lnTo>
                  <a:pt x="1949" y="96"/>
                </a:lnTo>
                <a:lnTo>
                  <a:pt x="1953" y="103"/>
                </a:lnTo>
                <a:lnTo>
                  <a:pt x="1961" y="107"/>
                </a:lnTo>
                <a:lnTo>
                  <a:pt x="1972" y="108"/>
                </a:lnTo>
                <a:lnTo>
                  <a:pt x="1982" y="103"/>
                </a:lnTo>
                <a:lnTo>
                  <a:pt x="1987" y="96"/>
                </a:lnTo>
                <a:lnTo>
                  <a:pt x="1987" y="82"/>
                </a:lnTo>
                <a:lnTo>
                  <a:pt x="1992" y="72"/>
                </a:lnTo>
                <a:lnTo>
                  <a:pt x="1998" y="1"/>
                </a:lnTo>
                <a:lnTo>
                  <a:pt x="2016" y="2"/>
                </a:lnTo>
                <a:lnTo>
                  <a:pt x="2032" y="2"/>
                </a:lnTo>
                <a:lnTo>
                  <a:pt x="2049" y="1"/>
                </a:lnTo>
                <a:lnTo>
                  <a:pt x="2066" y="0"/>
                </a:lnTo>
                <a:lnTo>
                  <a:pt x="2083" y="0"/>
                </a:lnTo>
                <a:lnTo>
                  <a:pt x="2098" y="2"/>
                </a:lnTo>
                <a:lnTo>
                  <a:pt x="2113" y="5"/>
                </a:lnTo>
                <a:lnTo>
                  <a:pt x="2127" y="13"/>
                </a:lnTo>
                <a:lnTo>
                  <a:pt x="2289" y="173"/>
                </a:lnTo>
                <a:lnTo>
                  <a:pt x="2313" y="196"/>
                </a:lnTo>
                <a:lnTo>
                  <a:pt x="2337" y="217"/>
                </a:lnTo>
                <a:lnTo>
                  <a:pt x="2361" y="239"/>
                </a:lnTo>
                <a:lnTo>
                  <a:pt x="2386" y="260"/>
                </a:lnTo>
                <a:lnTo>
                  <a:pt x="2417" y="290"/>
                </a:lnTo>
                <a:lnTo>
                  <a:pt x="2449" y="320"/>
                </a:lnTo>
                <a:lnTo>
                  <a:pt x="2480" y="348"/>
                </a:lnTo>
                <a:lnTo>
                  <a:pt x="2512" y="376"/>
                </a:lnTo>
                <a:lnTo>
                  <a:pt x="2543" y="403"/>
                </a:lnTo>
                <a:lnTo>
                  <a:pt x="2576" y="429"/>
                </a:lnTo>
                <a:lnTo>
                  <a:pt x="2608" y="453"/>
                </a:lnTo>
                <a:lnTo>
                  <a:pt x="2640" y="476"/>
                </a:lnTo>
                <a:lnTo>
                  <a:pt x="2642" y="482"/>
                </a:lnTo>
                <a:lnTo>
                  <a:pt x="2641" y="487"/>
                </a:lnTo>
                <a:lnTo>
                  <a:pt x="2636" y="489"/>
                </a:lnTo>
                <a:lnTo>
                  <a:pt x="2632" y="490"/>
                </a:lnTo>
                <a:lnTo>
                  <a:pt x="2626" y="502"/>
                </a:lnTo>
                <a:lnTo>
                  <a:pt x="2621" y="512"/>
                </a:lnTo>
                <a:lnTo>
                  <a:pt x="99" y="513"/>
                </a:lnTo>
                <a:lnTo>
                  <a:pt x="73" y="508"/>
                </a:lnTo>
                <a:lnTo>
                  <a:pt x="48" y="508"/>
                </a:lnTo>
                <a:lnTo>
                  <a:pt x="24" y="509"/>
                </a:lnTo>
                <a:lnTo>
                  <a:pt x="0" y="502"/>
                </a:lnTo>
                <a:lnTo>
                  <a:pt x="2" y="479"/>
                </a:lnTo>
                <a:lnTo>
                  <a:pt x="6" y="457"/>
                </a:lnTo>
                <a:lnTo>
                  <a:pt x="18" y="440"/>
                </a:lnTo>
                <a:lnTo>
                  <a:pt x="33" y="425"/>
                </a:lnTo>
                <a:lnTo>
                  <a:pt x="48" y="410"/>
                </a:lnTo>
                <a:lnTo>
                  <a:pt x="63" y="394"/>
                </a:lnTo>
                <a:lnTo>
                  <a:pt x="107" y="349"/>
                </a:lnTo>
                <a:lnTo>
                  <a:pt x="151" y="302"/>
                </a:lnTo>
                <a:lnTo>
                  <a:pt x="195" y="255"/>
                </a:lnTo>
                <a:lnTo>
                  <a:pt x="240" y="207"/>
                </a:lnTo>
                <a:lnTo>
                  <a:pt x="284" y="159"/>
                </a:lnTo>
                <a:lnTo>
                  <a:pt x="327" y="111"/>
                </a:lnTo>
                <a:lnTo>
                  <a:pt x="368" y="63"/>
                </a:lnTo>
                <a:lnTo>
                  <a:pt x="406" y="16"/>
                </a:lnTo>
                <a:lnTo>
                  <a:pt x="427" y="5"/>
                </a:lnTo>
                <a:lnTo>
                  <a:pt x="489" y="7"/>
                </a:lnTo>
                <a:lnTo>
                  <a:pt x="549" y="7"/>
                </a:lnTo>
                <a:lnTo>
                  <a:pt x="553" y="34"/>
                </a:lnTo>
                <a:lnTo>
                  <a:pt x="550" y="35"/>
                </a:lnTo>
                <a:lnTo>
                  <a:pt x="545" y="37"/>
                </a:lnTo>
                <a:lnTo>
                  <a:pt x="529" y="50"/>
                </a:lnTo>
                <a:lnTo>
                  <a:pt x="513" y="62"/>
                </a:lnTo>
                <a:lnTo>
                  <a:pt x="497" y="74"/>
                </a:lnTo>
                <a:lnTo>
                  <a:pt x="479" y="84"/>
                </a:lnTo>
                <a:lnTo>
                  <a:pt x="462" y="93"/>
                </a:lnTo>
                <a:lnTo>
                  <a:pt x="442" y="101"/>
                </a:lnTo>
                <a:lnTo>
                  <a:pt x="422" y="109"/>
                </a:lnTo>
                <a:lnTo>
                  <a:pt x="401" y="117"/>
                </a:lnTo>
                <a:lnTo>
                  <a:pt x="393" y="121"/>
                </a:lnTo>
                <a:lnTo>
                  <a:pt x="384" y="123"/>
                </a:lnTo>
                <a:lnTo>
                  <a:pt x="375" y="124"/>
                </a:lnTo>
                <a:lnTo>
                  <a:pt x="366" y="127"/>
                </a:lnTo>
                <a:lnTo>
                  <a:pt x="366" y="140"/>
                </a:lnTo>
                <a:lnTo>
                  <a:pt x="322" y="163"/>
                </a:lnTo>
                <a:lnTo>
                  <a:pt x="323" y="406"/>
                </a:lnTo>
                <a:lnTo>
                  <a:pt x="325" y="408"/>
                </a:lnTo>
                <a:lnTo>
                  <a:pt x="327" y="411"/>
                </a:lnTo>
                <a:lnTo>
                  <a:pt x="641" y="403"/>
                </a:lnTo>
                <a:lnTo>
                  <a:pt x="648" y="399"/>
                </a:lnTo>
                <a:lnTo>
                  <a:pt x="654" y="394"/>
                </a:lnTo>
                <a:lnTo>
                  <a:pt x="658" y="399"/>
                </a:lnTo>
                <a:lnTo>
                  <a:pt x="663" y="402"/>
                </a:lnTo>
                <a:lnTo>
                  <a:pt x="993" y="394"/>
                </a:lnTo>
                <a:lnTo>
                  <a:pt x="1129" y="227"/>
                </a:lnTo>
                <a:lnTo>
                  <a:pt x="1132" y="130"/>
                </a:lnTo>
                <a:lnTo>
                  <a:pt x="1126" y="37"/>
                </a:lnTo>
                <a:lnTo>
                  <a:pt x="1118" y="30"/>
                </a:lnTo>
                <a:lnTo>
                  <a:pt x="1105" y="29"/>
                </a:lnTo>
                <a:lnTo>
                  <a:pt x="852" y="25"/>
                </a:lnTo>
                <a:lnTo>
                  <a:pt x="850" y="27"/>
                </a:lnTo>
                <a:lnTo>
                  <a:pt x="848" y="30"/>
                </a:lnTo>
                <a:lnTo>
                  <a:pt x="823" y="34"/>
                </a:lnTo>
                <a:lnTo>
                  <a:pt x="797" y="53"/>
                </a:lnTo>
                <a:lnTo>
                  <a:pt x="796" y="54"/>
                </a:lnTo>
                <a:lnTo>
                  <a:pt x="794" y="56"/>
                </a:lnTo>
                <a:lnTo>
                  <a:pt x="794" y="45"/>
                </a:lnTo>
                <a:lnTo>
                  <a:pt x="792" y="37"/>
                </a:lnTo>
                <a:lnTo>
                  <a:pt x="761" y="34"/>
                </a:lnTo>
                <a:lnTo>
                  <a:pt x="764" y="23"/>
                </a:lnTo>
                <a:lnTo>
                  <a:pt x="761" y="15"/>
                </a:lnTo>
                <a:lnTo>
                  <a:pt x="656" y="30"/>
                </a:lnTo>
                <a:lnTo>
                  <a:pt x="654" y="15"/>
                </a:lnTo>
                <a:lnTo>
                  <a:pt x="660" y="5"/>
                </a:lnTo>
                <a:lnTo>
                  <a:pt x="1107" y="4"/>
                </a:lnTo>
              </a:path>
            </a:pathLst>
          </a:custGeom>
          <a:solidFill>
            <a:srgbClr val="6122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27520" y="1857240"/>
            <a:ext cx="577800" cy="974880"/>
          </a:xfrm>
          <a:custGeom>
            <a:avLst/>
            <a:gdLst/>
            <a:ahLst/>
            <a:rect l="l" t="t" r="r" b="b"/>
            <a:pathLst>
              <a:path w="364" h="614">
                <a:moveTo>
                  <a:pt x="11" y="613"/>
                </a:moveTo>
                <a:lnTo>
                  <a:pt x="46" y="613"/>
                </a:lnTo>
                <a:lnTo>
                  <a:pt x="62" y="589"/>
                </a:lnTo>
                <a:lnTo>
                  <a:pt x="70" y="559"/>
                </a:lnTo>
                <a:lnTo>
                  <a:pt x="76" y="530"/>
                </a:lnTo>
                <a:lnTo>
                  <a:pt x="89" y="501"/>
                </a:lnTo>
                <a:lnTo>
                  <a:pt x="106" y="474"/>
                </a:lnTo>
                <a:lnTo>
                  <a:pt x="124" y="446"/>
                </a:lnTo>
                <a:lnTo>
                  <a:pt x="138" y="416"/>
                </a:lnTo>
                <a:lnTo>
                  <a:pt x="136" y="385"/>
                </a:lnTo>
                <a:lnTo>
                  <a:pt x="133" y="380"/>
                </a:lnTo>
                <a:lnTo>
                  <a:pt x="131" y="375"/>
                </a:lnTo>
                <a:lnTo>
                  <a:pt x="135" y="368"/>
                </a:lnTo>
                <a:lnTo>
                  <a:pt x="141" y="360"/>
                </a:lnTo>
                <a:lnTo>
                  <a:pt x="147" y="354"/>
                </a:lnTo>
                <a:lnTo>
                  <a:pt x="153" y="347"/>
                </a:lnTo>
                <a:lnTo>
                  <a:pt x="145" y="331"/>
                </a:lnTo>
                <a:lnTo>
                  <a:pt x="147" y="310"/>
                </a:lnTo>
                <a:lnTo>
                  <a:pt x="153" y="308"/>
                </a:lnTo>
                <a:lnTo>
                  <a:pt x="160" y="307"/>
                </a:lnTo>
                <a:lnTo>
                  <a:pt x="149" y="247"/>
                </a:lnTo>
                <a:lnTo>
                  <a:pt x="153" y="236"/>
                </a:lnTo>
                <a:lnTo>
                  <a:pt x="161" y="227"/>
                </a:lnTo>
                <a:lnTo>
                  <a:pt x="171" y="220"/>
                </a:lnTo>
                <a:lnTo>
                  <a:pt x="181" y="216"/>
                </a:lnTo>
                <a:lnTo>
                  <a:pt x="200" y="215"/>
                </a:lnTo>
                <a:lnTo>
                  <a:pt x="220" y="214"/>
                </a:lnTo>
                <a:lnTo>
                  <a:pt x="239" y="210"/>
                </a:lnTo>
                <a:lnTo>
                  <a:pt x="257" y="206"/>
                </a:lnTo>
                <a:lnTo>
                  <a:pt x="275" y="201"/>
                </a:lnTo>
                <a:lnTo>
                  <a:pt x="292" y="195"/>
                </a:lnTo>
                <a:lnTo>
                  <a:pt x="308" y="189"/>
                </a:lnTo>
                <a:lnTo>
                  <a:pt x="324" y="180"/>
                </a:lnTo>
                <a:lnTo>
                  <a:pt x="333" y="183"/>
                </a:lnTo>
                <a:lnTo>
                  <a:pt x="339" y="186"/>
                </a:lnTo>
                <a:lnTo>
                  <a:pt x="346" y="183"/>
                </a:lnTo>
                <a:lnTo>
                  <a:pt x="353" y="178"/>
                </a:lnTo>
                <a:lnTo>
                  <a:pt x="359" y="172"/>
                </a:lnTo>
                <a:lnTo>
                  <a:pt x="363" y="164"/>
                </a:lnTo>
                <a:lnTo>
                  <a:pt x="361" y="152"/>
                </a:lnTo>
                <a:lnTo>
                  <a:pt x="350" y="142"/>
                </a:lnTo>
                <a:lnTo>
                  <a:pt x="347" y="139"/>
                </a:lnTo>
                <a:lnTo>
                  <a:pt x="345" y="137"/>
                </a:lnTo>
                <a:lnTo>
                  <a:pt x="336" y="140"/>
                </a:lnTo>
                <a:lnTo>
                  <a:pt x="328" y="140"/>
                </a:lnTo>
                <a:lnTo>
                  <a:pt x="325" y="119"/>
                </a:lnTo>
                <a:lnTo>
                  <a:pt x="327" y="98"/>
                </a:lnTo>
                <a:lnTo>
                  <a:pt x="326" y="77"/>
                </a:lnTo>
                <a:lnTo>
                  <a:pt x="314" y="59"/>
                </a:lnTo>
                <a:lnTo>
                  <a:pt x="314" y="44"/>
                </a:lnTo>
                <a:lnTo>
                  <a:pt x="317" y="29"/>
                </a:lnTo>
                <a:lnTo>
                  <a:pt x="326" y="20"/>
                </a:lnTo>
                <a:lnTo>
                  <a:pt x="323" y="9"/>
                </a:lnTo>
                <a:lnTo>
                  <a:pt x="319" y="4"/>
                </a:lnTo>
                <a:lnTo>
                  <a:pt x="314" y="1"/>
                </a:lnTo>
                <a:lnTo>
                  <a:pt x="308" y="0"/>
                </a:lnTo>
                <a:lnTo>
                  <a:pt x="301" y="1"/>
                </a:lnTo>
                <a:lnTo>
                  <a:pt x="279" y="4"/>
                </a:lnTo>
                <a:lnTo>
                  <a:pt x="256" y="6"/>
                </a:lnTo>
                <a:lnTo>
                  <a:pt x="234" y="9"/>
                </a:lnTo>
                <a:lnTo>
                  <a:pt x="212" y="12"/>
                </a:lnTo>
                <a:lnTo>
                  <a:pt x="190" y="16"/>
                </a:lnTo>
                <a:lnTo>
                  <a:pt x="169" y="22"/>
                </a:lnTo>
                <a:lnTo>
                  <a:pt x="148" y="28"/>
                </a:lnTo>
                <a:lnTo>
                  <a:pt x="129" y="36"/>
                </a:lnTo>
                <a:lnTo>
                  <a:pt x="102" y="129"/>
                </a:lnTo>
                <a:lnTo>
                  <a:pt x="91" y="225"/>
                </a:lnTo>
                <a:lnTo>
                  <a:pt x="87" y="325"/>
                </a:lnTo>
                <a:lnTo>
                  <a:pt x="84" y="424"/>
                </a:lnTo>
                <a:lnTo>
                  <a:pt x="87" y="453"/>
                </a:lnTo>
                <a:lnTo>
                  <a:pt x="87" y="481"/>
                </a:lnTo>
                <a:lnTo>
                  <a:pt x="61" y="499"/>
                </a:lnTo>
                <a:lnTo>
                  <a:pt x="35" y="522"/>
                </a:lnTo>
                <a:lnTo>
                  <a:pt x="12" y="547"/>
                </a:lnTo>
                <a:lnTo>
                  <a:pt x="0" y="578"/>
                </a:lnTo>
                <a:lnTo>
                  <a:pt x="2" y="596"/>
                </a:lnTo>
                <a:lnTo>
                  <a:pt x="7" y="613"/>
                </a:lnTo>
                <a:lnTo>
                  <a:pt x="9" y="613"/>
                </a:lnTo>
                <a:lnTo>
                  <a:pt x="11" y="613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86000" y="27288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10" y="43"/>
                </a:moveTo>
                <a:lnTo>
                  <a:pt x="45" y="43"/>
                </a:lnTo>
                <a:lnTo>
                  <a:pt x="38" y="22"/>
                </a:lnTo>
                <a:lnTo>
                  <a:pt x="40" y="0"/>
                </a:lnTo>
                <a:lnTo>
                  <a:pt x="27" y="6"/>
                </a:lnTo>
                <a:lnTo>
                  <a:pt x="16" y="16"/>
                </a:lnTo>
                <a:lnTo>
                  <a:pt x="7" y="28"/>
                </a:lnTo>
                <a:lnTo>
                  <a:pt x="0" y="39"/>
                </a:lnTo>
                <a:lnTo>
                  <a:pt x="4" y="41"/>
                </a:lnTo>
                <a:lnTo>
                  <a:pt x="10" y="43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67200" y="2174760"/>
            <a:ext cx="873000" cy="657360"/>
          </a:xfrm>
          <a:custGeom>
            <a:avLst/>
            <a:gdLst/>
            <a:ahLst/>
            <a:rect l="l" t="t" r="r" b="b"/>
            <a:pathLst>
              <a:path w="550" h="414">
                <a:moveTo>
                  <a:pt x="169" y="413"/>
                </a:moveTo>
                <a:lnTo>
                  <a:pt x="541" y="410"/>
                </a:lnTo>
                <a:lnTo>
                  <a:pt x="549" y="307"/>
                </a:lnTo>
                <a:lnTo>
                  <a:pt x="506" y="283"/>
                </a:lnTo>
                <a:lnTo>
                  <a:pt x="492" y="326"/>
                </a:lnTo>
                <a:lnTo>
                  <a:pt x="498" y="314"/>
                </a:lnTo>
                <a:lnTo>
                  <a:pt x="506" y="299"/>
                </a:lnTo>
                <a:lnTo>
                  <a:pt x="508" y="299"/>
                </a:lnTo>
                <a:lnTo>
                  <a:pt x="511" y="298"/>
                </a:lnTo>
                <a:lnTo>
                  <a:pt x="515" y="299"/>
                </a:lnTo>
                <a:lnTo>
                  <a:pt x="518" y="304"/>
                </a:lnTo>
                <a:lnTo>
                  <a:pt x="486" y="354"/>
                </a:lnTo>
                <a:lnTo>
                  <a:pt x="483" y="354"/>
                </a:lnTo>
                <a:lnTo>
                  <a:pt x="479" y="353"/>
                </a:lnTo>
                <a:lnTo>
                  <a:pt x="477" y="331"/>
                </a:lnTo>
                <a:lnTo>
                  <a:pt x="480" y="310"/>
                </a:lnTo>
                <a:lnTo>
                  <a:pt x="487" y="289"/>
                </a:lnTo>
                <a:lnTo>
                  <a:pt x="496" y="271"/>
                </a:lnTo>
                <a:lnTo>
                  <a:pt x="466" y="214"/>
                </a:lnTo>
                <a:lnTo>
                  <a:pt x="473" y="187"/>
                </a:lnTo>
                <a:lnTo>
                  <a:pt x="471" y="183"/>
                </a:lnTo>
                <a:lnTo>
                  <a:pt x="469" y="179"/>
                </a:lnTo>
                <a:lnTo>
                  <a:pt x="469" y="176"/>
                </a:lnTo>
                <a:lnTo>
                  <a:pt x="470" y="173"/>
                </a:lnTo>
                <a:lnTo>
                  <a:pt x="483" y="165"/>
                </a:lnTo>
                <a:lnTo>
                  <a:pt x="477" y="167"/>
                </a:lnTo>
                <a:lnTo>
                  <a:pt x="471" y="171"/>
                </a:lnTo>
                <a:lnTo>
                  <a:pt x="465" y="175"/>
                </a:lnTo>
                <a:lnTo>
                  <a:pt x="456" y="174"/>
                </a:lnTo>
                <a:lnTo>
                  <a:pt x="455" y="173"/>
                </a:lnTo>
                <a:lnTo>
                  <a:pt x="453" y="170"/>
                </a:lnTo>
                <a:lnTo>
                  <a:pt x="454" y="167"/>
                </a:lnTo>
                <a:lnTo>
                  <a:pt x="456" y="164"/>
                </a:lnTo>
                <a:lnTo>
                  <a:pt x="477" y="152"/>
                </a:lnTo>
                <a:lnTo>
                  <a:pt x="471" y="127"/>
                </a:lnTo>
                <a:lnTo>
                  <a:pt x="459" y="117"/>
                </a:lnTo>
                <a:lnTo>
                  <a:pt x="450" y="117"/>
                </a:lnTo>
                <a:lnTo>
                  <a:pt x="441" y="114"/>
                </a:lnTo>
                <a:lnTo>
                  <a:pt x="441" y="111"/>
                </a:lnTo>
                <a:lnTo>
                  <a:pt x="438" y="109"/>
                </a:lnTo>
                <a:lnTo>
                  <a:pt x="421" y="144"/>
                </a:lnTo>
                <a:lnTo>
                  <a:pt x="404" y="177"/>
                </a:lnTo>
                <a:lnTo>
                  <a:pt x="384" y="208"/>
                </a:lnTo>
                <a:lnTo>
                  <a:pt x="358" y="235"/>
                </a:lnTo>
                <a:lnTo>
                  <a:pt x="347" y="229"/>
                </a:lnTo>
                <a:lnTo>
                  <a:pt x="336" y="222"/>
                </a:lnTo>
                <a:lnTo>
                  <a:pt x="326" y="215"/>
                </a:lnTo>
                <a:lnTo>
                  <a:pt x="316" y="208"/>
                </a:lnTo>
                <a:lnTo>
                  <a:pt x="277" y="168"/>
                </a:lnTo>
                <a:lnTo>
                  <a:pt x="251" y="123"/>
                </a:lnTo>
                <a:lnTo>
                  <a:pt x="234" y="71"/>
                </a:lnTo>
                <a:lnTo>
                  <a:pt x="221" y="17"/>
                </a:lnTo>
                <a:lnTo>
                  <a:pt x="224" y="8"/>
                </a:lnTo>
                <a:lnTo>
                  <a:pt x="225" y="0"/>
                </a:lnTo>
                <a:lnTo>
                  <a:pt x="212" y="7"/>
                </a:lnTo>
                <a:lnTo>
                  <a:pt x="197" y="12"/>
                </a:lnTo>
                <a:lnTo>
                  <a:pt x="182" y="17"/>
                </a:lnTo>
                <a:lnTo>
                  <a:pt x="165" y="20"/>
                </a:lnTo>
                <a:lnTo>
                  <a:pt x="148" y="23"/>
                </a:lnTo>
                <a:lnTo>
                  <a:pt x="131" y="25"/>
                </a:lnTo>
                <a:lnTo>
                  <a:pt x="113" y="28"/>
                </a:lnTo>
                <a:lnTo>
                  <a:pt x="96" y="30"/>
                </a:lnTo>
                <a:lnTo>
                  <a:pt x="88" y="35"/>
                </a:lnTo>
                <a:lnTo>
                  <a:pt x="82" y="38"/>
                </a:lnTo>
                <a:lnTo>
                  <a:pt x="80" y="59"/>
                </a:lnTo>
                <a:lnTo>
                  <a:pt x="84" y="82"/>
                </a:lnTo>
                <a:lnTo>
                  <a:pt x="90" y="104"/>
                </a:lnTo>
                <a:lnTo>
                  <a:pt x="84" y="125"/>
                </a:lnTo>
                <a:lnTo>
                  <a:pt x="73" y="123"/>
                </a:lnTo>
                <a:lnTo>
                  <a:pt x="76" y="131"/>
                </a:lnTo>
                <a:lnTo>
                  <a:pt x="82" y="140"/>
                </a:lnTo>
                <a:lnTo>
                  <a:pt x="76" y="159"/>
                </a:lnTo>
                <a:lnTo>
                  <a:pt x="62" y="170"/>
                </a:lnTo>
                <a:lnTo>
                  <a:pt x="66" y="203"/>
                </a:lnTo>
                <a:lnTo>
                  <a:pt x="58" y="232"/>
                </a:lnTo>
                <a:lnTo>
                  <a:pt x="44" y="259"/>
                </a:lnTo>
                <a:lnTo>
                  <a:pt x="28" y="284"/>
                </a:lnTo>
                <a:lnTo>
                  <a:pt x="19" y="297"/>
                </a:lnTo>
                <a:lnTo>
                  <a:pt x="11" y="309"/>
                </a:lnTo>
                <a:lnTo>
                  <a:pt x="5" y="323"/>
                </a:lnTo>
                <a:lnTo>
                  <a:pt x="0" y="337"/>
                </a:lnTo>
                <a:lnTo>
                  <a:pt x="6" y="338"/>
                </a:lnTo>
                <a:lnTo>
                  <a:pt x="14" y="341"/>
                </a:lnTo>
                <a:lnTo>
                  <a:pt x="29" y="353"/>
                </a:lnTo>
                <a:lnTo>
                  <a:pt x="41" y="367"/>
                </a:lnTo>
                <a:lnTo>
                  <a:pt x="51" y="383"/>
                </a:lnTo>
                <a:lnTo>
                  <a:pt x="60" y="399"/>
                </a:lnTo>
                <a:lnTo>
                  <a:pt x="79" y="381"/>
                </a:lnTo>
                <a:lnTo>
                  <a:pt x="96" y="361"/>
                </a:lnTo>
                <a:lnTo>
                  <a:pt x="113" y="342"/>
                </a:lnTo>
                <a:lnTo>
                  <a:pt x="136" y="327"/>
                </a:lnTo>
                <a:lnTo>
                  <a:pt x="127" y="320"/>
                </a:lnTo>
                <a:lnTo>
                  <a:pt x="117" y="314"/>
                </a:lnTo>
                <a:lnTo>
                  <a:pt x="112" y="306"/>
                </a:lnTo>
                <a:lnTo>
                  <a:pt x="110" y="297"/>
                </a:lnTo>
                <a:lnTo>
                  <a:pt x="129" y="272"/>
                </a:lnTo>
                <a:lnTo>
                  <a:pt x="126" y="231"/>
                </a:lnTo>
                <a:lnTo>
                  <a:pt x="119" y="189"/>
                </a:lnTo>
                <a:lnTo>
                  <a:pt x="109" y="147"/>
                </a:lnTo>
                <a:lnTo>
                  <a:pt x="101" y="105"/>
                </a:lnTo>
                <a:lnTo>
                  <a:pt x="102" y="104"/>
                </a:lnTo>
                <a:lnTo>
                  <a:pt x="105" y="103"/>
                </a:lnTo>
                <a:lnTo>
                  <a:pt x="113" y="111"/>
                </a:lnTo>
                <a:lnTo>
                  <a:pt x="117" y="127"/>
                </a:lnTo>
                <a:lnTo>
                  <a:pt x="119" y="123"/>
                </a:lnTo>
                <a:lnTo>
                  <a:pt x="123" y="120"/>
                </a:lnTo>
                <a:lnTo>
                  <a:pt x="131" y="137"/>
                </a:lnTo>
                <a:lnTo>
                  <a:pt x="134" y="160"/>
                </a:lnTo>
                <a:lnTo>
                  <a:pt x="138" y="160"/>
                </a:lnTo>
                <a:lnTo>
                  <a:pt x="143" y="159"/>
                </a:lnTo>
                <a:lnTo>
                  <a:pt x="149" y="159"/>
                </a:lnTo>
                <a:lnTo>
                  <a:pt x="152" y="164"/>
                </a:lnTo>
                <a:lnTo>
                  <a:pt x="144" y="174"/>
                </a:lnTo>
                <a:lnTo>
                  <a:pt x="135" y="185"/>
                </a:lnTo>
                <a:lnTo>
                  <a:pt x="141" y="281"/>
                </a:lnTo>
                <a:lnTo>
                  <a:pt x="134" y="289"/>
                </a:lnTo>
                <a:lnTo>
                  <a:pt x="126" y="299"/>
                </a:lnTo>
                <a:lnTo>
                  <a:pt x="131" y="304"/>
                </a:lnTo>
                <a:lnTo>
                  <a:pt x="137" y="309"/>
                </a:lnTo>
                <a:lnTo>
                  <a:pt x="144" y="314"/>
                </a:lnTo>
                <a:lnTo>
                  <a:pt x="149" y="323"/>
                </a:lnTo>
                <a:lnTo>
                  <a:pt x="148" y="347"/>
                </a:lnTo>
                <a:lnTo>
                  <a:pt x="146" y="373"/>
                </a:lnTo>
                <a:lnTo>
                  <a:pt x="150" y="395"/>
                </a:lnTo>
                <a:lnTo>
                  <a:pt x="167" y="413"/>
                </a:lnTo>
                <a:lnTo>
                  <a:pt x="168" y="413"/>
                </a:lnTo>
                <a:lnTo>
                  <a:pt x="169" y="413"/>
                </a:lnTo>
              </a:path>
            </a:pathLst>
          </a:custGeom>
          <a:solidFill>
            <a:srgbClr val="ff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97280" y="1839960"/>
            <a:ext cx="453960" cy="987480"/>
          </a:xfrm>
          <a:custGeom>
            <a:avLst/>
            <a:gdLst/>
            <a:ahLst/>
            <a:rect l="l" t="t" r="r" b="b"/>
            <a:pathLst>
              <a:path w="286" h="622">
                <a:moveTo>
                  <a:pt x="99" y="621"/>
                </a:moveTo>
                <a:lnTo>
                  <a:pt x="279" y="619"/>
                </a:lnTo>
                <a:lnTo>
                  <a:pt x="285" y="598"/>
                </a:lnTo>
                <a:lnTo>
                  <a:pt x="283" y="579"/>
                </a:lnTo>
                <a:lnTo>
                  <a:pt x="280" y="574"/>
                </a:lnTo>
                <a:lnTo>
                  <a:pt x="279" y="573"/>
                </a:lnTo>
                <a:lnTo>
                  <a:pt x="273" y="571"/>
                </a:lnTo>
                <a:lnTo>
                  <a:pt x="269" y="568"/>
                </a:lnTo>
                <a:lnTo>
                  <a:pt x="255" y="546"/>
                </a:lnTo>
                <a:lnTo>
                  <a:pt x="258" y="557"/>
                </a:lnTo>
                <a:lnTo>
                  <a:pt x="257" y="560"/>
                </a:lnTo>
                <a:lnTo>
                  <a:pt x="255" y="562"/>
                </a:lnTo>
                <a:lnTo>
                  <a:pt x="251" y="563"/>
                </a:lnTo>
                <a:lnTo>
                  <a:pt x="246" y="562"/>
                </a:lnTo>
                <a:lnTo>
                  <a:pt x="237" y="531"/>
                </a:lnTo>
                <a:lnTo>
                  <a:pt x="223" y="510"/>
                </a:lnTo>
                <a:lnTo>
                  <a:pt x="204" y="493"/>
                </a:lnTo>
                <a:lnTo>
                  <a:pt x="185" y="476"/>
                </a:lnTo>
                <a:lnTo>
                  <a:pt x="173" y="454"/>
                </a:lnTo>
                <a:lnTo>
                  <a:pt x="178" y="345"/>
                </a:lnTo>
                <a:lnTo>
                  <a:pt x="177" y="236"/>
                </a:lnTo>
                <a:lnTo>
                  <a:pt x="166" y="127"/>
                </a:lnTo>
                <a:lnTo>
                  <a:pt x="138" y="20"/>
                </a:lnTo>
                <a:lnTo>
                  <a:pt x="123" y="12"/>
                </a:lnTo>
                <a:lnTo>
                  <a:pt x="107" y="7"/>
                </a:lnTo>
                <a:lnTo>
                  <a:pt x="90" y="6"/>
                </a:lnTo>
                <a:lnTo>
                  <a:pt x="72" y="4"/>
                </a:lnTo>
                <a:lnTo>
                  <a:pt x="54" y="3"/>
                </a:lnTo>
                <a:lnTo>
                  <a:pt x="36" y="3"/>
                </a:lnTo>
                <a:lnTo>
                  <a:pt x="17" y="2"/>
                </a:lnTo>
                <a:lnTo>
                  <a:pt x="0" y="0"/>
                </a:lnTo>
                <a:lnTo>
                  <a:pt x="14" y="2"/>
                </a:lnTo>
                <a:lnTo>
                  <a:pt x="28" y="7"/>
                </a:lnTo>
                <a:lnTo>
                  <a:pt x="38" y="15"/>
                </a:lnTo>
                <a:lnTo>
                  <a:pt x="49" y="26"/>
                </a:lnTo>
                <a:lnTo>
                  <a:pt x="53" y="47"/>
                </a:lnTo>
                <a:lnTo>
                  <a:pt x="48" y="66"/>
                </a:lnTo>
                <a:lnTo>
                  <a:pt x="51" y="70"/>
                </a:lnTo>
                <a:lnTo>
                  <a:pt x="54" y="76"/>
                </a:lnTo>
                <a:lnTo>
                  <a:pt x="27" y="175"/>
                </a:lnTo>
                <a:lnTo>
                  <a:pt x="51" y="188"/>
                </a:lnTo>
                <a:lnTo>
                  <a:pt x="78" y="191"/>
                </a:lnTo>
                <a:lnTo>
                  <a:pt x="106" y="193"/>
                </a:lnTo>
                <a:lnTo>
                  <a:pt x="131" y="200"/>
                </a:lnTo>
                <a:lnTo>
                  <a:pt x="130" y="274"/>
                </a:lnTo>
                <a:lnTo>
                  <a:pt x="141" y="348"/>
                </a:lnTo>
                <a:lnTo>
                  <a:pt x="151" y="356"/>
                </a:lnTo>
                <a:lnTo>
                  <a:pt x="160" y="366"/>
                </a:lnTo>
                <a:lnTo>
                  <a:pt x="167" y="378"/>
                </a:lnTo>
                <a:lnTo>
                  <a:pt x="170" y="393"/>
                </a:lnTo>
                <a:lnTo>
                  <a:pt x="172" y="443"/>
                </a:lnTo>
                <a:lnTo>
                  <a:pt x="167" y="492"/>
                </a:lnTo>
                <a:lnTo>
                  <a:pt x="172" y="488"/>
                </a:lnTo>
                <a:lnTo>
                  <a:pt x="175" y="485"/>
                </a:lnTo>
                <a:lnTo>
                  <a:pt x="178" y="485"/>
                </a:lnTo>
                <a:lnTo>
                  <a:pt x="181" y="486"/>
                </a:lnTo>
                <a:lnTo>
                  <a:pt x="190" y="510"/>
                </a:lnTo>
                <a:lnTo>
                  <a:pt x="190" y="512"/>
                </a:lnTo>
                <a:lnTo>
                  <a:pt x="187" y="515"/>
                </a:lnTo>
                <a:lnTo>
                  <a:pt x="184" y="515"/>
                </a:lnTo>
                <a:lnTo>
                  <a:pt x="177" y="515"/>
                </a:lnTo>
                <a:lnTo>
                  <a:pt x="175" y="510"/>
                </a:lnTo>
                <a:lnTo>
                  <a:pt x="173" y="504"/>
                </a:lnTo>
                <a:lnTo>
                  <a:pt x="169" y="506"/>
                </a:lnTo>
                <a:lnTo>
                  <a:pt x="164" y="509"/>
                </a:lnTo>
                <a:lnTo>
                  <a:pt x="162" y="508"/>
                </a:lnTo>
                <a:lnTo>
                  <a:pt x="158" y="507"/>
                </a:lnTo>
                <a:lnTo>
                  <a:pt x="150" y="512"/>
                </a:lnTo>
                <a:lnTo>
                  <a:pt x="145" y="521"/>
                </a:lnTo>
                <a:lnTo>
                  <a:pt x="137" y="528"/>
                </a:lnTo>
                <a:lnTo>
                  <a:pt x="126" y="531"/>
                </a:lnTo>
                <a:lnTo>
                  <a:pt x="115" y="529"/>
                </a:lnTo>
                <a:lnTo>
                  <a:pt x="105" y="525"/>
                </a:lnTo>
                <a:lnTo>
                  <a:pt x="94" y="570"/>
                </a:lnTo>
                <a:lnTo>
                  <a:pt x="99" y="621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5880" y="2738520"/>
            <a:ext cx="27000" cy="46080"/>
          </a:xfrm>
          <a:custGeom>
            <a:avLst/>
            <a:gdLst/>
            <a:ahLst/>
            <a:rect l="l" t="t" r="r" b="b"/>
            <a:pathLst>
              <a:path w="17" h="29">
                <a:moveTo>
                  <a:pt x="12" y="28"/>
                </a:moveTo>
                <a:lnTo>
                  <a:pt x="14" y="28"/>
                </a:lnTo>
                <a:lnTo>
                  <a:pt x="16" y="27"/>
                </a:lnTo>
                <a:lnTo>
                  <a:pt x="9" y="2"/>
                </a:lnTo>
                <a:lnTo>
                  <a:pt x="6" y="0"/>
                </a:lnTo>
                <a:lnTo>
                  <a:pt x="1" y="1"/>
                </a:lnTo>
                <a:lnTo>
                  <a:pt x="0" y="14"/>
                </a:lnTo>
                <a:lnTo>
                  <a:pt x="8" y="27"/>
                </a:lnTo>
                <a:lnTo>
                  <a:pt x="10" y="27"/>
                </a:lnTo>
                <a:lnTo>
                  <a:pt x="12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30800" y="275256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12" y="19"/>
                </a:moveTo>
                <a:lnTo>
                  <a:pt x="14" y="19"/>
                </a:lnTo>
                <a:lnTo>
                  <a:pt x="16" y="18"/>
                </a:lnTo>
                <a:lnTo>
                  <a:pt x="11" y="3"/>
                </a:lnTo>
                <a:lnTo>
                  <a:pt x="8" y="0"/>
                </a:lnTo>
                <a:lnTo>
                  <a:pt x="0" y="0"/>
                </a:lnTo>
                <a:lnTo>
                  <a:pt x="8" y="18"/>
                </a:lnTo>
                <a:lnTo>
                  <a:pt x="12" y="1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06840" y="2730600"/>
            <a:ext cx="274680" cy="52200"/>
          </a:xfrm>
          <a:custGeom>
            <a:avLst/>
            <a:gdLst/>
            <a:ahLst/>
            <a:rect l="l" t="t" r="r" b="b"/>
            <a:pathLst>
              <a:path w="173" h="33">
                <a:moveTo>
                  <a:pt x="32" y="32"/>
                </a:moveTo>
                <a:lnTo>
                  <a:pt x="172" y="12"/>
                </a:lnTo>
                <a:lnTo>
                  <a:pt x="132" y="0"/>
                </a:lnTo>
                <a:lnTo>
                  <a:pt x="127" y="12"/>
                </a:lnTo>
                <a:lnTo>
                  <a:pt x="69" y="23"/>
                </a:lnTo>
                <a:lnTo>
                  <a:pt x="64" y="20"/>
                </a:lnTo>
                <a:lnTo>
                  <a:pt x="60" y="15"/>
                </a:lnTo>
                <a:lnTo>
                  <a:pt x="46" y="13"/>
                </a:lnTo>
                <a:lnTo>
                  <a:pt x="31" y="10"/>
                </a:lnTo>
                <a:lnTo>
                  <a:pt x="15" y="9"/>
                </a:lnTo>
                <a:lnTo>
                  <a:pt x="0" y="14"/>
                </a:lnTo>
                <a:lnTo>
                  <a:pt x="32" y="32"/>
                </a:lnTo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9400" y="270360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11" y="16"/>
                </a:moveTo>
                <a:lnTo>
                  <a:pt x="22" y="14"/>
                </a:lnTo>
                <a:lnTo>
                  <a:pt x="18" y="14"/>
                </a:lnTo>
                <a:lnTo>
                  <a:pt x="13" y="11"/>
                </a:lnTo>
                <a:lnTo>
                  <a:pt x="11" y="7"/>
                </a:lnTo>
                <a:lnTo>
                  <a:pt x="9" y="2"/>
                </a:lnTo>
                <a:lnTo>
                  <a:pt x="5" y="0"/>
                </a:lnTo>
                <a:lnTo>
                  <a:pt x="0" y="2"/>
                </a:lnTo>
                <a:lnTo>
                  <a:pt x="3" y="10"/>
                </a:lnTo>
                <a:lnTo>
                  <a:pt x="9" y="16"/>
                </a:lnTo>
                <a:lnTo>
                  <a:pt x="10" y="16"/>
                </a:lnTo>
                <a:lnTo>
                  <a:pt x="11" y="16"/>
                </a:lnTo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9720" y="2665440"/>
            <a:ext cx="27000" cy="46080"/>
          </a:xfrm>
          <a:custGeom>
            <a:avLst/>
            <a:gdLst/>
            <a:ahLst/>
            <a:rect l="l" t="t" r="r" b="b"/>
            <a:pathLst>
              <a:path w="17" h="29">
                <a:moveTo>
                  <a:pt x="13" y="28"/>
                </a:moveTo>
                <a:lnTo>
                  <a:pt x="14" y="28"/>
                </a:lnTo>
                <a:lnTo>
                  <a:pt x="16" y="28"/>
                </a:lnTo>
                <a:lnTo>
                  <a:pt x="10" y="3"/>
                </a:lnTo>
                <a:lnTo>
                  <a:pt x="8" y="1"/>
                </a:lnTo>
                <a:lnTo>
                  <a:pt x="4" y="0"/>
                </a:lnTo>
                <a:lnTo>
                  <a:pt x="0" y="9"/>
                </a:lnTo>
                <a:lnTo>
                  <a:pt x="4" y="19"/>
                </a:lnTo>
                <a:lnTo>
                  <a:pt x="10" y="28"/>
                </a:lnTo>
                <a:lnTo>
                  <a:pt x="13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9320" y="2692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10" y="11"/>
                </a:lnTo>
                <a:lnTo>
                  <a:pt x="16" y="9"/>
                </a:lnTo>
                <a:lnTo>
                  <a:pt x="16" y="4"/>
                </a:lnTo>
                <a:lnTo>
                  <a:pt x="16" y="0"/>
                </a:lnTo>
                <a:lnTo>
                  <a:pt x="7" y="0"/>
                </a:lnTo>
                <a:lnTo>
                  <a:pt x="1" y="4"/>
                </a:lnTo>
                <a:lnTo>
                  <a:pt x="0" y="13"/>
                </a:lnTo>
                <a:lnTo>
                  <a:pt x="4" y="16"/>
                </a:lnTo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3360" y="2641680"/>
            <a:ext cx="27000" cy="46080"/>
          </a:xfrm>
          <a:custGeom>
            <a:avLst/>
            <a:gdLst/>
            <a:ahLst/>
            <a:rect l="l" t="t" r="r" b="b"/>
            <a:pathLst>
              <a:path w="17" h="29">
                <a:moveTo>
                  <a:pt x="13" y="28"/>
                </a:moveTo>
                <a:lnTo>
                  <a:pt x="16" y="28"/>
                </a:lnTo>
                <a:lnTo>
                  <a:pt x="8" y="3"/>
                </a:lnTo>
                <a:lnTo>
                  <a:pt x="6" y="1"/>
                </a:lnTo>
                <a:lnTo>
                  <a:pt x="4" y="0"/>
                </a:lnTo>
                <a:lnTo>
                  <a:pt x="0" y="8"/>
                </a:lnTo>
                <a:lnTo>
                  <a:pt x="4" y="20"/>
                </a:lnTo>
                <a:lnTo>
                  <a:pt x="10" y="28"/>
                </a:lnTo>
                <a:lnTo>
                  <a:pt x="12" y="28"/>
                </a:lnTo>
                <a:lnTo>
                  <a:pt x="13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8640" y="2624040"/>
            <a:ext cx="27000" cy="55800"/>
          </a:xfrm>
          <a:custGeom>
            <a:avLst/>
            <a:gdLst/>
            <a:ahLst/>
            <a:rect l="l" t="t" r="r" b="b"/>
            <a:pathLst>
              <a:path w="17" h="35">
                <a:moveTo>
                  <a:pt x="11" y="34"/>
                </a:moveTo>
                <a:lnTo>
                  <a:pt x="12" y="34"/>
                </a:lnTo>
                <a:lnTo>
                  <a:pt x="16" y="34"/>
                </a:lnTo>
                <a:lnTo>
                  <a:pt x="11" y="5"/>
                </a:ln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7" y="34"/>
                </a:lnTo>
                <a:lnTo>
                  <a:pt x="8" y="34"/>
                </a:lnTo>
                <a:lnTo>
                  <a:pt x="11" y="34"/>
                </a:lnTo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8480" y="2612880"/>
            <a:ext cx="27000" cy="65160"/>
          </a:xfrm>
          <a:custGeom>
            <a:avLst/>
            <a:gdLst/>
            <a:ahLst/>
            <a:rect l="l" t="t" r="r" b="b"/>
            <a:pathLst>
              <a:path w="17" h="41">
                <a:moveTo>
                  <a:pt x="1" y="40"/>
                </a:moveTo>
                <a:lnTo>
                  <a:pt x="3" y="40"/>
                </a:lnTo>
                <a:lnTo>
                  <a:pt x="4" y="40"/>
                </a:lnTo>
                <a:lnTo>
                  <a:pt x="16" y="23"/>
                </a:lnTo>
                <a:lnTo>
                  <a:pt x="16" y="3"/>
                </a:lnTo>
                <a:lnTo>
                  <a:pt x="12" y="0"/>
                </a:lnTo>
                <a:lnTo>
                  <a:pt x="6" y="1"/>
                </a:lnTo>
                <a:lnTo>
                  <a:pt x="4" y="31"/>
                </a:lnTo>
                <a:lnTo>
                  <a:pt x="3" y="36"/>
                </a:lnTo>
                <a:lnTo>
                  <a:pt x="0" y="40"/>
                </a:lnTo>
                <a:lnTo>
                  <a:pt x="1" y="40"/>
                </a:lnTo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62440" y="2595600"/>
            <a:ext cx="28800" cy="74520"/>
          </a:xfrm>
          <a:custGeom>
            <a:avLst/>
            <a:gdLst/>
            <a:ahLst/>
            <a:rect l="l" t="t" r="r" b="b"/>
            <a:pathLst>
              <a:path w="18" h="47">
                <a:moveTo>
                  <a:pt x="3" y="46"/>
                </a:moveTo>
                <a:lnTo>
                  <a:pt x="7" y="45"/>
                </a:lnTo>
                <a:lnTo>
                  <a:pt x="11" y="45"/>
                </a:lnTo>
                <a:lnTo>
                  <a:pt x="17" y="24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0" y="46"/>
                </a:lnTo>
                <a:lnTo>
                  <a:pt x="2" y="46"/>
                </a:lnTo>
                <a:lnTo>
                  <a:pt x="3" y="46"/>
                </a:lnTo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32200" y="2359080"/>
            <a:ext cx="220680" cy="299880"/>
          </a:xfrm>
          <a:custGeom>
            <a:avLst/>
            <a:gdLst/>
            <a:ahLst/>
            <a:rect l="l" t="t" r="r" b="b"/>
            <a:pathLst>
              <a:path w="139" h="189">
                <a:moveTo>
                  <a:pt x="102" y="188"/>
                </a:moveTo>
                <a:lnTo>
                  <a:pt x="106" y="187"/>
                </a:lnTo>
                <a:lnTo>
                  <a:pt x="110" y="186"/>
                </a:lnTo>
                <a:lnTo>
                  <a:pt x="125" y="171"/>
                </a:lnTo>
                <a:lnTo>
                  <a:pt x="120" y="164"/>
                </a:lnTo>
                <a:lnTo>
                  <a:pt x="114" y="155"/>
                </a:lnTo>
                <a:lnTo>
                  <a:pt x="110" y="135"/>
                </a:lnTo>
                <a:lnTo>
                  <a:pt x="115" y="130"/>
                </a:lnTo>
                <a:lnTo>
                  <a:pt x="123" y="130"/>
                </a:lnTo>
                <a:lnTo>
                  <a:pt x="128" y="159"/>
                </a:lnTo>
                <a:lnTo>
                  <a:pt x="137" y="119"/>
                </a:lnTo>
                <a:lnTo>
                  <a:pt x="138" y="76"/>
                </a:lnTo>
                <a:lnTo>
                  <a:pt x="125" y="76"/>
                </a:lnTo>
                <a:lnTo>
                  <a:pt x="83" y="0"/>
                </a:lnTo>
                <a:lnTo>
                  <a:pt x="47" y="47"/>
                </a:lnTo>
                <a:lnTo>
                  <a:pt x="46" y="68"/>
                </a:lnTo>
                <a:lnTo>
                  <a:pt x="47" y="65"/>
                </a:lnTo>
                <a:lnTo>
                  <a:pt x="53" y="62"/>
                </a:lnTo>
                <a:lnTo>
                  <a:pt x="58" y="64"/>
                </a:lnTo>
                <a:lnTo>
                  <a:pt x="61" y="68"/>
                </a:lnTo>
                <a:lnTo>
                  <a:pt x="60" y="73"/>
                </a:lnTo>
                <a:lnTo>
                  <a:pt x="62" y="76"/>
                </a:lnTo>
                <a:lnTo>
                  <a:pt x="67" y="78"/>
                </a:lnTo>
                <a:lnTo>
                  <a:pt x="70" y="80"/>
                </a:lnTo>
                <a:lnTo>
                  <a:pt x="73" y="91"/>
                </a:lnTo>
                <a:lnTo>
                  <a:pt x="74" y="103"/>
                </a:lnTo>
                <a:lnTo>
                  <a:pt x="71" y="106"/>
                </a:lnTo>
                <a:lnTo>
                  <a:pt x="68" y="109"/>
                </a:lnTo>
                <a:lnTo>
                  <a:pt x="61" y="100"/>
                </a:lnTo>
                <a:lnTo>
                  <a:pt x="59" y="88"/>
                </a:lnTo>
                <a:lnTo>
                  <a:pt x="56" y="90"/>
                </a:lnTo>
                <a:lnTo>
                  <a:pt x="53" y="92"/>
                </a:lnTo>
                <a:lnTo>
                  <a:pt x="43" y="85"/>
                </a:lnTo>
                <a:lnTo>
                  <a:pt x="41" y="86"/>
                </a:lnTo>
                <a:lnTo>
                  <a:pt x="38" y="88"/>
                </a:lnTo>
                <a:lnTo>
                  <a:pt x="35" y="88"/>
                </a:lnTo>
                <a:lnTo>
                  <a:pt x="32" y="85"/>
                </a:lnTo>
                <a:lnTo>
                  <a:pt x="29" y="79"/>
                </a:lnTo>
                <a:lnTo>
                  <a:pt x="30" y="71"/>
                </a:lnTo>
                <a:lnTo>
                  <a:pt x="0" y="100"/>
                </a:lnTo>
                <a:lnTo>
                  <a:pt x="39" y="162"/>
                </a:lnTo>
                <a:lnTo>
                  <a:pt x="102" y="188"/>
                </a:lnTo>
              </a:path>
            </a:pathLst>
          </a:custGeom>
          <a:solidFill>
            <a:srgbClr val="ff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6480" y="2606760"/>
            <a:ext cx="26640" cy="47520"/>
          </a:xfrm>
          <a:custGeom>
            <a:avLst/>
            <a:gdLst/>
            <a:ahLst/>
            <a:rect l="l" t="t" r="r" b="b"/>
            <a:pathLst>
              <a:path w="17" h="30">
                <a:moveTo>
                  <a:pt x="16" y="29"/>
                </a:moveTo>
                <a:lnTo>
                  <a:pt x="6" y="2"/>
                </a:lnTo>
                <a:lnTo>
                  <a:pt x="3" y="0"/>
                </a:lnTo>
                <a:lnTo>
                  <a:pt x="0" y="2"/>
                </a:lnTo>
                <a:lnTo>
                  <a:pt x="2" y="17"/>
                </a:lnTo>
                <a:lnTo>
                  <a:pt x="16" y="29"/>
                </a:lnTo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6280" y="253836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16" y="26"/>
                </a:moveTo>
                <a:lnTo>
                  <a:pt x="16" y="6"/>
                </a:lnTo>
                <a:lnTo>
                  <a:pt x="13" y="2"/>
                </a:lnTo>
                <a:lnTo>
                  <a:pt x="4" y="0"/>
                </a:lnTo>
                <a:lnTo>
                  <a:pt x="0" y="14"/>
                </a:lnTo>
                <a:lnTo>
                  <a:pt x="9" y="27"/>
                </a:lnTo>
                <a:lnTo>
                  <a:pt x="13" y="27"/>
                </a:lnTo>
                <a:lnTo>
                  <a:pt x="16" y="2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251136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16" y="27"/>
                </a:moveTo>
                <a:lnTo>
                  <a:pt x="16" y="4"/>
                </a:lnTo>
                <a:lnTo>
                  <a:pt x="12" y="1"/>
                </a:lnTo>
                <a:lnTo>
                  <a:pt x="1" y="0"/>
                </a:lnTo>
                <a:lnTo>
                  <a:pt x="0" y="20"/>
                </a:lnTo>
                <a:lnTo>
                  <a:pt x="3" y="25"/>
                </a:lnTo>
                <a:lnTo>
                  <a:pt x="12" y="27"/>
                </a:lnTo>
                <a:lnTo>
                  <a:pt x="14" y="27"/>
                </a:lnTo>
                <a:lnTo>
                  <a:pt x="16" y="2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4840" y="2184480"/>
            <a:ext cx="320760" cy="333360"/>
          </a:xfrm>
          <a:custGeom>
            <a:avLst/>
            <a:gdLst/>
            <a:ahLst/>
            <a:rect l="l" t="t" r="r" b="b"/>
            <a:pathLst>
              <a:path w="202" h="210">
                <a:moveTo>
                  <a:pt x="120" y="209"/>
                </a:moveTo>
                <a:lnTo>
                  <a:pt x="130" y="197"/>
                </a:lnTo>
                <a:lnTo>
                  <a:pt x="140" y="183"/>
                </a:lnTo>
                <a:lnTo>
                  <a:pt x="148" y="168"/>
                </a:lnTo>
                <a:lnTo>
                  <a:pt x="158" y="154"/>
                </a:lnTo>
                <a:lnTo>
                  <a:pt x="170" y="130"/>
                </a:lnTo>
                <a:lnTo>
                  <a:pt x="180" y="107"/>
                </a:lnTo>
                <a:lnTo>
                  <a:pt x="190" y="83"/>
                </a:lnTo>
                <a:lnTo>
                  <a:pt x="198" y="58"/>
                </a:lnTo>
                <a:lnTo>
                  <a:pt x="195" y="63"/>
                </a:lnTo>
                <a:lnTo>
                  <a:pt x="189" y="67"/>
                </a:lnTo>
                <a:lnTo>
                  <a:pt x="185" y="65"/>
                </a:lnTo>
                <a:lnTo>
                  <a:pt x="182" y="61"/>
                </a:lnTo>
                <a:lnTo>
                  <a:pt x="185" y="46"/>
                </a:lnTo>
                <a:lnTo>
                  <a:pt x="188" y="43"/>
                </a:lnTo>
                <a:lnTo>
                  <a:pt x="192" y="40"/>
                </a:lnTo>
                <a:lnTo>
                  <a:pt x="197" y="41"/>
                </a:lnTo>
                <a:lnTo>
                  <a:pt x="200" y="43"/>
                </a:lnTo>
                <a:lnTo>
                  <a:pt x="201" y="5"/>
                </a:lnTo>
                <a:lnTo>
                  <a:pt x="194" y="16"/>
                </a:lnTo>
                <a:lnTo>
                  <a:pt x="194" y="32"/>
                </a:lnTo>
                <a:lnTo>
                  <a:pt x="184" y="42"/>
                </a:lnTo>
                <a:lnTo>
                  <a:pt x="163" y="33"/>
                </a:lnTo>
                <a:lnTo>
                  <a:pt x="139" y="34"/>
                </a:lnTo>
                <a:lnTo>
                  <a:pt x="116" y="46"/>
                </a:lnTo>
                <a:lnTo>
                  <a:pt x="91" y="53"/>
                </a:lnTo>
                <a:lnTo>
                  <a:pt x="64" y="52"/>
                </a:lnTo>
                <a:lnTo>
                  <a:pt x="39" y="40"/>
                </a:lnTo>
                <a:lnTo>
                  <a:pt x="31" y="32"/>
                </a:lnTo>
                <a:lnTo>
                  <a:pt x="22" y="22"/>
                </a:lnTo>
                <a:lnTo>
                  <a:pt x="17" y="12"/>
                </a:lnTo>
                <a:lnTo>
                  <a:pt x="16" y="0"/>
                </a:lnTo>
                <a:lnTo>
                  <a:pt x="10" y="1"/>
                </a:lnTo>
                <a:lnTo>
                  <a:pt x="0" y="7"/>
                </a:lnTo>
                <a:lnTo>
                  <a:pt x="9" y="58"/>
                </a:lnTo>
                <a:lnTo>
                  <a:pt x="24" y="106"/>
                </a:lnTo>
                <a:lnTo>
                  <a:pt x="48" y="151"/>
                </a:lnTo>
                <a:lnTo>
                  <a:pt x="81" y="187"/>
                </a:lnTo>
                <a:lnTo>
                  <a:pt x="91" y="193"/>
                </a:lnTo>
                <a:lnTo>
                  <a:pt x="99" y="199"/>
                </a:lnTo>
                <a:lnTo>
                  <a:pt x="108" y="205"/>
                </a:lnTo>
                <a:lnTo>
                  <a:pt x="118" y="209"/>
                </a:lnTo>
                <a:lnTo>
                  <a:pt x="119" y="209"/>
                </a:lnTo>
                <a:lnTo>
                  <a:pt x="120" y="209"/>
                </a:lnTo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5680" y="2297160"/>
            <a:ext cx="92160" cy="109440"/>
          </a:xfrm>
          <a:custGeom>
            <a:avLst/>
            <a:gdLst/>
            <a:ahLst/>
            <a:rect l="l" t="t" r="r" b="b"/>
            <a:pathLst>
              <a:path w="58" h="69">
                <a:moveTo>
                  <a:pt x="53" y="68"/>
                </a:moveTo>
                <a:lnTo>
                  <a:pt x="55" y="67"/>
                </a:lnTo>
                <a:lnTo>
                  <a:pt x="57" y="65"/>
                </a:lnTo>
                <a:lnTo>
                  <a:pt x="40" y="51"/>
                </a:lnTo>
                <a:lnTo>
                  <a:pt x="24" y="36"/>
                </a:lnTo>
                <a:lnTo>
                  <a:pt x="11" y="18"/>
                </a:lnTo>
                <a:lnTo>
                  <a:pt x="1" y="0"/>
                </a:lnTo>
                <a:lnTo>
                  <a:pt x="0" y="8"/>
                </a:lnTo>
                <a:lnTo>
                  <a:pt x="3" y="17"/>
                </a:lnTo>
                <a:lnTo>
                  <a:pt x="10" y="26"/>
                </a:lnTo>
                <a:lnTo>
                  <a:pt x="14" y="35"/>
                </a:lnTo>
                <a:lnTo>
                  <a:pt x="23" y="45"/>
                </a:lnTo>
                <a:lnTo>
                  <a:pt x="32" y="54"/>
                </a:lnTo>
                <a:lnTo>
                  <a:pt x="42" y="61"/>
                </a:lnTo>
                <a:lnTo>
                  <a:pt x="53" y="6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68560" y="233676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0" y="48"/>
                </a:moveTo>
                <a:lnTo>
                  <a:pt x="12" y="43"/>
                </a:lnTo>
                <a:lnTo>
                  <a:pt x="20" y="35"/>
                </a:lnTo>
                <a:lnTo>
                  <a:pt x="27" y="27"/>
                </a:lnTo>
                <a:lnTo>
                  <a:pt x="36" y="18"/>
                </a:lnTo>
                <a:lnTo>
                  <a:pt x="43" y="10"/>
                </a:lnTo>
                <a:lnTo>
                  <a:pt x="47" y="3"/>
                </a:lnTo>
                <a:lnTo>
                  <a:pt x="47" y="1"/>
                </a:lnTo>
                <a:lnTo>
                  <a:pt x="45" y="0"/>
                </a:lnTo>
                <a:lnTo>
                  <a:pt x="0" y="48"/>
                </a:lnTo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306520"/>
            <a:ext cx="9396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15" y="53"/>
                </a:moveTo>
                <a:lnTo>
                  <a:pt x="27" y="45"/>
                </a:lnTo>
                <a:lnTo>
                  <a:pt x="39" y="33"/>
                </a:lnTo>
                <a:lnTo>
                  <a:pt x="48" y="20"/>
                </a:lnTo>
                <a:lnTo>
                  <a:pt x="58" y="8"/>
                </a:lnTo>
                <a:lnTo>
                  <a:pt x="57" y="3"/>
                </a:lnTo>
                <a:lnTo>
                  <a:pt x="53" y="0"/>
                </a:lnTo>
                <a:lnTo>
                  <a:pt x="1" y="25"/>
                </a:lnTo>
                <a:lnTo>
                  <a:pt x="0" y="27"/>
                </a:lnTo>
                <a:lnTo>
                  <a:pt x="1" y="31"/>
                </a:lnTo>
                <a:lnTo>
                  <a:pt x="5" y="31"/>
                </a:lnTo>
                <a:lnTo>
                  <a:pt x="10" y="31"/>
                </a:lnTo>
                <a:lnTo>
                  <a:pt x="13" y="31"/>
                </a:lnTo>
                <a:lnTo>
                  <a:pt x="15" y="34"/>
                </a:lnTo>
                <a:lnTo>
                  <a:pt x="14" y="53"/>
                </a:lnTo>
                <a:lnTo>
                  <a:pt x="15" y="53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4520" y="2152800"/>
            <a:ext cx="135000" cy="207720"/>
          </a:xfrm>
          <a:custGeom>
            <a:avLst/>
            <a:gdLst/>
            <a:ahLst/>
            <a:rect l="l" t="t" r="r" b="b"/>
            <a:pathLst>
              <a:path w="85" h="131">
                <a:moveTo>
                  <a:pt x="84" y="127"/>
                </a:moveTo>
                <a:lnTo>
                  <a:pt x="83" y="16"/>
                </a:lnTo>
                <a:lnTo>
                  <a:pt x="0" y="0"/>
                </a:lnTo>
                <a:lnTo>
                  <a:pt x="22" y="52"/>
                </a:lnTo>
                <a:lnTo>
                  <a:pt x="26" y="53"/>
                </a:lnTo>
                <a:lnTo>
                  <a:pt x="29" y="50"/>
                </a:lnTo>
                <a:lnTo>
                  <a:pt x="32" y="50"/>
                </a:lnTo>
                <a:lnTo>
                  <a:pt x="35" y="50"/>
                </a:lnTo>
                <a:lnTo>
                  <a:pt x="45" y="59"/>
                </a:lnTo>
                <a:lnTo>
                  <a:pt x="49" y="72"/>
                </a:lnTo>
                <a:lnTo>
                  <a:pt x="48" y="80"/>
                </a:lnTo>
                <a:lnTo>
                  <a:pt x="48" y="86"/>
                </a:lnTo>
                <a:lnTo>
                  <a:pt x="56" y="84"/>
                </a:lnTo>
                <a:lnTo>
                  <a:pt x="64" y="78"/>
                </a:lnTo>
                <a:lnTo>
                  <a:pt x="69" y="79"/>
                </a:lnTo>
                <a:lnTo>
                  <a:pt x="70" y="85"/>
                </a:lnTo>
                <a:lnTo>
                  <a:pt x="66" y="91"/>
                </a:lnTo>
                <a:lnTo>
                  <a:pt x="63" y="101"/>
                </a:lnTo>
                <a:lnTo>
                  <a:pt x="84" y="130"/>
                </a:lnTo>
                <a:lnTo>
                  <a:pt x="84" y="128"/>
                </a:lnTo>
                <a:lnTo>
                  <a:pt x="84" y="127"/>
                </a:lnTo>
              </a:path>
            </a:pathLst>
          </a:custGeom>
          <a:solidFill>
            <a:srgbClr val="ff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30760" y="2262240"/>
            <a:ext cx="77760" cy="60120"/>
          </a:xfrm>
          <a:custGeom>
            <a:avLst/>
            <a:gdLst/>
            <a:ahLst/>
            <a:rect l="l" t="t" r="r" b="b"/>
            <a:pathLst>
              <a:path w="49" h="38">
                <a:moveTo>
                  <a:pt x="0" y="37"/>
                </a:moveTo>
                <a:lnTo>
                  <a:pt x="15" y="32"/>
                </a:lnTo>
                <a:lnTo>
                  <a:pt x="26" y="25"/>
                </a:lnTo>
                <a:lnTo>
                  <a:pt x="39" y="17"/>
                </a:lnTo>
                <a:lnTo>
                  <a:pt x="47" y="7"/>
                </a:lnTo>
                <a:lnTo>
                  <a:pt x="47" y="2"/>
                </a:lnTo>
                <a:lnTo>
                  <a:pt x="48" y="0"/>
                </a:lnTo>
                <a:lnTo>
                  <a:pt x="0" y="37"/>
                </a:lnTo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19520" y="1949400"/>
            <a:ext cx="157320" cy="354240"/>
          </a:xfrm>
          <a:custGeom>
            <a:avLst/>
            <a:gdLst/>
            <a:ahLst/>
            <a:rect l="l" t="t" r="r" b="b"/>
            <a:pathLst>
              <a:path w="99" h="223">
                <a:moveTo>
                  <a:pt x="64" y="219"/>
                </a:moveTo>
                <a:lnTo>
                  <a:pt x="98" y="196"/>
                </a:lnTo>
                <a:lnTo>
                  <a:pt x="71" y="135"/>
                </a:lnTo>
                <a:lnTo>
                  <a:pt x="68" y="134"/>
                </a:lnTo>
                <a:lnTo>
                  <a:pt x="64" y="131"/>
                </a:lnTo>
                <a:lnTo>
                  <a:pt x="62" y="101"/>
                </a:lnTo>
                <a:lnTo>
                  <a:pt x="68" y="70"/>
                </a:lnTo>
                <a:lnTo>
                  <a:pt x="77" y="38"/>
                </a:lnTo>
                <a:lnTo>
                  <a:pt x="84" y="7"/>
                </a:lnTo>
                <a:lnTo>
                  <a:pt x="15" y="0"/>
                </a:lnTo>
                <a:lnTo>
                  <a:pt x="49" y="7"/>
                </a:lnTo>
                <a:lnTo>
                  <a:pt x="52" y="11"/>
                </a:lnTo>
                <a:lnTo>
                  <a:pt x="51" y="18"/>
                </a:lnTo>
                <a:lnTo>
                  <a:pt x="9" y="16"/>
                </a:lnTo>
                <a:lnTo>
                  <a:pt x="3" y="19"/>
                </a:lnTo>
                <a:lnTo>
                  <a:pt x="0" y="25"/>
                </a:lnTo>
                <a:lnTo>
                  <a:pt x="10" y="58"/>
                </a:lnTo>
                <a:lnTo>
                  <a:pt x="16" y="50"/>
                </a:lnTo>
                <a:lnTo>
                  <a:pt x="24" y="43"/>
                </a:lnTo>
                <a:lnTo>
                  <a:pt x="34" y="46"/>
                </a:lnTo>
                <a:lnTo>
                  <a:pt x="42" y="53"/>
                </a:lnTo>
                <a:lnTo>
                  <a:pt x="47" y="64"/>
                </a:lnTo>
                <a:lnTo>
                  <a:pt x="51" y="74"/>
                </a:lnTo>
                <a:lnTo>
                  <a:pt x="51" y="78"/>
                </a:lnTo>
                <a:lnTo>
                  <a:pt x="51" y="82"/>
                </a:lnTo>
                <a:lnTo>
                  <a:pt x="46" y="85"/>
                </a:lnTo>
                <a:lnTo>
                  <a:pt x="39" y="85"/>
                </a:lnTo>
                <a:lnTo>
                  <a:pt x="33" y="92"/>
                </a:lnTo>
                <a:lnTo>
                  <a:pt x="30" y="103"/>
                </a:lnTo>
                <a:lnTo>
                  <a:pt x="61" y="222"/>
                </a:lnTo>
                <a:lnTo>
                  <a:pt x="63" y="220"/>
                </a:lnTo>
                <a:lnTo>
                  <a:pt x="64" y="219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71840" y="1733400"/>
            <a:ext cx="211320" cy="517680"/>
          </a:xfrm>
          <a:custGeom>
            <a:avLst/>
            <a:gdLst/>
            <a:ahLst/>
            <a:rect l="l" t="t" r="r" b="b"/>
            <a:pathLst>
              <a:path w="133" h="326">
                <a:moveTo>
                  <a:pt x="59" y="325"/>
                </a:moveTo>
                <a:lnTo>
                  <a:pt x="71" y="324"/>
                </a:lnTo>
                <a:lnTo>
                  <a:pt x="83" y="322"/>
                </a:lnTo>
                <a:lnTo>
                  <a:pt x="95" y="318"/>
                </a:lnTo>
                <a:lnTo>
                  <a:pt x="104" y="310"/>
                </a:lnTo>
                <a:lnTo>
                  <a:pt x="107" y="306"/>
                </a:lnTo>
                <a:lnTo>
                  <a:pt x="108" y="304"/>
                </a:lnTo>
                <a:lnTo>
                  <a:pt x="104" y="294"/>
                </a:lnTo>
                <a:lnTo>
                  <a:pt x="95" y="295"/>
                </a:lnTo>
                <a:lnTo>
                  <a:pt x="86" y="295"/>
                </a:lnTo>
                <a:lnTo>
                  <a:pt x="77" y="293"/>
                </a:lnTo>
                <a:lnTo>
                  <a:pt x="71" y="287"/>
                </a:lnTo>
                <a:lnTo>
                  <a:pt x="65" y="261"/>
                </a:lnTo>
                <a:lnTo>
                  <a:pt x="73" y="237"/>
                </a:lnTo>
                <a:lnTo>
                  <a:pt x="66" y="234"/>
                </a:lnTo>
                <a:lnTo>
                  <a:pt x="56" y="232"/>
                </a:lnTo>
                <a:lnTo>
                  <a:pt x="30" y="198"/>
                </a:lnTo>
                <a:lnTo>
                  <a:pt x="35" y="195"/>
                </a:lnTo>
                <a:lnTo>
                  <a:pt x="42" y="198"/>
                </a:lnTo>
                <a:lnTo>
                  <a:pt x="47" y="194"/>
                </a:lnTo>
                <a:lnTo>
                  <a:pt x="52" y="190"/>
                </a:lnTo>
                <a:lnTo>
                  <a:pt x="59" y="188"/>
                </a:lnTo>
                <a:lnTo>
                  <a:pt x="68" y="188"/>
                </a:lnTo>
                <a:lnTo>
                  <a:pt x="76" y="192"/>
                </a:lnTo>
                <a:lnTo>
                  <a:pt x="85" y="192"/>
                </a:lnTo>
                <a:lnTo>
                  <a:pt x="88" y="187"/>
                </a:lnTo>
                <a:lnTo>
                  <a:pt x="94" y="185"/>
                </a:lnTo>
                <a:lnTo>
                  <a:pt x="97" y="186"/>
                </a:lnTo>
                <a:lnTo>
                  <a:pt x="100" y="187"/>
                </a:lnTo>
                <a:lnTo>
                  <a:pt x="101" y="189"/>
                </a:lnTo>
                <a:lnTo>
                  <a:pt x="101" y="193"/>
                </a:lnTo>
                <a:lnTo>
                  <a:pt x="91" y="208"/>
                </a:lnTo>
                <a:lnTo>
                  <a:pt x="119" y="198"/>
                </a:lnTo>
                <a:lnTo>
                  <a:pt x="127" y="156"/>
                </a:lnTo>
                <a:lnTo>
                  <a:pt x="132" y="112"/>
                </a:lnTo>
                <a:lnTo>
                  <a:pt x="131" y="70"/>
                </a:lnTo>
                <a:lnTo>
                  <a:pt x="118" y="28"/>
                </a:lnTo>
                <a:lnTo>
                  <a:pt x="112" y="24"/>
                </a:lnTo>
                <a:lnTo>
                  <a:pt x="105" y="19"/>
                </a:lnTo>
                <a:lnTo>
                  <a:pt x="101" y="20"/>
                </a:lnTo>
                <a:lnTo>
                  <a:pt x="94" y="21"/>
                </a:lnTo>
                <a:lnTo>
                  <a:pt x="88" y="22"/>
                </a:lnTo>
                <a:lnTo>
                  <a:pt x="81" y="19"/>
                </a:lnTo>
                <a:lnTo>
                  <a:pt x="76" y="2"/>
                </a:lnTo>
                <a:lnTo>
                  <a:pt x="70" y="0"/>
                </a:lnTo>
                <a:lnTo>
                  <a:pt x="63" y="4"/>
                </a:lnTo>
                <a:lnTo>
                  <a:pt x="56" y="11"/>
                </a:lnTo>
                <a:lnTo>
                  <a:pt x="50" y="18"/>
                </a:lnTo>
                <a:lnTo>
                  <a:pt x="47" y="33"/>
                </a:lnTo>
                <a:lnTo>
                  <a:pt x="50" y="46"/>
                </a:lnTo>
                <a:lnTo>
                  <a:pt x="62" y="50"/>
                </a:lnTo>
                <a:lnTo>
                  <a:pt x="63" y="51"/>
                </a:lnTo>
                <a:lnTo>
                  <a:pt x="64" y="54"/>
                </a:lnTo>
                <a:lnTo>
                  <a:pt x="58" y="61"/>
                </a:lnTo>
                <a:lnTo>
                  <a:pt x="48" y="64"/>
                </a:lnTo>
                <a:lnTo>
                  <a:pt x="38" y="66"/>
                </a:lnTo>
                <a:lnTo>
                  <a:pt x="27" y="66"/>
                </a:lnTo>
                <a:lnTo>
                  <a:pt x="20" y="63"/>
                </a:lnTo>
                <a:lnTo>
                  <a:pt x="14" y="61"/>
                </a:lnTo>
                <a:lnTo>
                  <a:pt x="8" y="58"/>
                </a:lnTo>
                <a:lnTo>
                  <a:pt x="4" y="54"/>
                </a:lnTo>
                <a:lnTo>
                  <a:pt x="4" y="52"/>
                </a:lnTo>
                <a:lnTo>
                  <a:pt x="4" y="49"/>
                </a:lnTo>
                <a:lnTo>
                  <a:pt x="14" y="47"/>
                </a:lnTo>
                <a:lnTo>
                  <a:pt x="23" y="46"/>
                </a:lnTo>
                <a:lnTo>
                  <a:pt x="20" y="39"/>
                </a:lnTo>
                <a:lnTo>
                  <a:pt x="17" y="29"/>
                </a:lnTo>
                <a:lnTo>
                  <a:pt x="8" y="37"/>
                </a:lnTo>
                <a:lnTo>
                  <a:pt x="0" y="49"/>
                </a:lnTo>
                <a:lnTo>
                  <a:pt x="5" y="101"/>
                </a:lnTo>
                <a:lnTo>
                  <a:pt x="10" y="154"/>
                </a:lnTo>
                <a:lnTo>
                  <a:pt x="22" y="204"/>
                </a:lnTo>
                <a:lnTo>
                  <a:pt x="50" y="245"/>
                </a:lnTo>
                <a:lnTo>
                  <a:pt x="59" y="251"/>
                </a:lnTo>
                <a:lnTo>
                  <a:pt x="64" y="258"/>
                </a:lnTo>
                <a:lnTo>
                  <a:pt x="62" y="263"/>
                </a:lnTo>
                <a:lnTo>
                  <a:pt x="59" y="266"/>
                </a:lnTo>
                <a:lnTo>
                  <a:pt x="39" y="253"/>
                </a:lnTo>
                <a:lnTo>
                  <a:pt x="39" y="293"/>
                </a:lnTo>
                <a:lnTo>
                  <a:pt x="38" y="296"/>
                </a:lnTo>
                <a:lnTo>
                  <a:pt x="36" y="299"/>
                </a:lnTo>
                <a:lnTo>
                  <a:pt x="31" y="300"/>
                </a:lnTo>
                <a:lnTo>
                  <a:pt x="23" y="300"/>
                </a:lnTo>
                <a:lnTo>
                  <a:pt x="21" y="267"/>
                </a:lnTo>
                <a:lnTo>
                  <a:pt x="16" y="279"/>
                </a:lnTo>
                <a:lnTo>
                  <a:pt x="17" y="299"/>
                </a:lnTo>
                <a:lnTo>
                  <a:pt x="59" y="325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4840" y="220680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8" y="10"/>
                </a:lnTo>
                <a:lnTo>
                  <a:pt x="0" y="0"/>
                </a:lnTo>
                <a:lnTo>
                  <a:pt x="8" y="12"/>
                </a:lnTo>
                <a:lnTo>
                  <a:pt x="16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9040" y="2122560"/>
            <a:ext cx="86040" cy="93600"/>
          </a:xfrm>
          <a:custGeom>
            <a:avLst/>
            <a:gdLst/>
            <a:ahLst/>
            <a:rect l="l" t="t" r="r" b="b"/>
            <a:pathLst>
              <a:path w="54" h="59">
                <a:moveTo>
                  <a:pt x="17" y="55"/>
                </a:moveTo>
                <a:lnTo>
                  <a:pt x="17" y="53"/>
                </a:lnTo>
                <a:lnTo>
                  <a:pt x="17" y="48"/>
                </a:lnTo>
                <a:lnTo>
                  <a:pt x="23" y="40"/>
                </a:lnTo>
                <a:lnTo>
                  <a:pt x="32" y="36"/>
                </a:lnTo>
                <a:lnTo>
                  <a:pt x="40" y="37"/>
                </a:lnTo>
                <a:lnTo>
                  <a:pt x="45" y="42"/>
                </a:lnTo>
                <a:lnTo>
                  <a:pt x="50" y="39"/>
                </a:lnTo>
                <a:lnTo>
                  <a:pt x="53" y="33"/>
                </a:lnTo>
                <a:lnTo>
                  <a:pt x="48" y="15"/>
                </a:lnTo>
                <a:lnTo>
                  <a:pt x="43" y="10"/>
                </a:lnTo>
                <a:lnTo>
                  <a:pt x="38" y="7"/>
                </a:lnTo>
                <a:lnTo>
                  <a:pt x="29" y="4"/>
                </a:lnTo>
                <a:lnTo>
                  <a:pt x="21" y="0"/>
                </a:lnTo>
                <a:lnTo>
                  <a:pt x="10" y="8"/>
                </a:lnTo>
                <a:lnTo>
                  <a:pt x="1" y="22"/>
                </a:lnTo>
                <a:lnTo>
                  <a:pt x="0" y="37"/>
                </a:lnTo>
                <a:lnTo>
                  <a:pt x="1" y="51"/>
                </a:lnTo>
                <a:lnTo>
                  <a:pt x="7" y="55"/>
                </a:lnTo>
                <a:lnTo>
                  <a:pt x="14" y="58"/>
                </a:lnTo>
                <a:lnTo>
                  <a:pt x="16" y="56"/>
                </a:lnTo>
                <a:lnTo>
                  <a:pt x="17" y="55"/>
                </a:lnTo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95680" y="2073240"/>
            <a:ext cx="98280" cy="106560"/>
          </a:xfrm>
          <a:custGeom>
            <a:avLst/>
            <a:gdLst/>
            <a:ahLst/>
            <a:rect l="l" t="t" r="r" b="b"/>
            <a:pathLst>
              <a:path w="62" h="67">
                <a:moveTo>
                  <a:pt x="8" y="66"/>
                </a:moveTo>
                <a:lnTo>
                  <a:pt x="25" y="62"/>
                </a:lnTo>
                <a:lnTo>
                  <a:pt x="26" y="52"/>
                </a:lnTo>
                <a:lnTo>
                  <a:pt x="31" y="41"/>
                </a:lnTo>
                <a:lnTo>
                  <a:pt x="38" y="31"/>
                </a:lnTo>
                <a:lnTo>
                  <a:pt x="48" y="25"/>
                </a:lnTo>
                <a:lnTo>
                  <a:pt x="53" y="22"/>
                </a:lnTo>
                <a:lnTo>
                  <a:pt x="58" y="19"/>
                </a:lnTo>
                <a:lnTo>
                  <a:pt x="59" y="17"/>
                </a:lnTo>
                <a:lnTo>
                  <a:pt x="61" y="14"/>
                </a:lnTo>
                <a:lnTo>
                  <a:pt x="61" y="9"/>
                </a:lnTo>
                <a:lnTo>
                  <a:pt x="58" y="5"/>
                </a:lnTo>
                <a:lnTo>
                  <a:pt x="51" y="1"/>
                </a:lnTo>
                <a:lnTo>
                  <a:pt x="42" y="0"/>
                </a:lnTo>
                <a:lnTo>
                  <a:pt x="33" y="0"/>
                </a:lnTo>
                <a:lnTo>
                  <a:pt x="26" y="4"/>
                </a:lnTo>
                <a:lnTo>
                  <a:pt x="15" y="15"/>
                </a:lnTo>
                <a:lnTo>
                  <a:pt x="7" y="28"/>
                </a:lnTo>
                <a:lnTo>
                  <a:pt x="1" y="42"/>
                </a:lnTo>
                <a:lnTo>
                  <a:pt x="0" y="58"/>
                </a:lnTo>
                <a:lnTo>
                  <a:pt x="3" y="63"/>
                </a:lnTo>
                <a:lnTo>
                  <a:pt x="8" y="66"/>
                </a:lnTo>
              </a:path>
            </a:pathLst>
          </a:cu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046240"/>
            <a:ext cx="39600" cy="71640"/>
          </a:xfrm>
          <a:custGeom>
            <a:avLst/>
            <a:gdLst/>
            <a:ahLst/>
            <a:rect l="l" t="t" r="r" b="b"/>
            <a:pathLst>
              <a:path w="25" h="45">
                <a:moveTo>
                  <a:pt x="6" y="43"/>
                </a:moveTo>
                <a:lnTo>
                  <a:pt x="24" y="7"/>
                </a:lnTo>
                <a:lnTo>
                  <a:pt x="23" y="3"/>
                </a:lnTo>
                <a:lnTo>
                  <a:pt x="21" y="0"/>
                </a:lnTo>
                <a:lnTo>
                  <a:pt x="0" y="37"/>
                </a:lnTo>
                <a:lnTo>
                  <a:pt x="0" y="40"/>
                </a:lnTo>
                <a:lnTo>
                  <a:pt x="3" y="44"/>
                </a:lnTo>
                <a:lnTo>
                  <a:pt x="4" y="43"/>
                </a:lnTo>
                <a:lnTo>
                  <a:pt x="6" y="43"/>
                </a:lnTo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84600" y="1954080"/>
            <a:ext cx="34920" cy="144720"/>
          </a:xfrm>
          <a:custGeom>
            <a:avLst/>
            <a:gdLst/>
            <a:ahLst/>
            <a:rect l="l" t="t" r="r" b="b"/>
            <a:pathLst>
              <a:path w="22" h="91">
                <a:moveTo>
                  <a:pt x="16" y="90"/>
                </a:moveTo>
                <a:lnTo>
                  <a:pt x="21" y="74"/>
                </a:lnTo>
                <a:lnTo>
                  <a:pt x="15" y="55"/>
                </a:lnTo>
                <a:lnTo>
                  <a:pt x="10" y="37"/>
                </a:lnTo>
                <a:lnTo>
                  <a:pt x="16" y="19"/>
                </a:lnTo>
                <a:lnTo>
                  <a:pt x="13" y="10"/>
                </a:lnTo>
                <a:lnTo>
                  <a:pt x="13" y="0"/>
                </a:lnTo>
                <a:lnTo>
                  <a:pt x="0" y="66"/>
                </a:lnTo>
                <a:lnTo>
                  <a:pt x="10" y="72"/>
                </a:lnTo>
                <a:lnTo>
                  <a:pt x="16" y="79"/>
                </a:lnTo>
                <a:lnTo>
                  <a:pt x="16" y="90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62480" y="20113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6" y="19"/>
                </a:moveTo>
                <a:lnTo>
                  <a:pt x="10" y="18"/>
                </a:lnTo>
                <a:lnTo>
                  <a:pt x="16" y="14"/>
                </a:lnTo>
                <a:lnTo>
                  <a:pt x="6" y="0"/>
                </a:lnTo>
                <a:lnTo>
                  <a:pt x="0" y="19"/>
                </a:lnTo>
                <a:lnTo>
                  <a:pt x="2" y="19"/>
                </a:lnTo>
                <a:lnTo>
                  <a:pt x="6" y="19"/>
                </a:lnTo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2200" y="2052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6"/>
                </a:moveTo>
                <a:lnTo>
                  <a:pt x="8" y="16"/>
                </a:lnTo>
                <a:lnTo>
                  <a:pt x="16" y="16"/>
                </a:lnTo>
                <a:lnTo>
                  <a:pt x="7" y="0"/>
                </a:ln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52840" y="196056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13" y="17"/>
                </a:moveTo>
                <a:lnTo>
                  <a:pt x="20" y="14"/>
                </a:lnTo>
                <a:lnTo>
                  <a:pt x="25" y="6"/>
                </a:lnTo>
                <a:lnTo>
                  <a:pt x="25" y="4"/>
                </a:lnTo>
                <a:lnTo>
                  <a:pt x="25" y="0"/>
                </a:lnTo>
                <a:lnTo>
                  <a:pt x="13" y="9"/>
                </a:lnTo>
                <a:lnTo>
                  <a:pt x="9" y="8"/>
                </a:lnTo>
                <a:lnTo>
                  <a:pt x="5" y="6"/>
                </a:lnTo>
                <a:lnTo>
                  <a:pt x="1" y="6"/>
                </a:lnTo>
                <a:lnTo>
                  <a:pt x="0" y="9"/>
                </a:lnTo>
                <a:lnTo>
                  <a:pt x="5" y="15"/>
                </a:lnTo>
                <a:lnTo>
                  <a:pt x="13" y="1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49520" y="191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16"/>
                </a:moveTo>
                <a:lnTo>
                  <a:pt x="10" y="0"/>
                </a:lnTo>
                <a:lnTo>
                  <a:pt x="0" y="6"/>
                </a:lnTo>
                <a:lnTo>
                  <a:pt x="4" y="14"/>
                </a:lnTo>
                <a:lnTo>
                  <a:pt x="8" y="16"/>
                </a:lnTo>
                <a:lnTo>
                  <a:pt x="16" y="18"/>
                </a:lnTo>
                <a:lnTo>
                  <a:pt x="16" y="17"/>
                </a:lnTo>
                <a:lnTo>
                  <a:pt x="16" y="16"/>
                </a:lnTo>
              </a:path>
            </a:pathLst>
          </a:custGeom>
          <a:solidFill>
            <a:srgbClr val="bd85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5880" y="1862280"/>
            <a:ext cx="108000" cy="74520"/>
          </a:xfrm>
          <a:custGeom>
            <a:avLst/>
            <a:gdLst/>
            <a:ahLst/>
            <a:rect l="l" t="t" r="r" b="b"/>
            <a:pathLst>
              <a:path w="68" h="47">
                <a:moveTo>
                  <a:pt x="57" y="46"/>
                </a:moveTo>
                <a:lnTo>
                  <a:pt x="59" y="45"/>
                </a:lnTo>
                <a:lnTo>
                  <a:pt x="59" y="44"/>
                </a:lnTo>
                <a:lnTo>
                  <a:pt x="65" y="37"/>
                </a:lnTo>
                <a:lnTo>
                  <a:pt x="67" y="26"/>
                </a:lnTo>
                <a:lnTo>
                  <a:pt x="60" y="16"/>
                </a:lnTo>
                <a:lnTo>
                  <a:pt x="50" y="9"/>
                </a:lnTo>
                <a:lnTo>
                  <a:pt x="40" y="3"/>
                </a:lnTo>
                <a:lnTo>
                  <a:pt x="31" y="0"/>
                </a:lnTo>
                <a:lnTo>
                  <a:pt x="19" y="4"/>
                </a:lnTo>
                <a:lnTo>
                  <a:pt x="10" y="10"/>
                </a:lnTo>
                <a:lnTo>
                  <a:pt x="4" y="18"/>
                </a:lnTo>
                <a:lnTo>
                  <a:pt x="0" y="26"/>
                </a:lnTo>
                <a:lnTo>
                  <a:pt x="3" y="37"/>
                </a:lnTo>
                <a:lnTo>
                  <a:pt x="57" y="46"/>
                </a:lnTo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49600" y="1862280"/>
            <a:ext cx="27000" cy="69840"/>
          </a:xfrm>
          <a:custGeom>
            <a:avLst/>
            <a:gdLst/>
            <a:ahLst/>
            <a:rect l="l" t="t" r="r" b="b"/>
            <a:pathLst>
              <a:path w="17" h="44">
                <a:moveTo>
                  <a:pt x="12" y="43"/>
                </a:moveTo>
                <a:lnTo>
                  <a:pt x="14" y="42"/>
                </a:lnTo>
                <a:lnTo>
                  <a:pt x="14" y="41"/>
                </a:lnTo>
                <a:lnTo>
                  <a:pt x="16" y="20"/>
                </a:lnTo>
                <a:lnTo>
                  <a:pt x="4" y="0"/>
                </a:lnTo>
                <a:lnTo>
                  <a:pt x="2" y="1"/>
                </a:lnTo>
                <a:lnTo>
                  <a:pt x="0" y="2"/>
                </a:lnTo>
                <a:lnTo>
                  <a:pt x="10" y="43"/>
                </a:lnTo>
                <a:lnTo>
                  <a:pt x="11" y="43"/>
                </a:lnTo>
                <a:lnTo>
                  <a:pt x="12" y="4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27440" y="1844640"/>
            <a:ext cx="44640" cy="84240"/>
          </a:xfrm>
          <a:custGeom>
            <a:avLst/>
            <a:gdLst/>
            <a:ahLst/>
            <a:rect l="l" t="t" r="r" b="b"/>
            <a:pathLst>
              <a:path w="28" h="53">
                <a:moveTo>
                  <a:pt x="2" y="52"/>
                </a:moveTo>
                <a:lnTo>
                  <a:pt x="4" y="52"/>
                </a:lnTo>
                <a:lnTo>
                  <a:pt x="5" y="52"/>
                </a:lnTo>
                <a:lnTo>
                  <a:pt x="5" y="38"/>
                </a:lnTo>
                <a:lnTo>
                  <a:pt x="9" y="25"/>
                </a:lnTo>
                <a:lnTo>
                  <a:pt x="16" y="14"/>
                </a:lnTo>
                <a:lnTo>
                  <a:pt x="27" y="4"/>
                </a:lnTo>
                <a:lnTo>
                  <a:pt x="25" y="1"/>
                </a:lnTo>
                <a:lnTo>
                  <a:pt x="22" y="0"/>
                </a:lnTo>
                <a:lnTo>
                  <a:pt x="13" y="8"/>
                </a:lnTo>
                <a:lnTo>
                  <a:pt x="6" y="21"/>
                </a:lnTo>
                <a:lnTo>
                  <a:pt x="2" y="36"/>
                </a:lnTo>
                <a:lnTo>
                  <a:pt x="0" y="51"/>
                </a:lnTo>
                <a:lnTo>
                  <a:pt x="1" y="52"/>
                </a:lnTo>
                <a:lnTo>
                  <a:pt x="2" y="52"/>
                </a:lnTo>
              </a:path>
            </a:pathLst>
          </a:custGeom>
          <a:solidFill>
            <a:srgbClr val="c0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87680" y="1844640"/>
            <a:ext cx="54000" cy="63360"/>
          </a:xfrm>
          <a:custGeom>
            <a:avLst/>
            <a:gdLst/>
            <a:ahLst/>
            <a:rect l="l" t="t" r="r" b="b"/>
            <a:pathLst>
              <a:path w="34" h="40">
                <a:moveTo>
                  <a:pt x="21" y="39"/>
                </a:moveTo>
                <a:lnTo>
                  <a:pt x="27" y="36"/>
                </a:lnTo>
                <a:lnTo>
                  <a:pt x="33" y="32"/>
                </a:lnTo>
                <a:lnTo>
                  <a:pt x="31" y="13"/>
                </a:lnTo>
                <a:lnTo>
                  <a:pt x="18" y="0"/>
                </a:lnTo>
                <a:lnTo>
                  <a:pt x="8" y="4"/>
                </a:lnTo>
                <a:lnTo>
                  <a:pt x="0" y="14"/>
                </a:lnTo>
                <a:lnTo>
                  <a:pt x="2" y="17"/>
                </a:lnTo>
                <a:lnTo>
                  <a:pt x="4" y="18"/>
                </a:lnTo>
                <a:lnTo>
                  <a:pt x="15" y="9"/>
                </a:lnTo>
                <a:lnTo>
                  <a:pt x="22" y="13"/>
                </a:lnTo>
                <a:lnTo>
                  <a:pt x="28" y="23"/>
                </a:lnTo>
                <a:lnTo>
                  <a:pt x="25" y="29"/>
                </a:lnTo>
                <a:lnTo>
                  <a:pt x="18" y="32"/>
                </a:lnTo>
                <a:lnTo>
                  <a:pt x="4" y="27"/>
                </a:lnTo>
                <a:lnTo>
                  <a:pt x="3" y="28"/>
                </a:lnTo>
                <a:lnTo>
                  <a:pt x="2" y="32"/>
                </a:lnTo>
                <a:lnTo>
                  <a:pt x="10" y="36"/>
                </a:lnTo>
                <a:lnTo>
                  <a:pt x="20" y="39"/>
                </a:lnTo>
                <a:lnTo>
                  <a:pt x="21" y="3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98920" y="1835280"/>
            <a:ext cx="58680" cy="60120"/>
          </a:xfrm>
          <a:custGeom>
            <a:avLst/>
            <a:gdLst/>
            <a:ahLst/>
            <a:rect l="l" t="t" r="r" b="b"/>
            <a:pathLst>
              <a:path w="37" h="38">
                <a:moveTo>
                  <a:pt x="15" y="37"/>
                </a:moveTo>
                <a:lnTo>
                  <a:pt x="32" y="33"/>
                </a:lnTo>
                <a:lnTo>
                  <a:pt x="34" y="30"/>
                </a:lnTo>
                <a:lnTo>
                  <a:pt x="33" y="27"/>
                </a:lnTo>
                <a:lnTo>
                  <a:pt x="6" y="23"/>
                </a:lnTo>
                <a:lnTo>
                  <a:pt x="11" y="15"/>
                </a:lnTo>
                <a:lnTo>
                  <a:pt x="18" y="10"/>
                </a:lnTo>
                <a:lnTo>
                  <a:pt x="32" y="17"/>
                </a:lnTo>
                <a:lnTo>
                  <a:pt x="33" y="15"/>
                </a:lnTo>
                <a:lnTo>
                  <a:pt x="36" y="14"/>
                </a:lnTo>
                <a:lnTo>
                  <a:pt x="29" y="6"/>
                </a:lnTo>
                <a:lnTo>
                  <a:pt x="22" y="0"/>
                </a:lnTo>
                <a:lnTo>
                  <a:pt x="9" y="6"/>
                </a:lnTo>
                <a:lnTo>
                  <a:pt x="0" y="17"/>
                </a:lnTo>
                <a:lnTo>
                  <a:pt x="4" y="23"/>
                </a:lnTo>
                <a:lnTo>
                  <a:pt x="6" y="32"/>
                </a:lnTo>
                <a:lnTo>
                  <a:pt x="10" y="36"/>
                </a:lnTo>
                <a:lnTo>
                  <a:pt x="15" y="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8480" y="1625760"/>
            <a:ext cx="312480" cy="226800"/>
          </a:xfrm>
          <a:custGeom>
            <a:avLst/>
            <a:gdLst/>
            <a:ahLst/>
            <a:rect l="l" t="t" r="r" b="b"/>
            <a:pathLst>
              <a:path w="197" h="143">
                <a:moveTo>
                  <a:pt x="28" y="141"/>
                </a:moveTo>
                <a:lnTo>
                  <a:pt x="26" y="126"/>
                </a:lnTo>
                <a:lnTo>
                  <a:pt x="27" y="111"/>
                </a:lnTo>
                <a:lnTo>
                  <a:pt x="45" y="85"/>
                </a:lnTo>
                <a:lnTo>
                  <a:pt x="52" y="80"/>
                </a:lnTo>
                <a:lnTo>
                  <a:pt x="60" y="77"/>
                </a:lnTo>
                <a:lnTo>
                  <a:pt x="69" y="99"/>
                </a:lnTo>
                <a:lnTo>
                  <a:pt x="75" y="87"/>
                </a:lnTo>
                <a:lnTo>
                  <a:pt x="83" y="73"/>
                </a:lnTo>
                <a:lnTo>
                  <a:pt x="93" y="62"/>
                </a:lnTo>
                <a:lnTo>
                  <a:pt x="107" y="56"/>
                </a:lnTo>
                <a:lnTo>
                  <a:pt x="112" y="56"/>
                </a:lnTo>
                <a:lnTo>
                  <a:pt x="116" y="54"/>
                </a:lnTo>
                <a:lnTo>
                  <a:pt x="126" y="62"/>
                </a:lnTo>
                <a:lnTo>
                  <a:pt x="134" y="75"/>
                </a:lnTo>
                <a:lnTo>
                  <a:pt x="156" y="77"/>
                </a:lnTo>
                <a:lnTo>
                  <a:pt x="166" y="87"/>
                </a:lnTo>
                <a:lnTo>
                  <a:pt x="172" y="98"/>
                </a:lnTo>
                <a:lnTo>
                  <a:pt x="177" y="114"/>
                </a:lnTo>
                <a:lnTo>
                  <a:pt x="182" y="129"/>
                </a:lnTo>
                <a:lnTo>
                  <a:pt x="186" y="105"/>
                </a:lnTo>
                <a:lnTo>
                  <a:pt x="193" y="81"/>
                </a:lnTo>
                <a:lnTo>
                  <a:pt x="196" y="57"/>
                </a:lnTo>
                <a:lnTo>
                  <a:pt x="189" y="35"/>
                </a:lnTo>
                <a:lnTo>
                  <a:pt x="184" y="31"/>
                </a:lnTo>
                <a:lnTo>
                  <a:pt x="182" y="31"/>
                </a:lnTo>
                <a:lnTo>
                  <a:pt x="159" y="34"/>
                </a:lnTo>
                <a:lnTo>
                  <a:pt x="155" y="34"/>
                </a:lnTo>
                <a:lnTo>
                  <a:pt x="150" y="31"/>
                </a:lnTo>
                <a:lnTo>
                  <a:pt x="146" y="22"/>
                </a:lnTo>
                <a:lnTo>
                  <a:pt x="142" y="12"/>
                </a:lnTo>
                <a:lnTo>
                  <a:pt x="135" y="4"/>
                </a:lnTo>
                <a:lnTo>
                  <a:pt x="124" y="0"/>
                </a:lnTo>
                <a:lnTo>
                  <a:pt x="112" y="4"/>
                </a:lnTo>
                <a:lnTo>
                  <a:pt x="111" y="8"/>
                </a:lnTo>
                <a:lnTo>
                  <a:pt x="108" y="14"/>
                </a:lnTo>
                <a:lnTo>
                  <a:pt x="102" y="17"/>
                </a:lnTo>
                <a:lnTo>
                  <a:pt x="92" y="17"/>
                </a:lnTo>
                <a:lnTo>
                  <a:pt x="78" y="26"/>
                </a:lnTo>
                <a:lnTo>
                  <a:pt x="75" y="26"/>
                </a:lnTo>
                <a:lnTo>
                  <a:pt x="71" y="26"/>
                </a:lnTo>
                <a:lnTo>
                  <a:pt x="62" y="4"/>
                </a:lnTo>
                <a:lnTo>
                  <a:pt x="60" y="4"/>
                </a:lnTo>
                <a:lnTo>
                  <a:pt x="57" y="4"/>
                </a:lnTo>
                <a:lnTo>
                  <a:pt x="43" y="17"/>
                </a:lnTo>
                <a:lnTo>
                  <a:pt x="44" y="21"/>
                </a:lnTo>
                <a:lnTo>
                  <a:pt x="44" y="26"/>
                </a:lnTo>
                <a:lnTo>
                  <a:pt x="30" y="34"/>
                </a:lnTo>
                <a:lnTo>
                  <a:pt x="21" y="48"/>
                </a:lnTo>
                <a:lnTo>
                  <a:pt x="11" y="62"/>
                </a:lnTo>
                <a:lnTo>
                  <a:pt x="4" y="77"/>
                </a:lnTo>
                <a:lnTo>
                  <a:pt x="0" y="95"/>
                </a:lnTo>
                <a:lnTo>
                  <a:pt x="6" y="108"/>
                </a:lnTo>
                <a:lnTo>
                  <a:pt x="14" y="119"/>
                </a:lnTo>
                <a:lnTo>
                  <a:pt x="20" y="130"/>
                </a:lnTo>
                <a:lnTo>
                  <a:pt x="27" y="142"/>
                </a:lnTo>
                <a:lnTo>
                  <a:pt x="28" y="1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8280" y="1803240"/>
            <a:ext cx="4932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4" y="16"/>
                </a:moveTo>
                <a:lnTo>
                  <a:pt x="11" y="14"/>
                </a:lnTo>
                <a:lnTo>
                  <a:pt x="17" y="12"/>
                </a:lnTo>
                <a:lnTo>
                  <a:pt x="24" y="10"/>
                </a:lnTo>
                <a:lnTo>
                  <a:pt x="30" y="4"/>
                </a:lnTo>
                <a:lnTo>
                  <a:pt x="30" y="2"/>
                </a:lnTo>
                <a:lnTo>
                  <a:pt x="27" y="0"/>
                </a:lnTo>
                <a:lnTo>
                  <a:pt x="0" y="14"/>
                </a:lnTo>
                <a:lnTo>
                  <a:pt x="1" y="16"/>
                </a:lnTo>
                <a:lnTo>
                  <a:pt x="4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49600" y="3063960"/>
            <a:ext cx="606600" cy="298440"/>
          </a:xfrm>
          <a:custGeom>
            <a:avLst/>
            <a:gdLst/>
            <a:ahLst/>
            <a:rect l="l" t="t" r="r" b="b"/>
            <a:pathLst>
              <a:path w="382" h="188">
                <a:moveTo>
                  <a:pt x="170" y="187"/>
                </a:moveTo>
                <a:lnTo>
                  <a:pt x="378" y="148"/>
                </a:lnTo>
                <a:lnTo>
                  <a:pt x="380" y="145"/>
                </a:lnTo>
                <a:lnTo>
                  <a:pt x="381" y="141"/>
                </a:lnTo>
                <a:lnTo>
                  <a:pt x="206" y="0"/>
                </a:lnTo>
                <a:lnTo>
                  <a:pt x="1" y="27"/>
                </a:lnTo>
                <a:lnTo>
                  <a:pt x="0" y="35"/>
                </a:lnTo>
                <a:lnTo>
                  <a:pt x="9" y="43"/>
                </a:lnTo>
                <a:lnTo>
                  <a:pt x="31" y="61"/>
                </a:lnTo>
                <a:lnTo>
                  <a:pt x="51" y="79"/>
                </a:lnTo>
                <a:lnTo>
                  <a:pt x="72" y="98"/>
                </a:lnTo>
                <a:lnTo>
                  <a:pt x="91" y="117"/>
                </a:lnTo>
                <a:lnTo>
                  <a:pt x="111" y="135"/>
                </a:lnTo>
                <a:lnTo>
                  <a:pt x="130" y="154"/>
                </a:lnTo>
                <a:lnTo>
                  <a:pt x="150" y="171"/>
                </a:lnTo>
                <a:lnTo>
                  <a:pt x="170" y="18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73720" y="3083040"/>
            <a:ext cx="552240" cy="264960"/>
          </a:xfrm>
          <a:custGeom>
            <a:avLst/>
            <a:gdLst/>
            <a:ahLst/>
            <a:rect l="l" t="t" r="r" b="b"/>
            <a:pathLst>
              <a:path w="348" h="167">
                <a:moveTo>
                  <a:pt x="162" y="166"/>
                </a:moveTo>
                <a:lnTo>
                  <a:pt x="347" y="128"/>
                </a:lnTo>
                <a:lnTo>
                  <a:pt x="187" y="0"/>
                </a:lnTo>
                <a:lnTo>
                  <a:pt x="0" y="24"/>
                </a:lnTo>
                <a:lnTo>
                  <a:pt x="161" y="166"/>
                </a:lnTo>
                <a:lnTo>
                  <a:pt x="162" y="166"/>
                </a:lnTo>
              </a:path>
            </a:pathLst>
          </a:cu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9840" y="2859120"/>
            <a:ext cx="714240" cy="317520"/>
          </a:xfrm>
          <a:custGeom>
            <a:avLst/>
            <a:gdLst/>
            <a:ahLst/>
            <a:rect l="l" t="t" r="r" b="b"/>
            <a:pathLst>
              <a:path w="450" h="200">
                <a:moveTo>
                  <a:pt x="81" y="199"/>
                </a:moveTo>
                <a:lnTo>
                  <a:pt x="100" y="198"/>
                </a:lnTo>
                <a:lnTo>
                  <a:pt x="119" y="196"/>
                </a:lnTo>
                <a:lnTo>
                  <a:pt x="139" y="193"/>
                </a:lnTo>
                <a:lnTo>
                  <a:pt x="159" y="191"/>
                </a:lnTo>
                <a:lnTo>
                  <a:pt x="178" y="189"/>
                </a:lnTo>
                <a:lnTo>
                  <a:pt x="198" y="189"/>
                </a:lnTo>
                <a:lnTo>
                  <a:pt x="217" y="192"/>
                </a:lnTo>
                <a:lnTo>
                  <a:pt x="235" y="198"/>
                </a:lnTo>
                <a:lnTo>
                  <a:pt x="252" y="196"/>
                </a:lnTo>
                <a:lnTo>
                  <a:pt x="268" y="194"/>
                </a:lnTo>
                <a:lnTo>
                  <a:pt x="284" y="192"/>
                </a:lnTo>
                <a:lnTo>
                  <a:pt x="300" y="188"/>
                </a:lnTo>
                <a:lnTo>
                  <a:pt x="318" y="185"/>
                </a:lnTo>
                <a:lnTo>
                  <a:pt x="337" y="183"/>
                </a:lnTo>
                <a:lnTo>
                  <a:pt x="356" y="179"/>
                </a:lnTo>
                <a:lnTo>
                  <a:pt x="374" y="177"/>
                </a:lnTo>
                <a:lnTo>
                  <a:pt x="394" y="175"/>
                </a:lnTo>
                <a:lnTo>
                  <a:pt x="412" y="171"/>
                </a:lnTo>
                <a:lnTo>
                  <a:pt x="430" y="168"/>
                </a:lnTo>
                <a:lnTo>
                  <a:pt x="449" y="163"/>
                </a:lnTo>
                <a:lnTo>
                  <a:pt x="433" y="144"/>
                </a:lnTo>
                <a:lnTo>
                  <a:pt x="417" y="122"/>
                </a:lnTo>
                <a:lnTo>
                  <a:pt x="398" y="103"/>
                </a:lnTo>
                <a:lnTo>
                  <a:pt x="380" y="83"/>
                </a:lnTo>
                <a:lnTo>
                  <a:pt x="361" y="63"/>
                </a:lnTo>
                <a:lnTo>
                  <a:pt x="341" y="43"/>
                </a:lnTo>
                <a:lnTo>
                  <a:pt x="321" y="24"/>
                </a:lnTo>
                <a:lnTo>
                  <a:pt x="303" y="5"/>
                </a:lnTo>
                <a:lnTo>
                  <a:pt x="194" y="17"/>
                </a:lnTo>
                <a:lnTo>
                  <a:pt x="188" y="9"/>
                </a:lnTo>
                <a:lnTo>
                  <a:pt x="183" y="0"/>
                </a:lnTo>
                <a:lnTo>
                  <a:pt x="0" y="8"/>
                </a:lnTo>
                <a:lnTo>
                  <a:pt x="79" y="198"/>
                </a:lnTo>
                <a:lnTo>
                  <a:pt x="80" y="198"/>
                </a:lnTo>
                <a:lnTo>
                  <a:pt x="81" y="1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98920" y="2873520"/>
            <a:ext cx="301680" cy="288720"/>
          </a:xfrm>
          <a:custGeom>
            <a:avLst/>
            <a:gdLst/>
            <a:ahLst/>
            <a:rect l="l" t="t" r="r" b="b"/>
            <a:pathLst>
              <a:path w="190" h="182">
                <a:moveTo>
                  <a:pt x="77" y="181"/>
                </a:moveTo>
                <a:lnTo>
                  <a:pt x="189" y="170"/>
                </a:lnTo>
                <a:lnTo>
                  <a:pt x="62" y="24"/>
                </a:lnTo>
                <a:lnTo>
                  <a:pt x="84" y="15"/>
                </a:lnTo>
                <a:lnTo>
                  <a:pt x="109" y="10"/>
                </a:lnTo>
                <a:lnTo>
                  <a:pt x="137" y="10"/>
                </a:lnTo>
                <a:lnTo>
                  <a:pt x="163" y="9"/>
                </a:lnTo>
                <a:lnTo>
                  <a:pt x="164" y="5"/>
                </a:lnTo>
                <a:lnTo>
                  <a:pt x="162" y="0"/>
                </a:lnTo>
                <a:lnTo>
                  <a:pt x="0" y="9"/>
                </a:lnTo>
                <a:lnTo>
                  <a:pt x="75" y="181"/>
                </a:lnTo>
                <a:lnTo>
                  <a:pt x="76" y="181"/>
                </a:lnTo>
                <a:lnTo>
                  <a:pt x="77" y="181"/>
                </a:lnTo>
              </a:path>
            </a:pathLst>
          </a:cu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0680" y="2882880"/>
            <a:ext cx="533520" cy="277920"/>
          </a:xfrm>
          <a:custGeom>
            <a:avLst/>
            <a:gdLst/>
            <a:ahLst/>
            <a:rect l="l" t="t" r="r" b="b"/>
            <a:pathLst>
              <a:path w="336" h="175">
                <a:moveTo>
                  <a:pt x="146" y="174"/>
                </a:moveTo>
                <a:lnTo>
                  <a:pt x="335" y="143"/>
                </a:lnTo>
                <a:lnTo>
                  <a:pt x="320" y="125"/>
                </a:lnTo>
                <a:lnTo>
                  <a:pt x="304" y="105"/>
                </a:lnTo>
                <a:lnTo>
                  <a:pt x="289" y="86"/>
                </a:lnTo>
                <a:lnTo>
                  <a:pt x="272" y="68"/>
                </a:lnTo>
                <a:lnTo>
                  <a:pt x="255" y="49"/>
                </a:lnTo>
                <a:lnTo>
                  <a:pt x="238" y="31"/>
                </a:lnTo>
                <a:lnTo>
                  <a:pt x="219" y="15"/>
                </a:lnTo>
                <a:lnTo>
                  <a:pt x="202" y="0"/>
                </a:lnTo>
                <a:lnTo>
                  <a:pt x="176" y="3"/>
                </a:lnTo>
                <a:lnTo>
                  <a:pt x="150" y="6"/>
                </a:lnTo>
                <a:lnTo>
                  <a:pt x="125" y="8"/>
                </a:lnTo>
                <a:lnTo>
                  <a:pt x="100" y="10"/>
                </a:lnTo>
                <a:lnTo>
                  <a:pt x="75" y="13"/>
                </a:lnTo>
                <a:lnTo>
                  <a:pt x="51" y="15"/>
                </a:lnTo>
                <a:lnTo>
                  <a:pt x="25" y="17"/>
                </a:lnTo>
                <a:lnTo>
                  <a:pt x="0" y="20"/>
                </a:lnTo>
                <a:lnTo>
                  <a:pt x="14" y="37"/>
                </a:lnTo>
                <a:lnTo>
                  <a:pt x="29" y="55"/>
                </a:lnTo>
                <a:lnTo>
                  <a:pt x="45" y="74"/>
                </a:lnTo>
                <a:lnTo>
                  <a:pt x="62" y="92"/>
                </a:lnTo>
                <a:lnTo>
                  <a:pt x="79" y="110"/>
                </a:lnTo>
                <a:lnTo>
                  <a:pt x="97" y="129"/>
                </a:lnTo>
                <a:lnTo>
                  <a:pt x="115" y="148"/>
                </a:lnTo>
                <a:lnTo>
                  <a:pt x="132" y="166"/>
                </a:lnTo>
                <a:lnTo>
                  <a:pt x="137" y="171"/>
                </a:lnTo>
                <a:lnTo>
                  <a:pt x="142" y="174"/>
                </a:lnTo>
                <a:lnTo>
                  <a:pt x="144" y="174"/>
                </a:lnTo>
                <a:lnTo>
                  <a:pt x="146" y="17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8400" y="1998720"/>
            <a:ext cx="1503360" cy="1411200"/>
            <a:chOff x="2138400" y="1998720"/>
            <a:chExt cx="1503360" cy="1411200"/>
          </a:xfrm>
        </p:grpSpPr>
        <p:sp>
          <p:nvSpPr>
            <p:cNvPr id="153" name=""/>
            <p:cNvSpPr/>
            <p:nvPr/>
          </p:nvSpPr>
          <p:spPr>
            <a:xfrm>
              <a:off x="2360520" y="2722680"/>
              <a:ext cx="549360" cy="58680"/>
            </a:xfrm>
            <a:custGeom>
              <a:avLst/>
              <a:gdLst/>
              <a:ahLst/>
              <a:rect l="l" t="t" r="r" b="b"/>
              <a:pathLst>
                <a:path w="346" h="37">
                  <a:moveTo>
                    <a:pt x="253" y="0"/>
                  </a:moveTo>
                  <a:lnTo>
                    <a:pt x="253" y="14"/>
                  </a:lnTo>
                  <a:lnTo>
                    <a:pt x="245" y="17"/>
                  </a:lnTo>
                  <a:lnTo>
                    <a:pt x="237" y="19"/>
                  </a:lnTo>
                  <a:lnTo>
                    <a:pt x="227" y="20"/>
                  </a:lnTo>
                  <a:lnTo>
                    <a:pt x="216" y="21"/>
                  </a:lnTo>
                  <a:lnTo>
                    <a:pt x="207" y="22"/>
                  </a:lnTo>
                  <a:lnTo>
                    <a:pt x="198" y="23"/>
                  </a:lnTo>
                  <a:lnTo>
                    <a:pt x="189" y="23"/>
                  </a:lnTo>
                  <a:lnTo>
                    <a:pt x="179" y="23"/>
                  </a:lnTo>
                  <a:lnTo>
                    <a:pt x="167" y="23"/>
                  </a:lnTo>
                  <a:lnTo>
                    <a:pt x="157" y="23"/>
                  </a:lnTo>
                  <a:lnTo>
                    <a:pt x="147" y="23"/>
                  </a:lnTo>
                  <a:lnTo>
                    <a:pt x="134" y="22"/>
                  </a:lnTo>
                  <a:lnTo>
                    <a:pt x="124" y="21"/>
                  </a:lnTo>
                  <a:lnTo>
                    <a:pt x="118" y="19"/>
                  </a:lnTo>
                  <a:lnTo>
                    <a:pt x="118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9" y="2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06" y="36"/>
                  </a:lnTo>
                  <a:lnTo>
                    <a:pt x="345" y="19"/>
                  </a:lnTo>
                  <a:lnTo>
                    <a:pt x="2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0520" y="2722680"/>
              <a:ext cx="549360" cy="98280"/>
            </a:xfrm>
            <a:custGeom>
              <a:avLst/>
              <a:gdLst/>
              <a:ahLst/>
              <a:rect l="l" t="t" r="r" b="b"/>
              <a:pathLst>
                <a:path w="346" h="62">
                  <a:moveTo>
                    <a:pt x="345" y="19"/>
                  </a:moveTo>
                  <a:lnTo>
                    <a:pt x="345" y="42"/>
                  </a:lnTo>
                  <a:lnTo>
                    <a:pt x="106" y="61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06" y="36"/>
                  </a:lnTo>
                  <a:lnTo>
                    <a:pt x="345" y="19"/>
                  </a:lnTo>
                  <a:lnTo>
                    <a:pt x="253" y="0"/>
                  </a:lnTo>
                  <a:lnTo>
                    <a:pt x="345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76360" y="2016000"/>
              <a:ext cx="711360" cy="601920"/>
            </a:xfrm>
            <a:custGeom>
              <a:avLst/>
              <a:gdLst/>
              <a:ahLst/>
              <a:rect l="l" t="t" r="r" b="b"/>
              <a:pathLst>
                <a:path w="448" h="379">
                  <a:moveTo>
                    <a:pt x="433" y="366"/>
                  </a:moveTo>
                  <a:lnTo>
                    <a:pt x="438" y="364"/>
                  </a:lnTo>
                  <a:lnTo>
                    <a:pt x="444" y="359"/>
                  </a:lnTo>
                  <a:lnTo>
                    <a:pt x="447" y="353"/>
                  </a:lnTo>
                  <a:lnTo>
                    <a:pt x="447" y="346"/>
                  </a:lnTo>
                  <a:lnTo>
                    <a:pt x="402" y="48"/>
                  </a:lnTo>
                  <a:lnTo>
                    <a:pt x="400" y="42"/>
                  </a:lnTo>
                  <a:lnTo>
                    <a:pt x="396" y="38"/>
                  </a:lnTo>
                  <a:lnTo>
                    <a:pt x="391" y="36"/>
                  </a:lnTo>
                  <a:lnTo>
                    <a:pt x="385" y="3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52" y="362"/>
                  </a:lnTo>
                  <a:lnTo>
                    <a:pt x="54" y="370"/>
                  </a:lnTo>
                  <a:lnTo>
                    <a:pt x="59" y="375"/>
                  </a:lnTo>
                  <a:lnTo>
                    <a:pt x="66" y="378"/>
                  </a:lnTo>
                  <a:lnTo>
                    <a:pt x="76" y="378"/>
                  </a:lnTo>
                  <a:lnTo>
                    <a:pt x="433" y="367"/>
                  </a:lnTo>
                  <a:lnTo>
                    <a:pt x="433" y="3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2440" y="2800440"/>
              <a:ext cx="719280" cy="285840"/>
            </a:xfrm>
            <a:custGeom>
              <a:avLst/>
              <a:gdLst/>
              <a:ahLst/>
              <a:rect l="l" t="t" r="r" b="b"/>
              <a:pathLst>
                <a:path w="453" h="180">
                  <a:moveTo>
                    <a:pt x="452" y="119"/>
                  </a:moveTo>
                  <a:lnTo>
                    <a:pt x="452" y="0"/>
                  </a:lnTo>
                  <a:lnTo>
                    <a:pt x="0" y="38"/>
                  </a:lnTo>
                  <a:lnTo>
                    <a:pt x="0" y="179"/>
                  </a:lnTo>
                  <a:lnTo>
                    <a:pt x="452" y="1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55680" y="2752560"/>
              <a:ext cx="268560" cy="341640"/>
            </a:xfrm>
            <a:custGeom>
              <a:avLst/>
              <a:gdLst/>
              <a:ahLst/>
              <a:rect l="l" t="t" r="r" b="b"/>
              <a:pathLst>
                <a:path w="169" h="215">
                  <a:moveTo>
                    <a:pt x="168" y="68"/>
                  </a:moveTo>
                  <a:lnTo>
                    <a:pt x="168" y="209"/>
                  </a:lnTo>
                  <a:lnTo>
                    <a:pt x="114" y="214"/>
                  </a:lnTo>
                  <a:lnTo>
                    <a:pt x="0" y="142"/>
                  </a:lnTo>
                  <a:lnTo>
                    <a:pt x="0" y="0"/>
                  </a:lnTo>
                  <a:lnTo>
                    <a:pt x="167" y="68"/>
                  </a:lnTo>
                  <a:lnTo>
                    <a:pt x="168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5680" y="2741760"/>
              <a:ext cx="986040" cy="120600"/>
            </a:xfrm>
            <a:custGeom>
              <a:avLst/>
              <a:gdLst/>
              <a:ahLst/>
              <a:rect l="l" t="t" r="r" b="b"/>
              <a:pathLst>
                <a:path w="621" h="76">
                  <a:moveTo>
                    <a:pt x="167" y="75"/>
                  </a:moveTo>
                  <a:lnTo>
                    <a:pt x="0" y="7"/>
                  </a:lnTo>
                  <a:lnTo>
                    <a:pt x="129" y="0"/>
                  </a:lnTo>
                  <a:lnTo>
                    <a:pt x="129" y="14"/>
                  </a:lnTo>
                  <a:lnTo>
                    <a:pt x="235" y="49"/>
                  </a:lnTo>
                  <a:lnTo>
                    <a:pt x="474" y="30"/>
                  </a:lnTo>
                  <a:lnTo>
                    <a:pt x="474" y="7"/>
                  </a:lnTo>
                  <a:lnTo>
                    <a:pt x="620" y="37"/>
                  </a:lnTo>
                  <a:lnTo>
                    <a:pt x="168" y="75"/>
                  </a:lnTo>
                  <a:lnTo>
                    <a:pt x="167" y="7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6680" y="2660760"/>
              <a:ext cx="317520" cy="81000"/>
            </a:xfrm>
            <a:custGeom>
              <a:avLst/>
              <a:gdLst/>
              <a:ahLst/>
              <a:rect l="l" t="t" r="r" b="b"/>
              <a:pathLst>
                <a:path w="200" h="51">
                  <a:moveTo>
                    <a:pt x="25" y="13"/>
                  </a:moveTo>
                  <a:lnTo>
                    <a:pt x="35" y="9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195" y="7"/>
                  </a:lnTo>
                  <a:lnTo>
                    <a:pt x="190" y="15"/>
                  </a:lnTo>
                  <a:lnTo>
                    <a:pt x="183" y="21"/>
                  </a:lnTo>
                  <a:lnTo>
                    <a:pt x="176" y="28"/>
                  </a:lnTo>
                  <a:lnTo>
                    <a:pt x="173" y="30"/>
                  </a:lnTo>
                  <a:lnTo>
                    <a:pt x="168" y="33"/>
                  </a:lnTo>
                  <a:lnTo>
                    <a:pt x="161" y="37"/>
                  </a:lnTo>
                  <a:lnTo>
                    <a:pt x="153" y="39"/>
                  </a:lnTo>
                  <a:lnTo>
                    <a:pt x="146" y="40"/>
                  </a:lnTo>
                  <a:lnTo>
                    <a:pt x="138" y="41"/>
                  </a:lnTo>
                  <a:lnTo>
                    <a:pt x="131" y="42"/>
                  </a:lnTo>
                  <a:lnTo>
                    <a:pt x="121" y="42"/>
                  </a:lnTo>
                  <a:lnTo>
                    <a:pt x="111" y="43"/>
                  </a:lnTo>
                  <a:lnTo>
                    <a:pt x="99" y="44"/>
                  </a:lnTo>
                  <a:lnTo>
                    <a:pt x="87" y="44"/>
                  </a:lnTo>
                  <a:lnTo>
                    <a:pt x="75" y="44"/>
                  </a:lnTo>
                  <a:lnTo>
                    <a:pt x="63" y="44"/>
                  </a:lnTo>
                  <a:lnTo>
                    <a:pt x="51" y="43"/>
                  </a:lnTo>
                  <a:lnTo>
                    <a:pt x="39" y="43"/>
                  </a:lnTo>
                  <a:lnTo>
                    <a:pt x="26" y="50"/>
                  </a:lnTo>
                  <a:lnTo>
                    <a:pt x="17" y="46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25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05080" y="2665440"/>
              <a:ext cx="204840" cy="61920"/>
            </a:xfrm>
            <a:custGeom>
              <a:avLst/>
              <a:gdLst/>
              <a:ahLst/>
              <a:rect l="l" t="t" r="r" b="b"/>
              <a:pathLst>
                <a:path w="129" h="39">
                  <a:moveTo>
                    <a:pt x="0" y="38"/>
                  </a:moveTo>
                  <a:lnTo>
                    <a:pt x="61" y="34"/>
                  </a:lnTo>
                  <a:lnTo>
                    <a:pt x="58" y="33"/>
                  </a:lnTo>
                  <a:lnTo>
                    <a:pt x="128" y="0"/>
                  </a:lnTo>
                  <a:lnTo>
                    <a:pt x="64" y="3"/>
                  </a:lnTo>
                  <a:lnTo>
                    <a:pt x="1" y="38"/>
                  </a:lnTo>
                  <a:lnTo>
                    <a:pt x="0" y="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8440" y="264168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1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64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03560" y="2022480"/>
              <a:ext cx="861840" cy="704880"/>
            </a:xfrm>
            <a:custGeom>
              <a:avLst/>
              <a:gdLst/>
              <a:ahLst/>
              <a:rect l="l" t="t" r="r" b="b"/>
              <a:pathLst>
                <a:path w="543" h="444">
                  <a:moveTo>
                    <a:pt x="65" y="443"/>
                  </a:moveTo>
                  <a:lnTo>
                    <a:pt x="128" y="408"/>
                  </a:lnTo>
                  <a:lnTo>
                    <a:pt x="192" y="405"/>
                  </a:lnTo>
                  <a:lnTo>
                    <a:pt x="225" y="391"/>
                  </a:lnTo>
                  <a:lnTo>
                    <a:pt x="444" y="381"/>
                  </a:lnTo>
                  <a:lnTo>
                    <a:pt x="445" y="394"/>
                  </a:lnTo>
                  <a:lnTo>
                    <a:pt x="508" y="390"/>
                  </a:lnTo>
                  <a:lnTo>
                    <a:pt x="542" y="362"/>
                  </a:lnTo>
                  <a:lnTo>
                    <a:pt x="542" y="363"/>
                  </a:lnTo>
                  <a:lnTo>
                    <a:pt x="185" y="374"/>
                  </a:lnTo>
                  <a:lnTo>
                    <a:pt x="175" y="374"/>
                  </a:lnTo>
                  <a:lnTo>
                    <a:pt x="168" y="371"/>
                  </a:lnTo>
                  <a:lnTo>
                    <a:pt x="163" y="366"/>
                  </a:lnTo>
                  <a:lnTo>
                    <a:pt x="161" y="358"/>
                  </a:lnTo>
                  <a:lnTo>
                    <a:pt x="109" y="4"/>
                  </a:lnTo>
                  <a:lnTo>
                    <a:pt x="110" y="0"/>
                  </a:lnTo>
                  <a:lnTo>
                    <a:pt x="66" y="44"/>
                  </a:lnTo>
                  <a:lnTo>
                    <a:pt x="62" y="50"/>
                  </a:lnTo>
                  <a:lnTo>
                    <a:pt x="61" y="56"/>
                  </a:lnTo>
                  <a:lnTo>
                    <a:pt x="73" y="133"/>
                  </a:lnTo>
                  <a:lnTo>
                    <a:pt x="0" y="235"/>
                  </a:lnTo>
                  <a:lnTo>
                    <a:pt x="26" y="420"/>
                  </a:lnTo>
                  <a:lnTo>
                    <a:pt x="64" y="443"/>
                  </a:lnTo>
                  <a:lnTo>
                    <a:pt x="65" y="4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4560" y="2968560"/>
              <a:ext cx="1341360" cy="426960"/>
            </a:xfrm>
            <a:custGeom>
              <a:avLst/>
              <a:gdLst/>
              <a:ahLst/>
              <a:rect l="l" t="t" r="r" b="b"/>
              <a:pathLst>
                <a:path w="845" h="269">
                  <a:moveTo>
                    <a:pt x="539" y="13"/>
                  </a:moveTo>
                  <a:lnTo>
                    <a:pt x="525" y="15"/>
                  </a:lnTo>
                  <a:lnTo>
                    <a:pt x="104" y="71"/>
                  </a:lnTo>
                  <a:lnTo>
                    <a:pt x="87" y="73"/>
                  </a:lnTo>
                  <a:lnTo>
                    <a:pt x="33" y="78"/>
                  </a:lnTo>
                  <a:lnTo>
                    <a:pt x="9" y="81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0" y="132"/>
                  </a:lnTo>
                  <a:lnTo>
                    <a:pt x="2" y="140"/>
                  </a:lnTo>
                  <a:lnTo>
                    <a:pt x="116" y="267"/>
                  </a:lnTo>
                  <a:lnTo>
                    <a:pt x="121" y="268"/>
                  </a:lnTo>
                  <a:lnTo>
                    <a:pt x="125" y="267"/>
                  </a:lnTo>
                  <a:lnTo>
                    <a:pt x="835" y="138"/>
                  </a:lnTo>
                  <a:lnTo>
                    <a:pt x="842" y="134"/>
                  </a:lnTo>
                  <a:lnTo>
                    <a:pt x="844" y="127"/>
                  </a:lnTo>
                  <a:lnTo>
                    <a:pt x="842" y="120"/>
                  </a:lnTo>
                  <a:lnTo>
                    <a:pt x="648" y="0"/>
                  </a:lnTo>
                  <a:lnTo>
                    <a:pt x="539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97240" y="2627280"/>
              <a:ext cx="512640" cy="104760"/>
            </a:xfrm>
            <a:custGeom>
              <a:avLst/>
              <a:gdLst/>
              <a:ahLst/>
              <a:rect l="l" t="t" r="r" b="b"/>
              <a:pathLst>
                <a:path w="323" h="66">
                  <a:moveTo>
                    <a:pt x="70" y="24"/>
                  </a:moveTo>
                  <a:lnTo>
                    <a:pt x="103" y="10"/>
                  </a:lnTo>
                  <a:lnTo>
                    <a:pt x="322" y="0"/>
                  </a:lnTo>
                  <a:lnTo>
                    <a:pt x="322" y="13"/>
                  </a:lnTo>
                  <a:lnTo>
                    <a:pt x="322" y="19"/>
                  </a:lnTo>
                  <a:lnTo>
                    <a:pt x="268" y="22"/>
                  </a:lnTo>
                  <a:lnTo>
                    <a:pt x="104" y="29"/>
                  </a:lnTo>
                  <a:lnTo>
                    <a:pt x="94" y="34"/>
                  </a:lnTo>
                  <a:lnTo>
                    <a:pt x="69" y="45"/>
                  </a:lnTo>
                  <a:lnTo>
                    <a:pt x="23" y="65"/>
                  </a:lnTo>
                  <a:lnTo>
                    <a:pt x="13" y="62"/>
                  </a:lnTo>
                  <a:lnTo>
                    <a:pt x="0" y="57"/>
                  </a:lnTo>
                  <a:lnTo>
                    <a:pt x="70" y="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03480" y="2900520"/>
              <a:ext cx="104760" cy="4572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65" y="0"/>
                  </a:moveTo>
                  <a:lnTo>
                    <a:pt x="65" y="21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508120" y="2894040"/>
              <a:ext cx="144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49440" y="2968560"/>
              <a:ext cx="669960" cy="114480"/>
            </a:xfrm>
            <a:custGeom>
              <a:avLst/>
              <a:gdLst/>
              <a:ahLst/>
              <a:rect l="l" t="t" r="r" b="b"/>
              <a:pathLst>
                <a:path w="422" h="72">
                  <a:moveTo>
                    <a:pt x="421" y="15"/>
                  </a:moveTo>
                  <a:lnTo>
                    <a:pt x="421" y="0"/>
                  </a:lnTo>
                  <a:lnTo>
                    <a:pt x="0" y="50"/>
                  </a:lnTo>
                  <a:lnTo>
                    <a:pt x="0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98600" y="3097080"/>
              <a:ext cx="185760" cy="297000"/>
            </a:xfrm>
            <a:custGeom>
              <a:avLst/>
              <a:gdLst/>
              <a:ahLst/>
              <a:rect l="l" t="t" r="r" b="b"/>
              <a:pathLst>
                <a:path w="117" h="187">
                  <a:moveTo>
                    <a:pt x="116" y="186"/>
                  </a:moveTo>
                  <a:lnTo>
                    <a:pt x="116" y="182"/>
                  </a:lnTo>
                  <a:lnTo>
                    <a:pt x="116" y="178"/>
                  </a:lnTo>
                  <a:lnTo>
                    <a:pt x="115" y="173"/>
                  </a:lnTo>
                  <a:lnTo>
                    <a:pt x="114" y="1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560680" y="26478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9480" y="2233440"/>
              <a:ext cx="88920" cy="438480"/>
            </a:xfrm>
            <a:custGeom>
              <a:avLst/>
              <a:gdLst/>
              <a:ahLst/>
              <a:rect l="l" t="t" r="r" b="b"/>
              <a:pathLst>
                <a:path w="56" h="276">
                  <a:moveTo>
                    <a:pt x="0" y="0"/>
                  </a:moveTo>
                  <a:lnTo>
                    <a:pt x="40" y="267"/>
                  </a:lnTo>
                  <a:lnTo>
                    <a:pt x="45" y="273"/>
                  </a:lnTo>
                  <a:lnTo>
                    <a:pt x="55" y="2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3600" y="269892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46" y="0"/>
                  </a:moveTo>
                  <a:lnTo>
                    <a:pt x="0" y="20"/>
                  </a:lnTo>
                  <a:lnTo>
                    <a:pt x="53" y="17"/>
                  </a:lnTo>
                  <a:lnTo>
                    <a:pt x="48" y="12"/>
                  </a:lnTo>
                  <a:lnTo>
                    <a:pt x="46" y="7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81360" y="2657520"/>
              <a:ext cx="128520" cy="52200"/>
            </a:xfrm>
            <a:custGeom>
              <a:avLst/>
              <a:gdLst/>
              <a:ahLst/>
              <a:rect l="l" t="t" r="r" b="b"/>
              <a:pathLst>
                <a:path w="81" h="33">
                  <a:moveTo>
                    <a:pt x="80" y="0"/>
                  </a:moveTo>
                  <a:lnTo>
                    <a:pt x="26" y="3"/>
                  </a:lnTo>
                  <a:lnTo>
                    <a:pt x="26" y="2"/>
                  </a:lnTo>
                  <a:lnTo>
                    <a:pt x="22" y="9"/>
                  </a:lnTo>
                  <a:lnTo>
                    <a:pt x="17" y="17"/>
                  </a:lnTo>
                  <a:lnTo>
                    <a:pt x="10" y="23"/>
                  </a:lnTo>
                  <a:lnTo>
                    <a:pt x="3" y="30"/>
                  </a:lnTo>
                  <a:lnTo>
                    <a:pt x="0" y="32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6280" y="2719440"/>
              <a:ext cx="217440" cy="41400"/>
            </a:xfrm>
            <a:custGeom>
              <a:avLst/>
              <a:gdLst/>
              <a:ahLst/>
              <a:rect l="l" t="t" r="r" b="b"/>
              <a:pathLst>
                <a:path w="137" h="26">
                  <a:moveTo>
                    <a:pt x="136" y="2"/>
                  </a:moveTo>
                  <a:lnTo>
                    <a:pt x="136" y="16"/>
                  </a:lnTo>
                  <a:lnTo>
                    <a:pt x="128" y="19"/>
                  </a:lnTo>
                  <a:lnTo>
                    <a:pt x="120" y="21"/>
                  </a:lnTo>
                  <a:lnTo>
                    <a:pt x="110" y="22"/>
                  </a:lnTo>
                  <a:lnTo>
                    <a:pt x="99" y="23"/>
                  </a:lnTo>
                  <a:lnTo>
                    <a:pt x="89" y="24"/>
                  </a:lnTo>
                  <a:lnTo>
                    <a:pt x="81" y="25"/>
                  </a:lnTo>
                  <a:lnTo>
                    <a:pt x="72" y="25"/>
                  </a:lnTo>
                  <a:lnTo>
                    <a:pt x="62" y="25"/>
                  </a:lnTo>
                  <a:lnTo>
                    <a:pt x="50" y="25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7" y="24"/>
                  </a:lnTo>
                  <a:lnTo>
                    <a:pt x="7" y="23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14" y="6"/>
                  </a:lnTo>
                  <a:lnTo>
                    <a:pt x="26" y="6"/>
                  </a:lnTo>
                  <a:lnTo>
                    <a:pt x="38" y="7"/>
                  </a:lnTo>
                  <a:lnTo>
                    <a:pt x="50" y="7"/>
                  </a:lnTo>
                  <a:lnTo>
                    <a:pt x="62" y="7"/>
                  </a:lnTo>
                  <a:lnTo>
                    <a:pt x="74" y="7"/>
                  </a:lnTo>
                  <a:lnTo>
                    <a:pt x="86" y="6"/>
                  </a:lnTo>
                  <a:lnTo>
                    <a:pt x="96" y="5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21" y="3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36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7840" y="2952720"/>
              <a:ext cx="12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517480" y="29574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7520" y="2027160"/>
              <a:ext cx="690480" cy="581040"/>
            </a:xfrm>
            <a:custGeom>
              <a:avLst/>
              <a:gdLst/>
              <a:ahLst/>
              <a:rect l="l" t="t" r="r" b="b"/>
              <a:pathLst>
                <a:path w="435" h="366">
                  <a:moveTo>
                    <a:pt x="9" y="0"/>
                  </a:moveTo>
                  <a:lnTo>
                    <a:pt x="5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52" y="356"/>
                  </a:lnTo>
                  <a:lnTo>
                    <a:pt x="55" y="362"/>
                  </a:lnTo>
                  <a:lnTo>
                    <a:pt x="63" y="365"/>
                  </a:lnTo>
                  <a:lnTo>
                    <a:pt x="423" y="354"/>
                  </a:lnTo>
                  <a:lnTo>
                    <a:pt x="429" y="350"/>
                  </a:lnTo>
                  <a:lnTo>
                    <a:pt x="433" y="345"/>
                  </a:lnTo>
                  <a:lnTo>
                    <a:pt x="434" y="337"/>
                  </a:lnTo>
                  <a:lnTo>
                    <a:pt x="388" y="42"/>
                  </a:lnTo>
                  <a:lnTo>
                    <a:pt x="384" y="36"/>
                  </a:lnTo>
                  <a:lnTo>
                    <a:pt x="377" y="3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0480" y="3102120"/>
              <a:ext cx="212400" cy="61920"/>
            </a:xfrm>
            <a:custGeom>
              <a:avLst/>
              <a:gdLst/>
              <a:ahLst/>
              <a:rect l="l" t="t" r="r" b="b"/>
              <a:pathLst>
                <a:path w="134" h="39">
                  <a:moveTo>
                    <a:pt x="120" y="0"/>
                  </a:moveTo>
                  <a:lnTo>
                    <a:pt x="0" y="16"/>
                  </a:lnTo>
                  <a:lnTo>
                    <a:pt x="11" y="38"/>
                  </a:lnTo>
                  <a:lnTo>
                    <a:pt x="133" y="21"/>
                  </a:ln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200" y="2987640"/>
              <a:ext cx="587520" cy="123840"/>
            </a:xfrm>
            <a:custGeom>
              <a:avLst/>
              <a:gdLst/>
              <a:ahLst/>
              <a:rect l="l" t="t" r="r" b="b"/>
              <a:pathLst>
                <a:path w="370" h="78">
                  <a:moveTo>
                    <a:pt x="112" y="63"/>
                  </a:moveTo>
                  <a:lnTo>
                    <a:pt x="11" y="77"/>
                  </a:lnTo>
                  <a:lnTo>
                    <a:pt x="0" y="65"/>
                  </a:lnTo>
                  <a:lnTo>
                    <a:pt x="5" y="49"/>
                  </a:lnTo>
                  <a:lnTo>
                    <a:pt x="24" y="46"/>
                  </a:lnTo>
                  <a:lnTo>
                    <a:pt x="29" y="51"/>
                  </a:lnTo>
                  <a:lnTo>
                    <a:pt x="32" y="45"/>
                  </a:lnTo>
                  <a:lnTo>
                    <a:pt x="53" y="42"/>
                  </a:lnTo>
                  <a:lnTo>
                    <a:pt x="57" y="47"/>
                  </a:lnTo>
                  <a:lnTo>
                    <a:pt x="61" y="41"/>
                  </a:lnTo>
                  <a:lnTo>
                    <a:pt x="81" y="38"/>
                  </a:lnTo>
                  <a:lnTo>
                    <a:pt x="86" y="43"/>
                  </a:lnTo>
                  <a:lnTo>
                    <a:pt x="90" y="37"/>
                  </a:lnTo>
                  <a:lnTo>
                    <a:pt x="110" y="35"/>
                  </a:lnTo>
                  <a:lnTo>
                    <a:pt x="117" y="42"/>
                  </a:lnTo>
                  <a:lnTo>
                    <a:pt x="121" y="32"/>
                  </a:lnTo>
                  <a:lnTo>
                    <a:pt x="139" y="30"/>
                  </a:lnTo>
                  <a:lnTo>
                    <a:pt x="144" y="36"/>
                  </a:lnTo>
                  <a:lnTo>
                    <a:pt x="147" y="29"/>
                  </a:lnTo>
                  <a:lnTo>
                    <a:pt x="165" y="27"/>
                  </a:lnTo>
                  <a:lnTo>
                    <a:pt x="169" y="32"/>
                  </a:lnTo>
                  <a:lnTo>
                    <a:pt x="172" y="26"/>
                  </a:lnTo>
                  <a:lnTo>
                    <a:pt x="189" y="23"/>
                  </a:lnTo>
                  <a:lnTo>
                    <a:pt x="195" y="28"/>
                  </a:lnTo>
                  <a:lnTo>
                    <a:pt x="199" y="22"/>
                  </a:lnTo>
                  <a:lnTo>
                    <a:pt x="216" y="19"/>
                  </a:lnTo>
                  <a:lnTo>
                    <a:pt x="224" y="27"/>
                  </a:lnTo>
                  <a:lnTo>
                    <a:pt x="227" y="18"/>
                  </a:lnTo>
                  <a:lnTo>
                    <a:pt x="244" y="16"/>
                  </a:lnTo>
                  <a:lnTo>
                    <a:pt x="248" y="20"/>
                  </a:lnTo>
                  <a:lnTo>
                    <a:pt x="250" y="15"/>
                  </a:lnTo>
                  <a:lnTo>
                    <a:pt x="266" y="13"/>
                  </a:lnTo>
                  <a:lnTo>
                    <a:pt x="270" y="16"/>
                  </a:lnTo>
                  <a:lnTo>
                    <a:pt x="272" y="12"/>
                  </a:lnTo>
                  <a:lnTo>
                    <a:pt x="287" y="10"/>
                  </a:lnTo>
                  <a:lnTo>
                    <a:pt x="291" y="14"/>
                  </a:lnTo>
                  <a:lnTo>
                    <a:pt x="293" y="9"/>
                  </a:lnTo>
                  <a:lnTo>
                    <a:pt x="308" y="7"/>
                  </a:lnTo>
                  <a:lnTo>
                    <a:pt x="312" y="11"/>
                  </a:lnTo>
                  <a:lnTo>
                    <a:pt x="314" y="5"/>
                  </a:lnTo>
                  <a:lnTo>
                    <a:pt x="329" y="4"/>
                  </a:lnTo>
                  <a:lnTo>
                    <a:pt x="335" y="10"/>
                  </a:lnTo>
                  <a:lnTo>
                    <a:pt x="337" y="2"/>
                  </a:lnTo>
                  <a:lnTo>
                    <a:pt x="353" y="0"/>
                  </a:lnTo>
                  <a:lnTo>
                    <a:pt x="365" y="8"/>
                  </a:lnTo>
                  <a:lnTo>
                    <a:pt x="369" y="26"/>
                  </a:lnTo>
                  <a:lnTo>
                    <a:pt x="347" y="29"/>
                  </a:lnTo>
                  <a:lnTo>
                    <a:pt x="338" y="19"/>
                  </a:lnTo>
                  <a:lnTo>
                    <a:pt x="338" y="30"/>
                  </a:lnTo>
                  <a:lnTo>
                    <a:pt x="235" y="45"/>
                  </a:lnTo>
                  <a:lnTo>
                    <a:pt x="227" y="36"/>
                  </a:lnTo>
                  <a:lnTo>
                    <a:pt x="227" y="46"/>
                  </a:lnTo>
                  <a:lnTo>
                    <a:pt x="112" y="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16120" y="306864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85" y="0"/>
                  </a:moveTo>
                  <a:lnTo>
                    <a:pt x="66" y="2"/>
                  </a:lnTo>
                  <a:lnTo>
                    <a:pt x="62" y="8"/>
                  </a:lnTo>
                  <a:lnTo>
                    <a:pt x="59" y="3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9" y="10"/>
                  </a:lnTo>
                  <a:lnTo>
                    <a:pt x="0" y="23"/>
                  </a:lnTo>
                  <a:lnTo>
                    <a:pt x="11" y="40"/>
                  </a:lnTo>
                  <a:lnTo>
                    <a:pt x="97" y="28"/>
                  </a:lnTo>
                  <a:lnTo>
                    <a:pt x="97" y="11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44760" y="3040200"/>
              <a:ext cx="1090440" cy="279360"/>
            </a:xfrm>
            <a:custGeom>
              <a:avLst/>
              <a:gdLst/>
              <a:ahLst/>
              <a:rect l="l" t="t" r="r" b="b"/>
              <a:pathLst>
                <a:path w="687" h="176">
                  <a:moveTo>
                    <a:pt x="686" y="65"/>
                  </a:moveTo>
                  <a:lnTo>
                    <a:pt x="681" y="46"/>
                  </a:lnTo>
                  <a:lnTo>
                    <a:pt x="666" y="41"/>
                  </a:lnTo>
                  <a:lnTo>
                    <a:pt x="660" y="41"/>
                  </a:lnTo>
                  <a:lnTo>
                    <a:pt x="659" y="38"/>
                  </a:lnTo>
                  <a:lnTo>
                    <a:pt x="646" y="31"/>
                  </a:lnTo>
                  <a:lnTo>
                    <a:pt x="642" y="32"/>
                  </a:lnTo>
                  <a:lnTo>
                    <a:pt x="641" y="28"/>
                  </a:lnTo>
                  <a:lnTo>
                    <a:pt x="628" y="21"/>
                  </a:lnTo>
                  <a:lnTo>
                    <a:pt x="624" y="22"/>
                  </a:lnTo>
                  <a:lnTo>
                    <a:pt x="623" y="17"/>
                  </a:lnTo>
                  <a:lnTo>
                    <a:pt x="611" y="11"/>
                  </a:lnTo>
                  <a:lnTo>
                    <a:pt x="605" y="11"/>
                  </a:lnTo>
                  <a:lnTo>
                    <a:pt x="604" y="7"/>
                  </a:lnTo>
                  <a:lnTo>
                    <a:pt x="591" y="0"/>
                  </a:lnTo>
                  <a:lnTo>
                    <a:pt x="238" y="52"/>
                  </a:lnTo>
                  <a:lnTo>
                    <a:pt x="234" y="63"/>
                  </a:lnTo>
                  <a:lnTo>
                    <a:pt x="220" y="54"/>
                  </a:lnTo>
                  <a:lnTo>
                    <a:pt x="197" y="58"/>
                  </a:lnTo>
                  <a:lnTo>
                    <a:pt x="194" y="63"/>
                  </a:lnTo>
                  <a:lnTo>
                    <a:pt x="189" y="59"/>
                  </a:lnTo>
                  <a:lnTo>
                    <a:pt x="168" y="62"/>
                  </a:lnTo>
                  <a:lnTo>
                    <a:pt x="164" y="69"/>
                  </a:lnTo>
                  <a:lnTo>
                    <a:pt x="158" y="63"/>
                  </a:lnTo>
                  <a:lnTo>
                    <a:pt x="138" y="67"/>
                  </a:lnTo>
                  <a:lnTo>
                    <a:pt x="132" y="84"/>
                  </a:lnTo>
                  <a:lnTo>
                    <a:pt x="121" y="69"/>
                  </a:lnTo>
                  <a:lnTo>
                    <a:pt x="99" y="72"/>
                  </a:lnTo>
                  <a:lnTo>
                    <a:pt x="97" y="79"/>
                  </a:lnTo>
                  <a:lnTo>
                    <a:pt x="92" y="73"/>
                  </a:lnTo>
                  <a:lnTo>
                    <a:pt x="67" y="77"/>
                  </a:lnTo>
                  <a:lnTo>
                    <a:pt x="64" y="84"/>
                  </a:lnTo>
                  <a:lnTo>
                    <a:pt x="59" y="78"/>
                  </a:lnTo>
                  <a:lnTo>
                    <a:pt x="35" y="82"/>
                  </a:lnTo>
                  <a:lnTo>
                    <a:pt x="32" y="88"/>
                  </a:lnTo>
                  <a:lnTo>
                    <a:pt x="27" y="83"/>
                  </a:lnTo>
                  <a:lnTo>
                    <a:pt x="5" y="86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6" y="120"/>
                  </a:lnTo>
                  <a:lnTo>
                    <a:pt x="10" y="128"/>
                  </a:lnTo>
                  <a:lnTo>
                    <a:pt x="14" y="135"/>
                  </a:lnTo>
                  <a:lnTo>
                    <a:pt x="20" y="143"/>
                  </a:lnTo>
                  <a:lnTo>
                    <a:pt x="26" y="150"/>
                  </a:lnTo>
                  <a:lnTo>
                    <a:pt x="33" y="157"/>
                  </a:lnTo>
                  <a:lnTo>
                    <a:pt x="40" y="164"/>
                  </a:lnTo>
                  <a:lnTo>
                    <a:pt x="48" y="169"/>
                  </a:lnTo>
                  <a:lnTo>
                    <a:pt x="57" y="175"/>
                  </a:lnTo>
                  <a:lnTo>
                    <a:pt x="294" y="134"/>
                  </a:lnTo>
                  <a:lnTo>
                    <a:pt x="294" y="120"/>
                  </a:lnTo>
                  <a:lnTo>
                    <a:pt x="312" y="131"/>
                  </a:lnTo>
                  <a:lnTo>
                    <a:pt x="370" y="120"/>
                  </a:lnTo>
                  <a:lnTo>
                    <a:pt x="370" y="110"/>
                  </a:lnTo>
                  <a:lnTo>
                    <a:pt x="370" y="109"/>
                  </a:lnTo>
                  <a:lnTo>
                    <a:pt x="381" y="119"/>
                  </a:lnTo>
                  <a:lnTo>
                    <a:pt x="639" y="73"/>
                  </a:lnTo>
                  <a:lnTo>
                    <a:pt x="637" y="62"/>
                  </a:lnTo>
                  <a:lnTo>
                    <a:pt x="651" y="71"/>
                  </a:lnTo>
                  <a:lnTo>
                    <a:pt x="686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6160" y="292104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3" y="25"/>
                  </a:moveTo>
                  <a:lnTo>
                    <a:pt x="14" y="24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3" y="25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43320" y="2867040"/>
              <a:ext cx="137880" cy="10620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29" y="35"/>
                  </a:moveTo>
                  <a:lnTo>
                    <a:pt x="26" y="17"/>
                  </a:lnTo>
                  <a:lnTo>
                    <a:pt x="53" y="14"/>
                  </a:lnTo>
                  <a:lnTo>
                    <a:pt x="62" y="60"/>
                  </a:lnTo>
                  <a:lnTo>
                    <a:pt x="86" y="57"/>
                  </a:lnTo>
                  <a:lnTo>
                    <a:pt x="85" y="53"/>
                  </a:lnTo>
                  <a:lnTo>
                    <a:pt x="76" y="0"/>
                  </a:lnTo>
                  <a:lnTo>
                    <a:pt x="0" y="7"/>
                  </a:lnTo>
                  <a:lnTo>
                    <a:pt x="6" y="66"/>
                  </a:lnTo>
                  <a:lnTo>
                    <a:pt x="6" y="65"/>
                  </a:lnTo>
                  <a:lnTo>
                    <a:pt x="33" y="63"/>
                  </a:lnTo>
                  <a:lnTo>
                    <a:pt x="32" y="59"/>
                  </a:lnTo>
                  <a:lnTo>
                    <a:pt x="29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27120" y="287820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0" y="0"/>
                  </a:moveTo>
                  <a:lnTo>
                    <a:pt x="0" y="55"/>
                  </a:lnTo>
                  <a:lnTo>
                    <a:pt x="16" y="58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62120" y="286560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16" y="58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16" y="58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77960" y="2846520"/>
              <a:ext cx="214560" cy="112680"/>
            </a:xfrm>
            <a:custGeom>
              <a:avLst/>
              <a:gdLst/>
              <a:ahLst/>
              <a:rect l="l" t="t" r="r" b="b"/>
              <a:pathLst>
                <a:path w="135" h="71">
                  <a:moveTo>
                    <a:pt x="7" y="70"/>
                  </a:moveTo>
                  <a:lnTo>
                    <a:pt x="0" y="12"/>
                  </a:lnTo>
                  <a:lnTo>
                    <a:pt x="127" y="0"/>
                  </a:lnTo>
                  <a:lnTo>
                    <a:pt x="134" y="56"/>
                  </a:lnTo>
                  <a:lnTo>
                    <a:pt x="7" y="69"/>
                  </a:lnTo>
                  <a:lnTo>
                    <a:pt x="7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74880" y="2846520"/>
              <a:ext cx="27000" cy="8892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16" y="55"/>
                  </a:moveTo>
                  <a:lnTo>
                    <a:pt x="0" y="51"/>
                  </a:lnTo>
                  <a:lnTo>
                    <a:pt x="0" y="0"/>
                  </a:lnTo>
                  <a:lnTo>
                    <a:pt x="16" y="5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90720" y="2827440"/>
              <a:ext cx="214560" cy="108000"/>
            </a:xfrm>
            <a:custGeom>
              <a:avLst/>
              <a:gdLst/>
              <a:ahLst/>
              <a:rect l="l" t="t" r="r" b="b"/>
              <a:pathLst>
                <a:path w="135" h="68">
                  <a:moveTo>
                    <a:pt x="7" y="67"/>
                  </a:moveTo>
                  <a:lnTo>
                    <a:pt x="0" y="12"/>
                  </a:lnTo>
                  <a:lnTo>
                    <a:pt x="126" y="0"/>
                  </a:lnTo>
                  <a:lnTo>
                    <a:pt x="134" y="54"/>
                  </a:lnTo>
                  <a:lnTo>
                    <a:pt x="35" y="64"/>
                  </a:lnTo>
                  <a:lnTo>
                    <a:pt x="33" y="57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7" y="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87640" y="2825640"/>
              <a:ext cx="27000" cy="8748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16" y="54"/>
                  </a:moveTo>
                  <a:lnTo>
                    <a:pt x="0" y="50"/>
                  </a:lnTo>
                  <a:lnTo>
                    <a:pt x="0" y="0"/>
                  </a:lnTo>
                  <a:lnTo>
                    <a:pt x="16" y="54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03480" y="2814480"/>
              <a:ext cx="136440" cy="98640"/>
            </a:xfrm>
            <a:custGeom>
              <a:avLst/>
              <a:gdLst/>
              <a:ahLst/>
              <a:rect l="l" t="t" r="r" b="b"/>
              <a:pathLst>
                <a:path w="86" h="62">
                  <a:moveTo>
                    <a:pt x="0" y="7"/>
                  </a:moveTo>
                  <a:lnTo>
                    <a:pt x="7" y="61"/>
                  </a:lnTo>
                  <a:lnTo>
                    <a:pt x="65" y="54"/>
                  </a:lnTo>
                  <a:lnTo>
                    <a:pt x="85" y="52"/>
                  </a:lnTo>
                  <a:lnTo>
                    <a:pt x="81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63840" y="2133720"/>
              <a:ext cx="525600" cy="398520"/>
            </a:xfrm>
            <a:custGeom>
              <a:avLst/>
              <a:gdLst/>
              <a:ahLst/>
              <a:rect l="l" t="t" r="r" b="b"/>
              <a:pathLst>
                <a:path w="331" h="251">
                  <a:moveTo>
                    <a:pt x="318" y="250"/>
                  </a:moveTo>
                  <a:lnTo>
                    <a:pt x="326" y="245"/>
                  </a:lnTo>
                  <a:lnTo>
                    <a:pt x="329" y="238"/>
                  </a:lnTo>
                  <a:lnTo>
                    <a:pt x="330" y="226"/>
                  </a:lnTo>
                  <a:lnTo>
                    <a:pt x="329" y="201"/>
                  </a:lnTo>
                  <a:lnTo>
                    <a:pt x="327" y="177"/>
                  </a:lnTo>
                  <a:lnTo>
                    <a:pt x="323" y="153"/>
                  </a:lnTo>
                  <a:lnTo>
                    <a:pt x="311" y="79"/>
                  </a:lnTo>
                  <a:lnTo>
                    <a:pt x="309" y="67"/>
                  </a:lnTo>
                  <a:lnTo>
                    <a:pt x="304" y="48"/>
                  </a:lnTo>
                  <a:lnTo>
                    <a:pt x="299" y="33"/>
                  </a:lnTo>
                  <a:lnTo>
                    <a:pt x="295" y="27"/>
                  </a:lnTo>
                  <a:lnTo>
                    <a:pt x="291" y="22"/>
                  </a:lnTo>
                  <a:lnTo>
                    <a:pt x="283" y="19"/>
                  </a:lnTo>
                  <a:lnTo>
                    <a:pt x="273" y="16"/>
                  </a:lnTo>
                  <a:lnTo>
                    <a:pt x="246" y="13"/>
                  </a:lnTo>
                  <a:lnTo>
                    <a:pt x="218" y="9"/>
                  </a:lnTo>
                  <a:lnTo>
                    <a:pt x="182" y="6"/>
                  </a:lnTo>
                  <a:lnTo>
                    <a:pt x="164" y="4"/>
                  </a:lnTo>
                  <a:lnTo>
                    <a:pt x="146" y="3"/>
                  </a:lnTo>
                  <a:lnTo>
                    <a:pt x="128" y="2"/>
                  </a:lnTo>
                  <a:lnTo>
                    <a:pt x="110" y="1"/>
                  </a:lnTo>
                  <a:lnTo>
                    <a:pt x="92" y="0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0" y="1"/>
                  </a:lnTo>
                  <a:lnTo>
                    <a:pt x="38" y="239"/>
                  </a:lnTo>
                  <a:lnTo>
                    <a:pt x="41" y="246"/>
                  </a:lnTo>
                  <a:lnTo>
                    <a:pt x="48" y="250"/>
                  </a:lnTo>
                  <a:lnTo>
                    <a:pt x="317" y="250"/>
                  </a:lnTo>
                  <a:lnTo>
                    <a:pt x="318" y="25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8400" y="1998720"/>
              <a:ext cx="1503360" cy="1411200"/>
            </a:xfrm>
            <a:custGeom>
              <a:avLst/>
              <a:gdLst/>
              <a:ahLst/>
              <a:rect l="l" t="t" r="r" b="b"/>
              <a:pathLst>
                <a:path w="947" h="889">
                  <a:moveTo>
                    <a:pt x="419" y="452"/>
                  </a:moveTo>
                  <a:lnTo>
                    <a:pt x="487" y="425"/>
                  </a:lnTo>
                  <a:lnTo>
                    <a:pt x="555" y="414"/>
                  </a:lnTo>
                  <a:lnTo>
                    <a:pt x="597" y="380"/>
                  </a:lnTo>
                  <a:lnTo>
                    <a:pt x="604" y="373"/>
                  </a:lnTo>
                  <a:lnTo>
                    <a:pt x="607" y="367"/>
                  </a:lnTo>
                  <a:lnTo>
                    <a:pt x="608" y="358"/>
                  </a:lnTo>
                  <a:lnTo>
                    <a:pt x="562" y="59"/>
                  </a:lnTo>
                  <a:lnTo>
                    <a:pt x="560" y="51"/>
                  </a:lnTo>
                  <a:lnTo>
                    <a:pt x="557" y="44"/>
                  </a:lnTo>
                  <a:lnTo>
                    <a:pt x="551" y="40"/>
                  </a:lnTo>
                  <a:lnTo>
                    <a:pt x="544" y="37"/>
                  </a:lnTo>
                  <a:lnTo>
                    <a:pt x="161" y="0"/>
                  </a:lnTo>
                  <a:lnTo>
                    <a:pt x="155" y="1"/>
                  </a:lnTo>
                  <a:lnTo>
                    <a:pt x="149" y="2"/>
                  </a:lnTo>
                  <a:lnTo>
                    <a:pt x="145" y="5"/>
                  </a:lnTo>
                  <a:lnTo>
                    <a:pt x="100" y="51"/>
                  </a:lnTo>
                  <a:lnTo>
                    <a:pt x="95" y="57"/>
                  </a:lnTo>
                  <a:lnTo>
                    <a:pt x="92" y="65"/>
                  </a:lnTo>
                  <a:lnTo>
                    <a:pt x="92" y="72"/>
                  </a:lnTo>
                  <a:lnTo>
                    <a:pt x="104" y="145"/>
                  </a:lnTo>
                  <a:lnTo>
                    <a:pt x="31" y="247"/>
                  </a:lnTo>
                  <a:lnTo>
                    <a:pt x="57" y="440"/>
                  </a:lnTo>
                  <a:lnTo>
                    <a:pt x="88" y="459"/>
                  </a:lnTo>
                  <a:lnTo>
                    <a:pt x="92" y="461"/>
                  </a:lnTo>
                  <a:lnTo>
                    <a:pt x="0" y="466"/>
                  </a:lnTo>
                  <a:lnTo>
                    <a:pt x="0" y="623"/>
                  </a:lnTo>
                  <a:lnTo>
                    <a:pt x="94" y="682"/>
                  </a:lnTo>
                  <a:lnTo>
                    <a:pt x="90" y="688"/>
                  </a:lnTo>
                  <a:lnTo>
                    <a:pt x="86" y="696"/>
                  </a:lnTo>
                  <a:lnTo>
                    <a:pt x="83" y="706"/>
                  </a:lnTo>
                  <a:lnTo>
                    <a:pt x="82" y="716"/>
                  </a:lnTo>
                  <a:lnTo>
                    <a:pt x="81" y="724"/>
                  </a:lnTo>
                  <a:lnTo>
                    <a:pt x="81" y="734"/>
                  </a:lnTo>
                  <a:lnTo>
                    <a:pt x="82" y="742"/>
                  </a:lnTo>
                  <a:lnTo>
                    <a:pt x="84" y="754"/>
                  </a:lnTo>
                  <a:lnTo>
                    <a:pt x="199" y="883"/>
                  </a:lnTo>
                  <a:lnTo>
                    <a:pt x="204" y="886"/>
                  </a:lnTo>
                  <a:lnTo>
                    <a:pt x="210" y="888"/>
                  </a:lnTo>
                  <a:lnTo>
                    <a:pt x="218" y="888"/>
                  </a:lnTo>
                  <a:lnTo>
                    <a:pt x="931" y="757"/>
                  </a:lnTo>
                  <a:lnTo>
                    <a:pt x="938" y="754"/>
                  </a:lnTo>
                  <a:lnTo>
                    <a:pt x="943" y="750"/>
                  </a:lnTo>
                  <a:lnTo>
                    <a:pt x="945" y="743"/>
                  </a:lnTo>
                  <a:lnTo>
                    <a:pt x="946" y="737"/>
                  </a:lnTo>
                  <a:lnTo>
                    <a:pt x="944" y="730"/>
                  </a:lnTo>
                  <a:lnTo>
                    <a:pt x="940" y="724"/>
                  </a:lnTo>
                  <a:lnTo>
                    <a:pt x="743" y="598"/>
                  </a:lnTo>
                  <a:lnTo>
                    <a:pt x="643" y="611"/>
                  </a:lnTo>
                  <a:lnTo>
                    <a:pt x="642" y="496"/>
                  </a:lnTo>
                  <a:lnTo>
                    <a:pt x="419" y="452"/>
                  </a:lnTo>
                  <a:lnTo>
                    <a:pt x="393" y="457"/>
                  </a:lnTo>
                  <a:lnTo>
                    <a:pt x="485" y="475"/>
                  </a:lnTo>
                  <a:lnTo>
                    <a:pt x="631" y="505"/>
                  </a:lnTo>
                  <a:lnTo>
                    <a:pt x="631" y="624"/>
                  </a:lnTo>
                  <a:lnTo>
                    <a:pt x="740" y="611"/>
                  </a:lnTo>
                  <a:lnTo>
                    <a:pt x="934" y="731"/>
                  </a:lnTo>
                  <a:lnTo>
                    <a:pt x="936" y="738"/>
                  </a:lnTo>
                  <a:lnTo>
                    <a:pt x="934" y="745"/>
                  </a:lnTo>
                  <a:lnTo>
                    <a:pt x="927" y="749"/>
                  </a:lnTo>
                  <a:lnTo>
                    <a:pt x="217" y="878"/>
                  </a:lnTo>
                  <a:lnTo>
                    <a:pt x="213" y="879"/>
                  </a:lnTo>
                  <a:lnTo>
                    <a:pt x="208" y="878"/>
                  </a:lnTo>
                  <a:lnTo>
                    <a:pt x="94" y="751"/>
                  </a:lnTo>
                  <a:lnTo>
                    <a:pt x="92" y="743"/>
                  </a:lnTo>
                  <a:lnTo>
                    <a:pt x="92" y="732"/>
                  </a:lnTo>
                  <a:lnTo>
                    <a:pt x="92" y="726"/>
                  </a:lnTo>
                  <a:lnTo>
                    <a:pt x="92" y="716"/>
                  </a:lnTo>
                  <a:lnTo>
                    <a:pt x="94" y="707"/>
                  </a:lnTo>
                  <a:lnTo>
                    <a:pt x="96" y="701"/>
                  </a:lnTo>
                  <a:lnTo>
                    <a:pt x="101" y="692"/>
                  </a:lnTo>
                  <a:lnTo>
                    <a:pt x="125" y="689"/>
                  </a:lnTo>
                  <a:lnTo>
                    <a:pt x="11" y="617"/>
                  </a:lnTo>
                  <a:lnTo>
                    <a:pt x="11" y="475"/>
                  </a:lnTo>
                  <a:lnTo>
                    <a:pt x="140" y="468"/>
                  </a:lnTo>
                  <a:lnTo>
                    <a:pt x="140" y="461"/>
                  </a:lnTo>
                  <a:lnTo>
                    <a:pt x="140" y="460"/>
                  </a:lnTo>
                  <a:lnTo>
                    <a:pt x="176" y="458"/>
                  </a:lnTo>
                  <a:lnTo>
                    <a:pt x="166" y="453"/>
                  </a:lnTo>
                  <a:lnTo>
                    <a:pt x="105" y="458"/>
                  </a:lnTo>
                  <a:lnTo>
                    <a:pt x="67" y="435"/>
                  </a:lnTo>
                  <a:lnTo>
                    <a:pt x="41" y="250"/>
                  </a:lnTo>
                  <a:lnTo>
                    <a:pt x="114" y="148"/>
                  </a:lnTo>
                  <a:lnTo>
                    <a:pt x="102" y="71"/>
                  </a:lnTo>
                  <a:lnTo>
                    <a:pt x="103" y="65"/>
                  </a:lnTo>
                  <a:lnTo>
                    <a:pt x="107" y="59"/>
                  </a:lnTo>
                  <a:lnTo>
                    <a:pt x="151" y="15"/>
                  </a:lnTo>
                  <a:lnTo>
                    <a:pt x="154" y="12"/>
                  </a:lnTo>
                  <a:lnTo>
                    <a:pt x="157" y="11"/>
                  </a:lnTo>
                  <a:lnTo>
                    <a:pt x="162" y="11"/>
                  </a:lnTo>
                  <a:lnTo>
                    <a:pt x="535" y="45"/>
                  </a:lnTo>
                  <a:lnTo>
                    <a:pt x="541" y="47"/>
                  </a:lnTo>
                  <a:lnTo>
                    <a:pt x="546" y="49"/>
                  </a:lnTo>
                  <a:lnTo>
                    <a:pt x="550" y="53"/>
                  </a:lnTo>
                  <a:lnTo>
                    <a:pt x="552" y="59"/>
                  </a:lnTo>
                  <a:lnTo>
                    <a:pt x="597" y="357"/>
                  </a:lnTo>
                  <a:lnTo>
                    <a:pt x="597" y="364"/>
                  </a:lnTo>
                  <a:lnTo>
                    <a:pt x="594" y="370"/>
                  </a:lnTo>
                  <a:lnTo>
                    <a:pt x="588" y="375"/>
                  </a:lnTo>
                  <a:lnTo>
                    <a:pt x="583" y="377"/>
                  </a:lnTo>
                  <a:lnTo>
                    <a:pt x="549" y="405"/>
                  </a:lnTo>
                  <a:lnTo>
                    <a:pt x="486" y="415"/>
                  </a:lnTo>
                  <a:lnTo>
                    <a:pt x="406" y="447"/>
                  </a:lnTo>
                  <a:lnTo>
                    <a:pt x="393" y="454"/>
                  </a:lnTo>
                  <a:lnTo>
                    <a:pt x="393" y="456"/>
                  </a:lnTo>
                  <a:lnTo>
                    <a:pt x="393" y="457"/>
                  </a:lnTo>
                  <a:lnTo>
                    <a:pt x="419" y="4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3040" y="29178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" y="10"/>
                  </a:moveTo>
                  <a:lnTo>
                    <a:pt x="0" y="1"/>
                  </a:lnTo>
                  <a:lnTo>
                    <a:pt x="19" y="0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" y="16"/>
                  </a:lnTo>
                  <a:lnTo>
                    <a:pt x="1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09800" y="2876400"/>
              <a:ext cx="168480" cy="32040"/>
            </a:xfrm>
            <a:custGeom>
              <a:avLst/>
              <a:gdLst/>
              <a:ahLst/>
              <a:rect l="l" t="t" r="r" b="b"/>
              <a:pathLst>
                <a:path w="106" h="20">
                  <a:moveTo>
                    <a:pt x="68" y="0"/>
                  </a:moveTo>
                  <a:lnTo>
                    <a:pt x="36" y="2"/>
                  </a:lnTo>
                  <a:lnTo>
                    <a:pt x="37" y="7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71" y="16"/>
                  </a:lnTo>
                  <a:lnTo>
                    <a:pt x="71" y="11"/>
                  </a:lnTo>
                  <a:lnTo>
                    <a:pt x="105" y="8"/>
                  </a:lnTo>
                  <a:lnTo>
                    <a:pt x="104" y="1"/>
                  </a:lnTo>
                  <a:lnTo>
                    <a:pt x="69" y="4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520" y="3160800"/>
              <a:ext cx="63360" cy="68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10" y="23"/>
                  </a:moveTo>
                  <a:lnTo>
                    <a:pt x="6" y="0"/>
                  </a:lnTo>
                  <a:lnTo>
                    <a:pt x="39" y="31"/>
                  </a:lnTo>
                  <a:lnTo>
                    <a:pt x="25" y="34"/>
                  </a:lnTo>
                  <a:lnTo>
                    <a:pt x="23" y="42"/>
                  </a:lnTo>
                  <a:lnTo>
                    <a:pt x="16" y="36"/>
                  </a:lnTo>
                  <a:lnTo>
                    <a:pt x="9" y="36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10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62040" y="2098800"/>
              <a:ext cx="560520" cy="433440"/>
            </a:xfrm>
            <a:custGeom>
              <a:avLst/>
              <a:gdLst/>
              <a:ahLst/>
              <a:rect l="l" t="t" r="r" b="b"/>
              <a:pathLst>
                <a:path w="353" h="273">
                  <a:moveTo>
                    <a:pt x="319" y="272"/>
                  </a:moveTo>
                  <a:lnTo>
                    <a:pt x="327" y="267"/>
                  </a:lnTo>
                  <a:lnTo>
                    <a:pt x="330" y="260"/>
                  </a:lnTo>
                  <a:lnTo>
                    <a:pt x="331" y="248"/>
                  </a:lnTo>
                  <a:lnTo>
                    <a:pt x="330" y="223"/>
                  </a:lnTo>
                  <a:lnTo>
                    <a:pt x="328" y="199"/>
                  </a:lnTo>
                  <a:lnTo>
                    <a:pt x="324" y="175"/>
                  </a:lnTo>
                  <a:lnTo>
                    <a:pt x="312" y="101"/>
                  </a:lnTo>
                  <a:lnTo>
                    <a:pt x="310" y="89"/>
                  </a:lnTo>
                  <a:lnTo>
                    <a:pt x="305" y="70"/>
                  </a:lnTo>
                  <a:lnTo>
                    <a:pt x="300" y="55"/>
                  </a:lnTo>
                  <a:lnTo>
                    <a:pt x="296" y="49"/>
                  </a:lnTo>
                  <a:lnTo>
                    <a:pt x="292" y="44"/>
                  </a:lnTo>
                  <a:lnTo>
                    <a:pt x="284" y="41"/>
                  </a:lnTo>
                  <a:lnTo>
                    <a:pt x="274" y="38"/>
                  </a:lnTo>
                  <a:lnTo>
                    <a:pt x="248" y="35"/>
                  </a:lnTo>
                  <a:lnTo>
                    <a:pt x="219" y="31"/>
                  </a:lnTo>
                  <a:lnTo>
                    <a:pt x="183" y="28"/>
                  </a:lnTo>
                  <a:lnTo>
                    <a:pt x="165" y="26"/>
                  </a:lnTo>
                  <a:lnTo>
                    <a:pt x="147" y="25"/>
                  </a:lnTo>
                  <a:lnTo>
                    <a:pt x="129" y="24"/>
                  </a:lnTo>
                  <a:lnTo>
                    <a:pt x="111" y="23"/>
                  </a:lnTo>
                  <a:lnTo>
                    <a:pt x="93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39" y="22"/>
                  </a:lnTo>
                  <a:lnTo>
                    <a:pt x="25" y="22"/>
                  </a:lnTo>
                  <a:lnTo>
                    <a:pt x="1" y="23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1"/>
                  </a:lnTo>
                  <a:lnTo>
                    <a:pt x="16" y="0"/>
                  </a:lnTo>
                  <a:lnTo>
                    <a:pt x="305" y="24"/>
                  </a:lnTo>
                  <a:lnTo>
                    <a:pt x="311" y="28"/>
                  </a:lnTo>
                  <a:lnTo>
                    <a:pt x="315" y="33"/>
                  </a:lnTo>
                  <a:lnTo>
                    <a:pt x="316" y="38"/>
                  </a:lnTo>
                  <a:lnTo>
                    <a:pt x="352" y="259"/>
                  </a:lnTo>
                  <a:lnTo>
                    <a:pt x="351" y="265"/>
                  </a:lnTo>
                  <a:lnTo>
                    <a:pt x="347" y="270"/>
                  </a:lnTo>
                  <a:lnTo>
                    <a:pt x="340" y="272"/>
                  </a:lnTo>
                  <a:lnTo>
                    <a:pt x="318" y="272"/>
                  </a:lnTo>
                  <a:lnTo>
                    <a:pt x="319" y="272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8280" y="3206880"/>
              <a:ext cx="7128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0"/>
                  </a:moveTo>
                  <a:lnTo>
                    <a:pt x="0" y="7"/>
                  </a:lnTo>
                  <a:lnTo>
                    <a:pt x="6" y="12"/>
                  </a:lnTo>
                  <a:lnTo>
                    <a:pt x="7" y="19"/>
                  </a:lnTo>
                  <a:lnTo>
                    <a:pt x="13" y="18"/>
                  </a:lnTo>
                  <a:lnTo>
                    <a:pt x="25" y="26"/>
                  </a:lnTo>
                  <a:lnTo>
                    <a:pt x="27" y="35"/>
                  </a:lnTo>
                  <a:lnTo>
                    <a:pt x="34" y="15"/>
                  </a:lnTo>
                  <a:lnTo>
                    <a:pt x="43" y="13"/>
                  </a:lnTo>
                  <a:lnTo>
                    <a:pt x="4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412240" y="121752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15080" y="1639800"/>
            <a:ext cx="776160" cy="96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2920" y="146520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8080" y="1866960"/>
            <a:ext cx="71748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6520" y="2179800"/>
            <a:ext cx="1762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ou mus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le to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oth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ols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13400" y="2019240"/>
            <a:ext cx="2271960" cy="2284560"/>
          </a:xfrm>
          <a:custGeom>
            <a:avLst/>
            <a:gdLst>
              <a:gd name="textAreaLeft" fmla="*/ 82440 w 2271960"/>
              <a:gd name="textAreaRight" fmla="*/ 2189520 w 2271960"/>
              <a:gd name="textAreaTop" fmla="*/ 82440 h 2284560"/>
              <a:gd name="textAreaBottom" fmla="*/ 2202120 h 2284560"/>
            </a:gdLst>
            <a:ahLst/>
            <a:rect l="textAreaLeft" t="textAreaTop" r="textAreaRight" b="textAreaBottom"/>
            <a:pathLst>
              <a:path w="21600" h="21720">
                <a:moveTo>
                  <a:pt x="2687" y="0"/>
                </a:moveTo>
                <a:arcTo wR="2687" hR="2687" stAng="16200000" swAng="-5400000"/>
                <a:lnTo>
                  <a:pt x="0" y="19033"/>
                </a:lnTo>
                <a:arcTo wR="2687" hR="2687" stAng="10800000" swAng="-5400000"/>
                <a:lnTo>
                  <a:pt x="18913" y="21720"/>
                </a:lnTo>
                <a:arcTo wR="2687" hR="2687" stAng="5400000" swAng="-5400000"/>
                <a:lnTo>
                  <a:pt x="21600" y="2687"/>
                </a:lnTo>
                <a:arcTo wR="2687" hR="2687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1400" y="547560"/>
            <a:ext cx="4400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ftware in your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0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8208720" y="1857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1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8219880" y="1494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1060000">
            <a:off x="1432080" y="2502000"/>
            <a:ext cx="6273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each you how to use a computer to sol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ngineering problem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941400"/>
            <a:ext cx="8334360" cy="4137120"/>
          </a:xfrm>
          <a:custGeom>
            <a:avLst/>
            <a:gdLst/>
            <a:ahLst/>
            <a:rect l="l" t="t" r="r" b="b"/>
            <a:pathLst>
              <a:path w="5250" h="2606">
                <a:moveTo>
                  <a:pt x="515" y="1511"/>
                </a:moveTo>
                <a:lnTo>
                  <a:pt x="0" y="1380"/>
                </a:lnTo>
                <a:lnTo>
                  <a:pt x="513" y="1306"/>
                </a:lnTo>
                <a:lnTo>
                  <a:pt x="105" y="1032"/>
                </a:lnTo>
                <a:lnTo>
                  <a:pt x="746" y="1198"/>
                </a:lnTo>
                <a:lnTo>
                  <a:pt x="390" y="873"/>
                </a:lnTo>
                <a:lnTo>
                  <a:pt x="918" y="1179"/>
                </a:lnTo>
                <a:lnTo>
                  <a:pt x="761" y="766"/>
                </a:lnTo>
                <a:lnTo>
                  <a:pt x="1067" y="1162"/>
                </a:lnTo>
                <a:lnTo>
                  <a:pt x="1052" y="641"/>
                </a:lnTo>
                <a:lnTo>
                  <a:pt x="1306" y="1095"/>
                </a:lnTo>
                <a:lnTo>
                  <a:pt x="1396" y="552"/>
                </a:lnTo>
                <a:lnTo>
                  <a:pt x="1569" y="1075"/>
                </a:lnTo>
                <a:lnTo>
                  <a:pt x="1553" y="541"/>
                </a:lnTo>
                <a:lnTo>
                  <a:pt x="1828" y="1034"/>
                </a:lnTo>
                <a:lnTo>
                  <a:pt x="1891" y="474"/>
                </a:lnTo>
                <a:lnTo>
                  <a:pt x="2121" y="1009"/>
                </a:lnTo>
                <a:lnTo>
                  <a:pt x="2246" y="410"/>
                </a:lnTo>
                <a:lnTo>
                  <a:pt x="2491" y="901"/>
                </a:lnTo>
                <a:lnTo>
                  <a:pt x="2492" y="379"/>
                </a:lnTo>
                <a:lnTo>
                  <a:pt x="2783" y="876"/>
                </a:lnTo>
                <a:lnTo>
                  <a:pt x="2853" y="307"/>
                </a:lnTo>
                <a:lnTo>
                  <a:pt x="3147" y="818"/>
                </a:lnTo>
                <a:lnTo>
                  <a:pt x="3249" y="216"/>
                </a:lnTo>
                <a:lnTo>
                  <a:pt x="3475" y="780"/>
                </a:lnTo>
                <a:lnTo>
                  <a:pt x="3633" y="148"/>
                </a:lnTo>
                <a:lnTo>
                  <a:pt x="3764" y="742"/>
                </a:lnTo>
                <a:lnTo>
                  <a:pt x="3994" y="34"/>
                </a:lnTo>
                <a:lnTo>
                  <a:pt x="4125" y="621"/>
                </a:lnTo>
                <a:lnTo>
                  <a:pt x="4436" y="0"/>
                </a:lnTo>
                <a:lnTo>
                  <a:pt x="4443" y="663"/>
                </a:lnTo>
                <a:lnTo>
                  <a:pt x="4790" y="29"/>
                </a:lnTo>
                <a:lnTo>
                  <a:pt x="4560" y="729"/>
                </a:lnTo>
                <a:lnTo>
                  <a:pt x="5130" y="257"/>
                </a:lnTo>
                <a:lnTo>
                  <a:pt x="4676" y="844"/>
                </a:lnTo>
                <a:lnTo>
                  <a:pt x="5249" y="959"/>
                </a:lnTo>
                <a:lnTo>
                  <a:pt x="4616" y="988"/>
                </a:lnTo>
                <a:lnTo>
                  <a:pt x="5056" y="1420"/>
                </a:lnTo>
                <a:lnTo>
                  <a:pt x="4494" y="1078"/>
                </a:lnTo>
                <a:lnTo>
                  <a:pt x="4659" y="1695"/>
                </a:lnTo>
                <a:lnTo>
                  <a:pt x="4288" y="1217"/>
                </a:lnTo>
                <a:lnTo>
                  <a:pt x="4238" y="1910"/>
                </a:lnTo>
                <a:lnTo>
                  <a:pt x="3991" y="1313"/>
                </a:lnTo>
                <a:lnTo>
                  <a:pt x="3876" y="2066"/>
                </a:lnTo>
                <a:lnTo>
                  <a:pt x="3580" y="1442"/>
                </a:lnTo>
                <a:lnTo>
                  <a:pt x="3560" y="2137"/>
                </a:lnTo>
                <a:lnTo>
                  <a:pt x="3248" y="1509"/>
                </a:lnTo>
                <a:lnTo>
                  <a:pt x="3100" y="2111"/>
                </a:lnTo>
                <a:lnTo>
                  <a:pt x="2866" y="1590"/>
                </a:lnTo>
                <a:lnTo>
                  <a:pt x="2873" y="2309"/>
                </a:lnTo>
                <a:lnTo>
                  <a:pt x="2493" y="1685"/>
                </a:lnTo>
                <a:lnTo>
                  <a:pt x="2319" y="2355"/>
                </a:lnTo>
                <a:lnTo>
                  <a:pt x="2167" y="1737"/>
                </a:lnTo>
                <a:lnTo>
                  <a:pt x="1869" y="2490"/>
                </a:lnTo>
                <a:lnTo>
                  <a:pt x="1692" y="1804"/>
                </a:lnTo>
                <a:lnTo>
                  <a:pt x="1471" y="2517"/>
                </a:lnTo>
                <a:lnTo>
                  <a:pt x="1301" y="1874"/>
                </a:lnTo>
                <a:lnTo>
                  <a:pt x="877" y="2605"/>
                </a:lnTo>
                <a:lnTo>
                  <a:pt x="1027" y="1867"/>
                </a:lnTo>
                <a:lnTo>
                  <a:pt x="315" y="2454"/>
                </a:lnTo>
                <a:lnTo>
                  <a:pt x="789" y="1856"/>
                </a:lnTo>
                <a:lnTo>
                  <a:pt x="119" y="2082"/>
                </a:lnTo>
                <a:lnTo>
                  <a:pt x="507" y="1703"/>
                </a:lnTo>
                <a:lnTo>
                  <a:pt x="33" y="1686"/>
                </a:lnTo>
                <a:lnTo>
                  <a:pt x="515" y="1511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600" y="547560"/>
            <a:ext cx="372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goal of this cou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85960" y="5546880"/>
            <a:ext cx="798480" cy="387360"/>
          </a:xfrm>
          <a:prstGeom prst="rightArrow">
            <a:avLst>
              <a:gd name="adj1" fmla="val 50000"/>
              <a:gd name="adj2" fmla="val 51591"/>
            </a:avLst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6520" y="5494320"/>
            <a:ext cx="321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er as a to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2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8196120" y="1620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0880" y="547560"/>
            <a:ext cx="7831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pecific objectives of this cou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ematics package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ormula cru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eadsheet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umber cru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basic operation of the comp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sign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or programm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-programming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in a high-level language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eneral problem sol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21760" y="1290600"/>
            <a:ext cx="75639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n Christen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stant Prof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 Science and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.D. - N.C. State University,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1983 -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F 1995 -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ations, patents, and a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journal papers, 15 conference papers, and 10 U.S. patents (IB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997 USF outstanding undergraduate teaching a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998 USF Teaching Incentive Program (TIP) a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 and 1999 ASEE/NASA Summer Faculty Fellowship at NASA-K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 evaluation of computer network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43480" y="1292400"/>
            <a:ext cx="1710000" cy="1709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34840" y="2949480"/>
            <a:ext cx="32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ttp://www.csee.usf.edu/~chri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8720" y="1602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9960" y="547560"/>
            <a:ext cx="4237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of i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3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08720" y="1494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520" y="547560"/>
            <a:ext cx="5535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of teaching assist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4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1117800" y="1290600"/>
            <a:ext cx="5324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 Zh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20 hrs/w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uate student (Computer Science and Enginee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jit Vaidy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5 hrs/w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uate student (Computer Science and Enginee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08720" y="14940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65880" y="6033960"/>
            <a:ext cx="1600200" cy="660600"/>
            <a:chOff x="7265880" y="6033960"/>
            <a:chExt cx="1600200" cy="660600"/>
          </a:xfrm>
        </p:grpSpPr>
        <p:sp>
          <p:nvSpPr>
            <p:cNvPr id="24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82560" cy="6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652680" y="547560"/>
            <a:ext cx="661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tive stu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is to make su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derstan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 of this course (including Web 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objectives and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s of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ility of instructor and teaching assi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0760000">
            <a:off x="2059560" y="3821040"/>
            <a:ext cx="422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Handout syllabus and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d point-to/discuss ASE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79480" y="3259080"/>
            <a:ext cx="6192720" cy="2040120"/>
          </a:xfrm>
          <a:custGeom>
            <a:avLst/>
            <a:gdLst/>
            <a:ahLst/>
            <a:rect l="l" t="t" r="r" b="b"/>
            <a:pathLst>
              <a:path w="3901" h="1285">
                <a:moveTo>
                  <a:pt x="3900" y="222"/>
                </a:moveTo>
                <a:lnTo>
                  <a:pt x="3402" y="292"/>
                </a:lnTo>
                <a:lnTo>
                  <a:pt x="3852" y="134"/>
                </a:lnTo>
                <a:lnTo>
                  <a:pt x="3338" y="234"/>
                </a:lnTo>
                <a:lnTo>
                  <a:pt x="3731" y="67"/>
                </a:lnTo>
                <a:lnTo>
                  <a:pt x="3220" y="191"/>
                </a:lnTo>
                <a:lnTo>
                  <a:pt x="3541" y="21"/>
                </a:lnTo>
                <a:lnTo>
                  <a:pt x="3055" y="166"/>
                </a:lnTo>
                <a:lnTo>
                  <a:pt x="3289" y="0"/>
                </a:lnTo>
                <a:lnTo>
                  <a:pt x="2845" y="159"/>
                </a:lnTo>
                <a:lnTo>
                  <a:pt x="2988" y="3"/>
                </a:lnTo>
                <a:lnTo>
                  <a:pt x="2603" y="171"/>
                </a:lnTo>
                <a:lnTo>
                  <a:pt x="2645" y="30"/>
                </a:lnTo>
                <a:lnTo>
                  <a:pt x="2334" y="201"/>
                </a:lnTo>
                <a:lnTo>
                  <a:pt x="2277" y="81"/>
                </a:lnTo>
                <a:lnTo>
                  <a:pt x="2052" y="247"/>
                </a:lnTo>
                <a:lnTo>
                  <a:pt x="1895" y="155"/>
                </a:lnTo>
                <a:lnTo>
                  <a:pt x="1766" y="309"/>
                </a:lnTo>
                <a:lnTo>
                  <a:pt x="1515" y="245"/>
                </a:lnTo>
                <a:lnTo>
                  <a:pt x="1486" y="384"/>
                </a:lnTo>
                <a:lnTo>
                  <a:pt x="1153" y="352"/>
                </a:lnTo>
                <a:lnTo>
                  <a:pt x="1223" y="469"/>
                </a:lnTo>
                <a:lnTo>
                  <a:pt x="820" y="470"/>
                </a:lnTo>
                <a:lnTo>
                  <a:pt x="990" y="559"/>
                </a:lnTo>
                <a:lnTo>
                  <a:pt x="532" y="594"/>
                </a:lnTo>
                <a:lnTo>
                  <a:pt x="793" y="653"/>
                </a:lnTo>
                <a:lnTo>
                  <a:pt x="297" y="720"/>
                </a:lnTo>
                <a:lnTo>
                  <a:pt x="641" y="747"/>
                </a:lnTo>
                <a:lnTo>
                  <a:pt x="127" y="845"/>
                </a:lnTo>
                <a:lnTo>
                  <a:pt x="538" y="838"/>
                </a:lnTo>
                <a:lnTo>
                  <a:pt x="27" y="959"/>
                </a:lnTo>
                <a:lnTo>
                  <a:pt x="490" y="921"/>
                </a:lnTo>
                <a:lnTo>
                  <a:pt x="0" y="1063"/>
                </a:lnTo>
                <a:lnTo>
                  <a:pt x="498" y="993"/>
                </a:lnTo>
                <a:lnTo>
                  <a:pt x="47" y="1151"/>
                </a:lnTo>
                <a:lnTo>
                  <a:pt x="562" y="1050"/>
                </a:lnTo>
                <a:lnTo>
                  <a:pt x="169" y="1217"/>
                </a:lnTo>
                <a:lnTo>
                  <a:pt x="680" y="1093"/>
                </a:lnTo>
                <a:lnTo>
                  <a:pt x="358" y="1264"/>
                </a:lnTo>
                <a:lnTo>
                  <a:pt x="845" y="1119"/>
                </a:lnTo>
                <a:lnTo>
                  <a:pt x="609" y="1284"/>
                </a:lnTo>
                <a:lnTo>
                  <a:pt x="1054" y="1125"/>
                </a:lnTo>
                <a:lnTo>
                  <a:pt x="912" y="1281"/>
                </a:lnTo>
                <a:lnTo>
                  <a:pt x="1297" y="1114"/>
                </a:lnTo>
                <a:lnTo>
                  <a:pt x="1254" y="1254"/>
                </a:lnTo>
                <a:lnTo>
                  <a:pt x="1565" y="1084"/>
                </a:lnTo>
                <a:lnTo>
                  <a:pt x="1623" y="1203"/>
                </a:lnTo>
                <a:lnTo>
                  <a:pt x="1848" y="1037"/>
                </a:lnTo>
                <a:lnTo>
                  <a:pt x="2005" y="1130"/>
                </a:lnTo>
                <a:lnTo>
                  <a:pt x="2134" y="975"/>
                </a:lnTo>
                <a:lnTo>
                  <a:pt x="2385" y="1039"/>
                </a:lnTo>
                <a:lnTo>
                  <a:pt x="2414" y="900"/>
                </a:lnTo>
                <a:lnTo>
                  <a:pt x="2747" y="932"/>
                </a:lnTo>
                <a:lnTo>
                  <a:pt x="2677" y="816"/>
                </a:lnTo>
                <a:lnTo>
                  <a:pt x="3080" y="814"/>
                </a:lnTo>
                <a:lnTo>
                  <a:pt x="2910" y="725"/>
                </a:lnTo>
                <a:lnTo>
                  <a:pt x="3368" y="690"/>
                </a:lnTo>
                <a:lnTo>
                  <a:pt x="3107" y="631"/>
                </a:lnTo>
                <a:lnTo>
                  <a:pt x="3603" y="564"/>
                </a:lnTo>
                <a:lnTo>
                  <a:pt x="3259" y="537"/>
                </a:lnTo>
                <a:lnTo>
                  <a:pt x="3773" y="440"/>
                </a:lnTo>
                <a:lnTo>
                  <a:pt x="3362" y="446"/>
                </a:lnTo>
                <a:lnTo>
                  <a:pt x="3873" y="325"/>
                </a:lnTo>
                <a:lnTo>
                  <a:pt x="3410" y="363"/>
                </a:lnTo>
                <a:lnTo>
                  <a:pt x="3900" y="222"/>
                </a:lnTo>
              </a:path>
            </a:pathLst>
          </a:custGeom>
          <a:noFill/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neth J. Christensen</cp:lastModifiedBy>
  <cp:lastPrinted>1997-08-23T22:10:08Z</cp:lastPrinted>
  <dcterms:modified xsi:type="dcterms:W3CDTF">1999-08-21T02:08:33Z</dcterms:modified>
  <cp:revision>21</cp:revision>
  <dc:subject/>
  <dc:title>No Slide Title</dc:title>
</cp:coreProperties>
</file>