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9DE-CE95-47BD-8E51-5994C72C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31E-0ED8-4FFF-AAC3-B95E3B7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579-B2B7-428C-B49A-08CEDC09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060-AF46-493A-8B5A-86399EC6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C0A-E2A9-4245-AB3A-957FE179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77D-BEA1-485C-8A77-9805D52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2B5-A8D4-4F32-8EB8-FF191E83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89C-D758-441F-88D2-694CB81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C86-0AB6-4010-ABAC-25598C62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26E-C936-4B2A-9F6C-B4BF672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836-B0DA-41F0-A1D8-30786118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090-F8FA-409C-A356-1E2E7DF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9817-9C4C-4B48-B29B-71594BAE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2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960" y="2389320"/>
            <a:ext cx="1967040" cy="286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95720" y="3579840"/>
            <a:ext cx="2421000" cy="1562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657840" y="5584680"/>
            <a:ext cx="2198880" cy="1036800"/>
            <a:chOff x="6657840" y="5584680"/>
            <a:chExt cx="2198880" cy="1036800"/>
          </a:xfrm>
        </p:grpSpPr>
        <p:sp>
          <p:nvSpPr>
            <p:cNvPr id="47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657840" y="5584680"/>
              <a:ext cx="1074960" cy="103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7489800" y="108000"/>
            <a:ext cx="1575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1 (08/26/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08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76560" y="4772160"/>
            <a:ext cx="1434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040" y="403200"/>
            <a:ext cx="63486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8320" y="1824120"/>
            <a:ext cx="7782120" cy="1936800"/>
          </a:xfrm>
          <a:custGeom>
            <a:avLst/>
            <a:gdLst>
              <a:gd name="textAreaLeft" fmla="*/ 288000 w 7782120"/>
              <a:gd name="textAreaRight" fmla="*/ 7494120 w 7782120"/>
              <a:gd name="textAreaTop" fmla="*/ 71640 h 1936800"/>
              <a:gd name="textAreaBottom" fmla="*/ 1546920 h 1936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9440" y="2017800"/>
            <a:ext cx="7370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ll 1999 office hour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d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:00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:00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ointments are alway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best reach via email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isten@csee.usf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0280" y="3789360"/>
            <a:ext cx="2251080" cy="225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84320" y="3736800"/>
            <a:ext cx="5496120" cy="2035440"/>
          </a:xfrm>
          <a:prstGeom prst="roundRect">
            <a:avLst>
              <a:gd name="adj" fmla="val 124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7400" y="3827520"/>
            <a:ext cx="4907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 OFFICE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i Zhou - MW 5:30 to 6:30, TH - 5:40 to 6: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jit Vaidya - F 11:00 to 2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264440" y="6032520"/>
            <a:ext cx="1599840" cy="622440"/>
            <a:chOff x="7264440" y="6032520"/>
            <a:chExt cx="1599840" cy="622440"/>
          </a:xfrm>
        </p:grpSpPr>
        <p:sp>
          <p:nvSpPr>
            <p:cNvPr id="128" name=""/>
            <p:cNvSpPr/>
            <p:nvPr/>
          </p:nvSpPr>
          <p:spPr>
            <a:xfrm>
              <a:off x="7273800" y="603576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2200" y="60958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64440" y="6032520"/>
              <a:ext cx="64440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662760" y="546120"/>
            <a:ext cx="37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040" y="403200"/>
            <a:ext cx="63486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64440" y="6032520"/>
            <a:ext cx="1599840" cy="622440"/>
            <a:chOff x="7264440" y="6032520"/>
            <a:chExt cx="1599840" cy="622440"/>
          </a:xfrm>
        </p:grpSpPr>
        <p:sp>
          <p:nvSpPr>
            <p:cNvPr id="137" name=""/>
            <p:cNvSpPr/>
            <p:nvPr/>
          </p:nvSpPr>
          <p:spPr>
            <a:xfrm>
              <a:off x="7273800" y="603576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82200" y="60958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264440" y="6032520"/>
              <a:ext cx="64440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651960" y="546120"/>
            <a:ext cx="80640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should I take no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important is to pay attention and understand in “real time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take notes by overhead # (upper right corner) and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refer to a print-out of the class overhe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should I best prepare for this 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st advice is to STAY AHEAD of the curve.  Your clas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 time will be much more productive.  One hour of “stay a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worth two to ten hours of “catch-up”. 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Think about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do you make this class so h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ork very hard to make this class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EAS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Please tell me wha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to make your learning easier... anything except dro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(“dumbing down”), which is not fair to you, me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future employer or graduate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040" y="403200"/>
            <a:ext cx="63486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64440" y="6032520"/>
            <a:ext cx="1599840" cy="622440"/>
            <a:chOff x="7264440" y="6032520"/>
            <a:chExt cx="1599840" cy="622440"/>
          </a:xfrm>
        </p:grpSpPr>
        <p:sp>
          <p:nvSpPr>
            <p:cNvPr id="146" name=""/>
            <p:cNvSpPr/>
            <p:nvPr/>
          </p:nvSpPr>
          <p:spPr>
            <a:xfrm>
              <a:off x="7273800" y="603576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2200" y="60958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264440" y="6032520"/>
              <a:ext cx="64440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654480" y="546120"/>
            <a:ext cx="720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thematics package by Mathsof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ww.mathsoft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version is 8.0 and we have 8.0 in the lab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is about $13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ardest thing to learn is “what to ty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5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660600" y="547560"/>
            <a:ext cx="4097160" cy="20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variable (e.g., 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 variable (e.g., i,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 (e.g., yea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26080" y="3071880"/>
            <a:ext cx="243288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: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: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:= 1 …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 := 1, 1.1 …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=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5720" y="2935440"/>
            <a:ext cx="2846520" cy="302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3600" y="2773440"/>
            <a:ext cx="175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: to get :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60320" y="3392640"/>
            <a:ext cx="173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; to ge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01920" y="2968560"/>
            <a:ext cx="1936800" cy="98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921120" y="3624120"/>
            <a:ext cx="135432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456080" y="4540320"/>
            <a:ext cx="1484280" cy="566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23440" y="4334040"/>
            <a:ext cx="175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size of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52960" y="494028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[ to get sub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158720" y="5124600"/>
            <a:ext cx="1783080" cy="32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657600" y="4780080"/>
            <a:ext cx="412920" cy="352440"/>
            <a:chOff x="3657600" y="4780080"/>
            <a:chExt cx="412920" cy="352440"/>
          </a:xfrm>
        </p:grpSpPr>
        <p:sp>
          <p:nvSpPr>
            <p:cNvPr id="169" name=""/>
            <p:cNvSpPr/>
            <p:nvPr/>
          </p:nvSpPr>
          <p:spPr>
            <a:xfrm flipH="1">
              <a:off x="3808440" y="4784760"/>
              <a:ext cx="8424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7360" y="4780080"/>
              <a:ext cx="1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717720" y="4992480"/>
              <a:ext cx="8388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657600" y="4993920"/>
              <a:ext cx="540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652320" y="547560"/>
            <a:ext cx="6471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, -. *. /, 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and product of a vector (subscripted 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 root, etc. from calculator pal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and differentiate from calculus pal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7320" y="3251160"/>
            <a:ext cx="211572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: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:= 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:= y + 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:= 1 …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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7920" y="3222720"/>
            <a:ext cx="2260800" cy="321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24120" y="3478320"/>
            <a:ext cx="2694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wo kinds of equal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re, := for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= for “show resul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5160" y="3048120"/>
            <a:ext cx="4157640" cy="2109600"/>
          </a:xfrm>
          <a:custGeom>
            <a:avLst/>
            <a:gdLst/>
            <a:ahLst/>
            <a:rect l="l" t="t" r="r" b="b"/>
            <a:pathLst>
              <a:path w="2619" h="1329">
                <a:moveTo>
                  <a:pt x="469" y="464"/>
                </a:moveTo>
                <a:lnTo>
                  <a:pt x="123" y="242"/>
                </a:lnTo>
                <a:lnTo>
                  <a:pt x="145" y="242"/>
                </a:lnTo>
                <a:lnTo>
                  <a:pt x="489" y="307"/>
                </a:lnTo>
                <a:lnTo>
                  <a:pt x="379" y="65"/>
                </a:lnTo>
                <a:lnTo>
                  <a:pt x="406" y="72"/>
                </a:lnTo>
                <a:lnTo>
                  <a:pt x="606" y="229"/>
                </a:lnTo>
                <a:lnTo>
                  <a:pt x="627" y="216"/>
                </a:lnTo>
                <a:lnTo>
                  <a:pt x="737" y="33"/>
                </a:lnTo>
                <a:lnTo>
                  <a:pt x="923" y="242"/>
                </a:lnTo>
                <a:lnTo>
                  <a:pt x="1026" y="52"/>
                </a:lnTo>
                <a:lnTo>
                  <a:pt x="1047" y="52"/>
                </a:lnTo>
                <a:lnTo>
                  <a:pt x="1123" y="209"/>
                </a:lnTo>
                <a:lnTo>
                  <a:pt x="1247" y="39"/>
                </a:lnTo>
                <a:lnTo>
                  <a:pt x="1343" y="242"/>
                </a:lnTo>
                <a:lnTo>
                  <a:pt x="1447" y="59"/>
                </a:lnTo>
                <a:lnTo>
                  <a:pt x="1571" y="242"/>
                </a:lnTo>
                <a:lnTo>
                  <a:pt x="1577" y="216"/>
                </a:lnTo>
                <a:lnTo>
                  <a:pt x="1729" y="0"/>
                </a:lnTo>
                <a:lnTo>
                  <a:pt x="1742" y="26"/>
                </a:lnTo>
                <a:lnTo>
                  <a:pt x="1750" y="46"/>
                </a:lnTo>
                <a:lnTo>
                  <a:pt x="1866" y="209"/>
                </a:lnTo>
                <a:lnTo>
                  <a:pt x="2011" y="6"/>
                </a:lnTo>
                <a:lnTo>
                  <a:pt x="2114" y="242"/>
                </a:lnTo>
                <a:lnTo>
                  <a:pt x="2459" y="65"/>
                </a:lnTo>
                <a:lnTo>
                  <a:pt x="2383" y="274"/>
                </a:lnTo>
                <a:lnTo>
                  <a:pt x="2618" y="320"/>
                </a:lnTo>
                <a:lnTo>
                  <a:pt x="2431" y="517"/>
                </a:lnTo>
                <a:lnTo>
                  <a:pt x="2596" y="634"/>
                </a:lnTo>
                <a:lnTo>
                  <a:pt x="2362" y="634"/>
                </a:lnTo>
                <a:lnTo>
                  <a:pt x="2528" y="851"/>
                </a:lnTo>
                <a:lnTo>
                  <a:pt x="2321" y="778"/>
                </a:lnTo>
                <a:lnTo>
                  <a:pt x="2259" y="1112"/>
                </a:lnTo>
                <a:lnTo>
                  <a:pt x="2135" y="909"/>
                </a:lnTo>
                <a:lnTo>
                  <a:pt x="1998" y="1178"/>
                </a:lnTo>
                <a:lnTo>
                  <a:pt x="1929" y="864"/>
                </a:lnTo>
                <a:lnTo>
                  <a:pt x="1756" y="1184"/>
                </a:lnTo>
                <a:lnTo>
                  <a:pt x="1695" y="903"/>
                </a:lnTo>
                <a:lnTo>
                  <a:pt x="1605" y="1217"/>
                </a:lnTo>
                <a:lnTo>
                  <a:pt x="1447" y="909"/>
                </a:lnTo>
                <a:lnTo>
                  <a:pt x="1254" y="1308"/>
                </a:lnTo>
                <a:lnTo>
                  <a:pt x="1226" y="896"/>
                </a:lnTo>
                <a:lnTo>
                  <a:pt x="1047" y="1328"/>
                </a:lnTo>
                <a:lnTo>
                  <a:pt x="971" y="916"/>
                </a:lnTo>
                <a:lnTo>
                  <a:pt x="751" y="1308"/>
                </a:lnTo>
                <a:lnTo>
                  <a:pt x="730" y="922"/>
                </a:lnTo>
                <a:lnTo>
                  <a:pt x="345" y="1178"/>
                </a:lnTo>
                <a:lnTo>
                  <a:pt x="516" y="864"/>
                </a:lnTo>
                <a:lnTo>
                  <a:pt x="96" y="961"/>
                </a:lnTo>
                <a:lnTo>
                  <a:pt x="441" y="707"/>
                </a:lnTo>
                <a:lnTo>
                  <a:pt x="0" y="530"/>
                </a:lnTo>
                <a:lnTo>
                  <a:pt x="469" y="46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2360" y="6135840"/>
            <a:ext cx="23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8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52320" y="547560"/>
            <a:ext cx="6544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ts of built-in func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rite your own, f(x) = calculations in terms of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3920" y="2786040"/>
            <a:ext cx="2246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: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: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4)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y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1000)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11200" y="2684520"/>
            <a:ext cx="2511360" cy="285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51400" y="3432240"/>
            <a:ext cx="1817640" cy="29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134880" y="3457440"/>
            <a:ext cx="221148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41760" y="3144960"/>
            <a:ext cx="2752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 x used he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“invoked” with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re… this is how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ction wor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9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649440" y="547560"/>
            <a:ext cx="8082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built-in functions vi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ert / Choose 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u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use HELP to find a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2840" y="2786040"/>
            <a:ext cx="3803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generate a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?  Use hel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11200" y="2684520"/>
            <a:ext cx="4095720" cy="19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0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658800" y="547560"/>
            <a:ext cx="49579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s and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ector is a one-dimension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trix is a two dimension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73560" y="2786040"/>
            <a:ext cx="18234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:= 0 …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:= 0 …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= i +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11200" y="2684520"/>
            <a:ext cx="2260800" cy="25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59160" y="3265560"/>
            <a:ext cx="1590840" cy="118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1920" y="3038400"/>
            <a:ext cx="205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65560" y="3992040"/>
            <a:ext cx="1722240" cy="83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0200" y="3728880"/>
            <a:ext cx="267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his is a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2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656640" y="547560"/>
            <a:ext cx="6146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s and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enter vi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th / matr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nu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2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654840" y="547560"/>
            <a:ext cx="675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raph a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raph a vector (or a matrix for a 3D grap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raph a vector against another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for grap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a function or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a rang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phics / Create X-Y Pl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menu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range variable on x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function or vector on y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f… you have a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71920" y="4699080"/>
            <a:ext cx="258840" cy="264960"/>
            <a:chOff x="4471920" y="4699080"/>
            <a:chExt cx="258840" cy="264960"/>
          </a:xfrm>
        </p:grpSpPr>
        <p:grpSp>
          <p:nvGrpSpPr>
            <p:cNvPr id="233" name=""/>
            <p:cNvGrpSpPr/>
            <p:nvPr/>
          </p:nvGrpSpPr>
          <p:grpSpPr>
            <a:xfrm>
              <a:off x="4527720" y="4778640"/>
              <a:ext cx="167400" cy="126720"/>
              <a:chOff x="4527720" y="4778640"/>
              <a:chExt cx="167400" cy="126720"/>
            </a:xfrm>
          </p:grpSpPr>
          <p:sp>
            <p:nvSpPr>
              <p:cNvPr id="234" name=""/>
              <p:cNvSpPr/>
              <p:nvPr/>
            </p:nvSpPr>
            <p:spPr>
              <a:xfrm>
                <a:off x="4529880" y="4779000"/>
                <a:ext cx="16416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6706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67066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27720" y="4778640"/>
                <a:ext cx="167400" cy="12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67" y="21568"/>
                    </a:moveTo>
                    <a:arcTo wR="10800" hR="10800" stAng="5665575" swAng="51344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67" y="21568"/>
                    </a:moveTo>
                    <a:arcTo wR="10800" hR="10800" stAng="5665575" swAng="513442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4471920" y="4699080"/>
              <a:ext cx="258840" cy="264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541760" y="4765680"/>
              <a:ext cx="114480" cy="33480"/>
              <a:chOff x="4541760" y="4765680"/>
              <a:chExt cx="114480" cy="33480"/>
            </a:xfrm>
          </p:grpSpPr>
          <p:sp>
            <p:nvSpPr>
              <p:cNvPr id="238" name=""/>
              <p:cNvSpPr/>
              <p:nvPr/>
            </p:nvSpPr>
            <p:spPr>
              <a:xfrm>
                <a:off x="4541760" y="4765680"/>
                <a:ext cx="3348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24560" y="4765680"/>
                <a:ext cx="3168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840" y="547560"/>
            <a:ext cx="53208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s (including index vari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calculations a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 and mat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blocks and root f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ic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olving with Math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ng random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ing one vector against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-even analysis for economic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st-squares fit for tre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us - derivatives and integ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5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1480" y="4270320"/>
            <a:ext cx="247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ssignment #1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3520" y="3760560"/>
            <a:ext cx="2110680" cy="181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4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656640" y="547560"/>
            <a:ext cx="5581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olve for N unknowns in N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72840" y="2786040"/>
            <a:ext cx="274068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:= 1    y := 1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*x + 3*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*x - 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(x,y) =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11200" y="2684520"/>
            <a:ext cx="3035520" cy="332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240" y="5097600"/>
            <a:ext cx="33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5440" y="3035160"/>
            <a:ext cx="29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guess” (this is needed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897000" y="3230640"/>
            <a:ext cx="1282680" cy="49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760" y="4214880"/>
            <a:ext cx="223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943000" y="4122720"/>
            <a:ext cx="253188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492280" y="4449600"/>
            <a:ext cx="2973600" cy="110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58400" y="4979880"/>
            <a:ext cx="2600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e use of cons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quals (Ctrl =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30720" y="4780080"/>
            <a:ext cx="3392640" cy="107136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6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654120" y="547560"/>
            <a:ext cx="626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find roots of an equation in (at least) 3 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ymbolic fac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roo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 to visually find the ro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54480" y="3149640"/>
            <a:ext cx="286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: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7x +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(x, f(x))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87440" y="3048120"/>
            <a:ext cx="3035160" cy="22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71840" y="3868560"/>
            <a:ext cx="335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what about the other r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016160" y="4065480"/>
            <a:ext cx="1245960" cy="70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657000" y="547560"/>
            <a:ext cx="48744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math (math without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s (FF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59120" y="1622160"/>
            <a:ext cx="3603600" cy="47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82920" y="1622520"/>
            <a:ext cx="3067200" cy="1363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943360" y="1633320"/>
            <a:ext cx="3497040" cy="16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51200" y="1384200"/>
            <a:ext cx="94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665640" y="547560"/>
            <a:ext cx="2978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91200" y="2214720"/>
            <a:ext cx="286416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: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7x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=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24160" y="2112840"/>
            <a:ext cx="3297240" cy="25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9360" y="3774960"/>
            <a:ext cx="33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02160" y="2787120"/>
            <a:ext cx="1447920" cy="352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2000" y="2560680"/>
            <a:ext cx="237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29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654840" y="547560"/>
            <a:ext cx="671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 Solving using Mathc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he problem (defin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her information (the inpu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nd evaluate potential solutions (“metho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and implement 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the solution through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9760" y="4067280"/>
            <a:ext cx="1928880" cy="9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3960" y="4302000"/>
            <a:ext cx="113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08360" y="453384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99160" y="453384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78520" y="4105440"/>
            <a:ext cx="82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440" y="4105440"/>
            <a:ext cx="99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6560" y="5600880"/>
            <a:ext cx="33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SE THE RIGH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9080" y="4357440"/>
            <a:ext cx="17614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0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655200" y="547560"/>
            <a:ext cx="77986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vector that contains 1000 random integers between -5 an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min, max, and mean of th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1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662040" y="547560"/>
            <a:ext cx="54579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two electrical signals on an XY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n example of how a TV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gnal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n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25), i = 0…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s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15), i = 0…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2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652320" y="547560"/>
            <a:ext cx="70902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-eve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-even occurs where costs equals 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cost to produce a bird house is $1500 + $6.0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price (revenue) of a bird house is $8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bird houses must we sell to break-ev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3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/>
          <p:cNvSpPr/>
          <p:nvPr/>
        </p:nvSpPr>
        <p:spPr>
          <a:xfrm>
            <a:off x="656280" y="547560"/>
            <a:ext cx="754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st-squares fit for trend analy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daily oil production for 12 months i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, 64, 65, 60, 68, 58, 54, 54, 58, 48, 49, 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trend and (if negative) when will the oil run ou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3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"/>
          <p:cNvSpPr/>
          <p:nvPr/>
        </p:nvSpPr>
        <p:spPr>
          <a:xfrm>
            <a:off x="651960" y="547560"/>
            <a:ext cx="7868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4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 least-squares f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ting a line to data such that deviations are as smal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87520" y="2895480"/>
            <a:ext cx="6033960" cy="2598840"/>
          </a:xfrm>
          <a:custGeom>
            <a:avLst/>
            <a:gdLst/>
            <a:ahLst/>
            <a:rect l="l" t="t" r="r" b="b"/>
            <a:pathLst>
              <a:path w="3801" h="1637">
                <a:moveTo>
                  <a:pt x="0" y="0"/>
                </a:moveTo>
                <a:lnTo>
                  <a:pt x="0" y="1636"/>
                </a:lnTo>
                <a:lnTo>
                  <a:pt x="3800" y="16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26720" y="390060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93560" y="435924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28440" y="388764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60320" y="379080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2760" y="345456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2600" y="296856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8320" y="309888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82560" y="3535200"/>
            <a:ext cx="325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353960" y="3284640"/>
            <a:ext cx="4475520" cy="18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76480" y="4465800"/>
            <a:ext cx="0" cy="347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52560" y="2417760"/>
            <a:ext cx="135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88920" y="264492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149200" y="2867040"/>
            <a:ext cx="654120" cy="171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371480" y="2616120"/>
            <a:ext cx="1119240" cy="94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24400" y="3649680"/>
            <a:ext cx="85716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720" y="4062240"/>
            <a:ext cx="122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te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20520" y="5464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00600" y="2809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6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651960" y="547560"/>
            <a:ext cx="70596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ssume that EVERO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read the ASEE paper on the class 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worked, or is working, through the Mathcad tu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material posted on the class 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y of the above is not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EE ME OR A TA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68520" y="2385720"/>
            <a:ext cx="2174760" cy="22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7120" y="4156200"/>
            <a:ext cx="860760" cy="8604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7160" y="1303200"/>
            <a:ext cx="319320" cy="1395720"/>
          </a:xfrm>
          <a:custGeom>
            <a:avLst/>
            <a:gdLst/>
            <a:ahLst/>
            <a:rect l="l" t="t" r="r" b="b"/>
            <a:pathLst>
              <a:path w="201" h="879">
                <a:moveTo>
                  <a:pt x="0" y="0"/>
                </a:moveTo>
                <a:lnTo>
                  <a:pt x="24" y="3"/>
                </a:lnTo>
                <a:lnTo>
                  <a:pt x="40" y="5"/>
                </a:lnTo>
                <a:lnTo>
                  <a:pt x="72" y="22"/>
                </a:lnTo>
                <a:lnTo>
                  <a:pt x="96" y="43"/>
                </a:lnTo>
                <a:lnTo>
                  <a:pt x="104" y="73"/>
                </a:lnTo>
                <a:lnTo>
                  <a:pt x="104" y="364"/>
                </a:lnTo>
                <a:lnTo>
                  <a:pt x="112" y="394"/>
                </a:lnTo>
                <a:lnTo>
                  <a:pt x="128" y="416"/>
                </a:lnTo>
                <a:lnTo>
                  <a:pt x="160" y="432"/>
                </a:lnTo>
                <a:lnTo>
                  <a:pt x="184" y="435"/>
                </a:lnTo>
                <a:lnTo>
                  <a:pt x="200" y="438"/>
                </a:lnTo>
                <a:lnTo>
                  <a:pt x="184" y="440"/>
                </a:lnTo>
                <a:lnTo>
                  <a:pt x="160" y="443"/>
                </a:lnTo>
                <a:lnTo>
                  <a:pt x="128" y="459"/>
                </a:lnTo>
                <a:lnTo>
                  <a:pt x="112" y="481"/>
                </a:lnTo>
                <a:lnTo>
                  <a:pt x="104" y="511"/>
                </a:lnTo>
                <a:lnTo>
                  <a:pt x="104" y="805"/>
                </a:lnTo>
                <a:lnTo>
                  <a:pt x="96" y="832"/>
                </a:lnTo>
                <a:lnTo>
                  <a:pt x="72" y="856"/>
                </a:lnTo>
                <a:lnTo>
                  <a:pt x="40" y="873"/>
                </a:lnTo>
                <a:lnTo>
                  <a:pt x="24" y="875"/>
                </a:lnTo>
                <a:lnTo>
                  <a:pt x="0" y="8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1800" y="1797120"/>
            <a:ext cx="86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6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/>
          <p:cNvSpPr/>
          <p:nvPr/>
        </p:nvSpPr>
        <p:spPr>
          <a:xfrm>
            <a:off x="658080" y="547560"/>
            <a:ext cx="595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us - deriv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a derivative at a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what is df(x)/dx at x = 3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df(x)/dx (the derivative function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7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"/>
          <p:cNvSpPr/>
          <p:nvPr/>
        </p:nvSpPr>
        <p:spPr>
          <a:xfrm>
            <a:off x="651960" y="547560"/>
            <a:ext cx="7710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hcad Problem #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us - integ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for (indefinite integral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distance in feet that a free-falling object falls in 5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ion due to gravity… g = 32.2 ft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locity… v(t) = 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… d = integral of v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24320" y="3295800"/>
                <a:ext cx="51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211480" y="2378160"/>
                <a:ext cx="1296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658800" y="547560"/>
            <a:ext cx="59835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d-of-Math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 lab is this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 quiz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is nex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Exactly 60 minutes to complete two probl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ecture next week (Labor Day holid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 spreadsheet begins in two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7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656640" y="547560"/>
            <a:ext cx="6884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week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www.csee.usf.edu/~christen/class7/class7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35120" y="1957320"/>
            <a:ext cx="55418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647280" y="547560"/>
            <a:ext cx="775296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week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al of this course is 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hieve this goal, you will lea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 for ____________ cru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 for ____________ cru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 for ____________ sol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 for ____________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a 10 year career, about how much more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an engineer make over a business maj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repetitive calculations, _______________ is a good tool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being able to use common tools makes you 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660600" y="547560"/>
            <a:ext cx="81324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week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OS directory is the same things as a Windows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and is used to 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and is used to 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directory is the _____________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\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refers to the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y c:\test\x.dat c:\usf\y.t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does 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nerate or change a text file, one can use 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“unzip”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z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use 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648720" y="547560"/>
            <a:ext cx="790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week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wo directories named usf1 and usf2 on floppy disk. 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exec.bat (found on the root directory of the hard drive) to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two created directories.  Change to the usf1 directory and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tents of this dire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0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69600" y="547560"/>
            <a:ext cx="7500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week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to 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d a:\us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d a:\us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y c:\autoexec.bat a:\usf1\autoexec.b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y c:\autoexec.bat a:\usf2\autoexec.b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a:\us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11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49440" y="547560"/>
            <a:ext cx="75200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z #1 is nex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randomly chosen problems directly from assign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z given in lab sections and is “hands 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d book (only Mathcad may be op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knows where to find assignment #1,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ight!?!?!?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ill need to b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ette (label with your nam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envelope to submit disk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26120" y="3740040"/>
            <a:ext cx="245880" cy="663840"/>
          </a:xfrm>
          <a:custGeom>
            <a:avLst/>
            <a:gdLst/>
            <a:ahLst/>
            <a:rect l="l" t="t" r="r" b="b"/>
            <a:pathLst>
              <a:path w="155" h="418">
                <a:moveTo>
                  <a:pt x="0" y="0"/>
                </a:moveTo>
                <a:lnTo>
                  <a:pt x="33" y="4"/>
                </a:lnTo>
                <a:lnTo>
                  <a:pt x="55" y="9"/>
                </a:lnTo>
                <a:lnTo>
                  <a:pt x="71" y="18"/>
                </a:lnTo>
                <a:lnTo>
                  <a:pt x="77" y="31"/>
                </a:lnTo>
                <a:lnTo>
                  <a:pt x="77" y="173"/>
                </a:lnTo>
                <a:lnTo>
                  <a:pt x="82" y="186"/>
                </a:lnTo>
                <a:lnTo>
                  <a:pt x="99" y="200"/>
                </a:lnTo>
                <a:lnTo>
                  <a:pt x="121" y="204"/>
                </a:lnTo>
                <a:lnTo>
                  <a:pt x="154" y="208"/>
                </a:lnTo>
                <a:lnTo>
                  <a:pt x="121" y="213"/>
                </a:lnTo>
                <a:lnTo>
                  <a:pt x="99" y="217"/>
                </a:lnTo>
                <a:lnTo>
                  <a:pt x="82" y="231"/>
                </a:lnTo>
                <a:lnTo>
                  <a:pt x="77" y="244"/>
                </a:lnTo>
                <a:lnTo>
                  <a:pt x="77" y="382"/>
                </a:lnTo>
                <a:lnTo>
                  <a:pt x="71" y="395"/>
                </a:lnTo>
                <a:lnTo>
                  <a:pt x="55" y="408"/>
                </a:lnTo>
                <a:lnTo>
                  <a:pt x="33" y="413"/>
                </a:lnTo>
                <a:lnTo>
                  <a:pt x="0" y="4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96120" y="3878280"/>
            <a:ext cx="34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+2 pts on quiz #1 for doing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7-08-25T18:29:53Z</cp:lastPrinted>
  <dcterms:modified xsi:type="dcterms:W3CDTF">1999-08-27T16:52:03Z</dcterms:modified>
  <cp:revision>31</cp:revision>
  <dc:subject/>
  <dc:title>No Slide Title</dc:title>
</cp:coreProperties>
</file>