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EA85-3DFF-44A3-9C15-BE546723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F2A-72F2-475A-BB62-48AF9E08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9547-B109-41AE-84CA-B66B29DF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32B4-B979-4A64-9BE3-45064621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9156-75CC-410B-A98A-10EF8103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2864-74D2-4D86-AEF6-2D6FBCFA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2CB-353E-492E-A7E0-6976D34D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7A3-9E8E-484C-9A78-478466F7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8F6-8957-4DEC-B3CA-CB800BE9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0F5-11F1-4E11-91FE-AE933BC7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8FC4-17B2-4DED-A813-3F07144E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8846-1418-4CC6-ADE8-2565B061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63E3-D77C-486A-AD75-9182C1143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41360" y="1065240"/>
            <a:ext cx="5938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ecture #3 fo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Computer Tools for Engine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9960" y="2389320"/>
            <a:ext cx="1954440" cy="2850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58960" y="996840"/>
            <a:ext cx="6845400" cy="1739880"/>
          </a:xfrm>
          <a:custGeom>
            <a:avLst/>
            <a:gdLst>
              <a:gd name="textAreaLeft" fmla="*/ 253440 w 6845400"/>
              <a:gd name="textAreaRight" fmla="*/ 6591960 w 6845400"/>
              <a:gd name="textAreaTop" fmla="*/ 64440 h 1739880"/>
              <a:gd name="textAreaBottom" fmla="*/ 1389600 h 1739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5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95720" y="3579840"/>
            <a:ext cx="2408400" cy="15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657840" y="5584680"/>
            <a:ext cx="2198880" cy="1024200"/>
            <a:chOff x="6657840" y="5584680"/>
            <a:chExt cx="2198880" cy="1024200"/>
          </a:xfrm>
        </p:grpSpPr>
        <p:sp>
          <p:nvSpPr>
            <p:cNvPr id="47" name=""/>
            <p:cNvSpPr/>
            <p:nvPr/>
          </p:nvSpPr>
          <p:spPr>
            <a:xfrm>
              <a:off x="6669000" y="5586480"/>
              <a:ext cx="2187720" cy="99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766640" y="562752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767360" y="6086520"/>
              <a:ext cx="1031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niversity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th Flo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6657840" y="5584680"/>
              <a:ext cx="1062000" cy="102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7586280" y="163440"/>
            <a:ext cx="1395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1 (9/9/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6080" y="127080"/>
            <a:ext cx="239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Point foils for lecture #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265880" y="6033960"/>
            <a:ext cx="1600200" cy="609840"/>
            <a:chOff x="7265880" y="6033960"/>
            <a:chExt cx="1600200" cy="609840"/>
          </a:xfrm>
        </p:grpSpPr>
        <p:sp>
          <p:nvSpPr>
            <p:cNvPr id="13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318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>
            <a:off x="654120" y="547560"/>
            <a:ext cx="64105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thing in a spreadsheet is based on the “cel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(e.g., KJC, ‘1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s (e.g., 100.0, 25%, $35.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s (e.g., 9/16/9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(e.g., 8:50:30 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(TRUE, FAL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ulas (e.g., = a1 + b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ls are addressed by a column letter and row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1 -- single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1:A10 -- column of cel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1:F1 -- row of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1:B3 -- block of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15600" y="5832360"/>
            <a:ext cx="2692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Use : for a range of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226960" y="5311440"/>
            <a:ext cx="1104840" cy="7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265880" y="6033960"/>
            <a:ext cx="1600200" cy="609840"/>
            <a:chOff x="7265880" y="6033960"/>
            <a:chExt cx="1600200" cy="609840"/>
          </a:xfrm>
        </p:grpSpPr>
        <p:sp>
          <p:nvSpPr>
            <p:cNvPr id="14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318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652320" y="547560"/>
            <a:ext cx="71222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l addr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olute (marked with a $) do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shift” when cop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ve (not marked) does shift when cop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77640" y="3224160"/>
            <a:ext cx="14742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$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A$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3087720"/>
            <a:ext cx="2846520" cy="246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846520" y="3274920"/>
            <a:ext cx="3176280" cy="890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152880" y="4443120"/>
            <a:ext cx="2906640" cy="80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33600" y="3081240"/>
            <a:ext cx="2198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ly rel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47280" y="4254480"/>
            <a:ext cx="228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ly absol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20640000">
            <a:off x="4332600" y="5346360"/>
            <a:ext cx="425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Demo “Can You See This”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7265880" y="6033960"/>
            <a:ext cx="1600200" cy="609840"/>
            <a:chOff x="7265880" y="6033960"/>
            <a:chExt cx="1600200" cy="609840"/>
          </a:xfrm>
        </p:grpSpPr>
        <p:sp>
          <p:nvSpPr>
            <p:cNvPr id="15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318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653400" y="547560"/>
            <a:ext cx="67291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cell error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##            = cell not big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N/A         = value not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VALUE  = argument of operand is of incorr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REF!       = reference made to an invalid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DIV/0!    = trying to divide by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NUM      = a number was incorrectly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NAME    = an invalid name was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265880" y="6033960"/>
            <a:ext cx="1600200" cy="609840"/>
            <a:chOff x="7265880" y="6033960"/>
            <a:chExt cx="1600200" cy="609840"/>
          </a:xfrm>
        </p:grpSpPr>
        <p:sp>
          <p:nvSpPr>
            <p:cNvPr id="16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318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/>
          <p:nvPr/>
        </p:nvSpPr>
        <p:spPr>
          <a:xfrm>
            <a:off x="653040" y="547560"/>
            <a:ext cx="67442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ways begin with an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 constants, variables, operators, an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80160" y="3224160"/>
            <a:ext cx="21675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1 + B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QRT(A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1^2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8000" y="3087720"/>
            <a:ext cx="2846520" cy="221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265880" y="6033960"/>
            <a:ext cx="1600200" cy="609840"/>
            <a:chOff x="7265880" y="6033960"/>
            <a:chExt cx="1600200" cy="609840"/>
          </a:xfrm>
        </p:grpSpPr>
        <p:sp>
          <p:nvSpPr>
            <p:cNvPr id="171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318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"/>
          <p:cNvSpPr/>
          <p:nvPr/>
        </p:nvSpPr>
        <p:spPr>
          <a:xfrm>
            <a:off x="652320" y="547560"/>
            <a:ext cx="662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calc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, -. *. /, ^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 of a column or 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basic calculations on columns or rows of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9880" y="547560"/>
            <a:ext cx="46810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 precedence (left-to-r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parenthesis () inside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negation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Percent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) Exponentiation ^ right-to-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) Multiply and divide *,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) Addition and subtraction, +,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) Concatenation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) Comparison =, &lt;, &gt;, &lt;=, &gt;=, &l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905280" y="3396960"/>
            <a:ext cx="2151000" cy="19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24600" y="3182760"/>
            <a:ext cx="2295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(text)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28920" y="3619440"/>
            <a:ext cx="2131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compar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335200" y="3805200"/>
            <a:ext cx="722520" cy="87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265880" y="6033960"/>
            <a:ext cx="1600200" cy="609840"/>
            <a:chOff x="7265880" y="6033960"/>
            <a:chExt cx="1600200" cy="609840"/>
          </a:xfrm>
        </p:grpSpPr>
        <p:sp>
          <p:nvSpPr>
            <p:cNvPr id="18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318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0240" y="547560"/>
            <a:ext cx="42008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 of operator prece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63720" y="2281320"/>
            <a:ext cx="29955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+ 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= 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+ 2 ^ 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4 = 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3 + -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2 ^ 2 + 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+ 2 &lt; 3 + 4 = 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^ 2 ^ 3 =  ___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62040" y="2141640"/>
            <a:ext cx="3559320" cy="326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265880" y="6033960"/>
            <a:ext cx="1600200" cy="609840"/>
            <a:chOff x="7265880" y="6033960"/>
            <a:chExt cx="1600200" cy="609840"/>
          </a:xfrm>
        </p:grpSpPr>
        <p:sp>
          <p:nvSpPr>
            <p:cNvPr id="19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318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"/>
          <p:cNvSpPr/>
          <p:nvPr/>
        </p:nvSpPr>
        <p:spPr>
          <a:xfrm>
            <a:off x="6187320" y="3990960"/>
            <a:ext cx="22240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Use parenthesis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ake formulas ea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o deciph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626080" y="3398760"/>
            <a:ext cx="3121200" cy="2413080"/>
          </a:xfrm>
          <a:custGeom>
            <a:avLst/>
            <a:gdLst/>
            <a:ahLst/>
            <a:rect l="l" t="t" r="r" b="b"/>
            <a:pathLst>
              <a:path w="1966" h="1520">
                <a:moveTo>
                  <a:pt x="352" y="531"/>
                </a:moveTo>
                <a:lnTo>
                  <a:pt x="93" y="277"/>
                </a:lnTo>
                <a:lnTo>
                  <a:pt x="108" y="277"/>
                </a:lnTo>
                <a:lnTo>
                  <a:pt x="367" y="352"/>
                </a:lnTo>
                <a:lnTo>
                  <a:pt x="284" y="74"/>
                </a:lnTo>
                <a:lnTo>
                  <a:pt x="305" y="82"/>
                </a:lnTo>
                <a:lnTo>
                  <a:pt x="455" y="262"/>
                </a:lnTo>
                <a:lnTo>
                  <a:pt x="470" y="247"/>
                </a:lnTo>
                <a:lnTo>
                  <a:pt x="553" y="37"/>
                </a:lnTo>
                <a:lnTo>
                  <a:pt x="693" y="277"/>
                </a:lnTo>
                <a:lnTo>
                  <a:pt x="770" y="59"/>
                </a:lnTo>
                <a:lnTo>
                  <a:pt x="786" y="59"/>
                </a:lnTo>
                <a:lnTo>
                  <a:pt x="842" y="239"/>
                </a:lnTo>
                <a:lnTo>
                  <a:pt x="935" y="44"/>
                </a:lnTo>
                <a:lnTo>
                  <a:pt x="1008" y="277"/>
                </a:lnTo>
                <a:lnTo>
                  <a:pt x="1086" y="67"/>
                </a:lnTo>
                <a:lnTo>
                  <a:pt x="1179" y="277"/>
                </a:lnTo>
                <a:lnTo>
                  <a:pt x="1184" y="247"/>
                </a:lnTo>
                <a:lnTo>
                  <a:pt x="1297" y="0"/>
                </a:lnTo>
                <a:lnTo>
                  <a:pt x="1308" y="29"/>
                </a:lnTo>
                <a:lnTo>
                  <a:pt x="1313" y="52"/>
                </a:lnTo>
                <a:lnTo>
                  <a:pt x="1401" y="239"/>
                </a:lnTo>
                <a:lnTo>
                  <a:pt x="1510" y="7"/>
                </a:lnTo>
                <a:lnTo>
                  <a:pt x="1587" y="277"/>
                </a:lnTo>
                <a:lnTo>
                  <a:pt x="1845" y="74"/>
                </a:lnTo>
                <a:lnTo>
                  <a:pt x="1789" y="314"/>
                </a:lnTo>
                <a:lnTo>
                  <a:pt x="1965" y="367"/>
                </a:lnTo>
                <a:lnTo>
                  <a:pt x="1825" y="591"/>
                </a:lnTo>
                <a:lnTo>
                  <a:pt x="1949" y="726"/>
                </a:lnTo>
                <a:lnTo>
                  <a:pt x="1773" y="726"/>
                </a:lnTo>
                <a:lnTo>
                  <a:pt x="1897" y="973"/>
                </a:lnTo>
                <a:lnTo>
                  <a:pt x="1742" y="890"/>
                </a:lnTo>
                <a:lnTo>
                  <a:pt x="1696" y="1272"/>
                </a:lnTo>
                <a:lnTo>
                  <a:pt x="1603" y="1040"/>
                </a:lnTo>
                <a:lnTo>
                  <a:pt x="1499" y="1347"/>
                </a:lnTo>
                <a:lnTo>
                  <a:pt x="1448" y="988"/>
                </a:lnTo>
                <a:lnTo>
                  <a:pt x="1318" y="1354"/>
                </a:lnTo>
                <a:lnTo>
                  <a:pt x="1272" y="1033"/>
                </a:lnTo>
                <a:lnTo>
                  <a:pt x="1204" y="1392"/>
                </a:lnTo>
                <a:lnTo>
                  <a:pt x="1086" y="1040"/>
                </a:lnTo>
                <a:lnTo>
                  <a:pt x="941" y="1497"/>
                </a:lnTo>
                <a:lnTo>
                  <a:pt x="920" y="1025"/>
                </a:lnTo>
                <a:lnTo>
                  <a:pt x="786" y="1519"/>
                </a:lnTo>
                <a:lnTo>
                  <a:pt x="729" y="1048"/>
                </a:lnTo>
                <a:lnTo>
                  <a:pt x="563" y="1497"/>
                </a:lnTo>
                <a:lnTo>
                  <a:pt x="548" y="1055"/>
                </a:lnTo>
                <a:lnTo>
                  <a:pt x="259" y="1347"/>
                </a:lnTo>
                <a:lnTo>
                  <a:pt x="388" y="988"/>
                </a:lnTo>
                <a:lnTo>
                  <a:pt x="72" y="1100"/>
                </a:lnTo>
                <a:lnTo>
                  <a:pt x="331" y="808"/>
                </a:lnTo>
                <a:lnTo>
                  <a:pt x="0" y="606"/>
                </a:lnTo>
                <a:lnTo>
                  <a:pt x="352" y="531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265880" y="6033960"/>
            <a:ext cx="1600200" cy="609840"/>
            <a:chOff x="7265880" y="6033960"/>
            <a:chExt cx="1600200" cy="609840"/>
          </a:xfrm>
        </p:grpSpPr>
        <p:sp>
          <p:nvSpPr>
            <p:cNvPr id="20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318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"/>
          <p:cNvSpPr/>
          <p:nvPr/>
        </p:nvSpPr>
        <p:spPr>
          <a:xfrm>
            <a:off x="660600" y="547560"/>
            <a:ext cx="637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built-in fun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type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, use function wizard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ert/Function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80520" y="3224160"/>
            <a:ext cx="34524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SUM(A1:A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VERAGE(A1:A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GCD(100, $A$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3087720"/>
            <a:ext cx="3859560" cy="221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20640000">
            <a:off x="6185880" y="414180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265880" y="6033960"/>
            <a:ext cx="1600200" cy="609840"/>
            <a:chOff x="7265880" y="6033960"/>
            <a:chExt cx="1600200" cy="609840"/>
          </a:xfrm>
        </p:grpSpPr>
        <p:sp>
          <p:nvSpPr>
            <p:cNvPr id="21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318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"/>
          <p:cNvSpPr/>
          <p:nvPr/>
        </p:nvSpPr>
        <p:spPr>
          <a:xfrm>
            <a:off x="650520" y="547560"/>
            <a:ext cx="83286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gical_test_value, value_if_true, value_if_fa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gical1, logical2, 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returns TRUE i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logical value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gical1, logical2, 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returns TRUE i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ogical value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gical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returns opposite value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gica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78720" y="3224160"/>
            <a:ext cx="51408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F((A1&lt;A2), “Less”, “Mor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OR(A1, A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F(AND(A1, A2), “Both True”, “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8000" y="3087720"/>
            <a:ext cx="5481720" cy="221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20640000">
            <a:off x="7771680" y="422100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265880" y="6033960"/>
            <a:ext cx="1600200" cy="609840"/>
            <a:chOff x="7265880" y="6033960"/>
            <a:chExt cx="1600200" cy="609840"/>
          </a:xfrm>
        </p:grpSpPr>
        <p:sp>
          <p:nvSpPr>
            <p:cNvPr id="22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318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"/>
          <p:cNvSpPr/>
          <p:nvPr/>
        </p:nvSpPr>
        <p:spPr>
          <a:xfrm>
            <a:off x="651240" y="547560"/>
            <a:ext cx="7178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-up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OOKUP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lue, table_range, column_in_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nds down in lookup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ful for generating values given a “non-math”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80880" y="3224160"/>
            <a:ext cx="42645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VLOOKUP(A1, A6:B10,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08000" y="3087720"/>
            <a:ext cx="4778640" cy="152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20640000">
            <a:off x="6965280" y="376380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9160" y="547560"/>
            <a:ext cx="501444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agen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miscellaneous stu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from last l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“cell” (contents and address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thm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(math, logic, and look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u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ting ASCII text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ing ASCII text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265880" y="6033960"/>
            <a:ext cx="1600200" cy="609840"/>
            <a:chOff x="7265880" y="6033960"/>
            <a:chExt cx="1600200" cy="609840"/>
          </a:xfrm>
        </p:grpSpPr>
        <p:sp>
          <p:nvSpPr>
            <p:cNvPr id="56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318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8221680" y="14616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265880" y="6033960"/>
            <a:ext cx="1600200" cy="609840"/>
            <a:chOff x="7265880" y="6033960"/>
            <a:chExt cx="1600200" cy="609840"/>
          </a:xfrm>
        </p:grpSpPr>
        <p:sp>
          <p:nvSpPr>
            <p:cNvPr id="23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318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"/>
          <p:cNvSpPr/>
          <p:nvPr/>
        </p:nvSpPr>
        <p:spPr>
          <a:xfrm>
            <a:off x="649080" y="547560"/>
            <a:ext cx="84189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u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ood way to learn a new package - systematically go through me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20640000">
            <a:off x="4718880" y="56325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4400" y="2678040"/>
            <a:ext cx="8179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di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ool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------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-------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-------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oolba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ell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ell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pell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or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reez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p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ul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oa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os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l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o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lum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lum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ol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v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har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hee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ata 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640" y="2606760"/>
            <a:ext cx="8482320" cy="2381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7265880" y="6033960"/>
            <a:ext cx="1600200" cy="609840"/>
            <a:chOff x="7265880" y="6033960"/>
            <a:chExt cx="1600200" cy="609840"/>
          </a:xfrm>
        </p:grpSpPr>
        <p:sp>
          <p:nvSpPr>
            <p:cNvPr id="24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318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"/>
          <p:cNvSpPr/>
          <p:nvPr/>
        </p:nvSpPr>
        <p:spPr>
          <a:xfrm>
            <a:off x="650880" y="547560"/>
            <a:ext cx="78584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is often given to us in an ASCII tex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t in a text file, can almost always be converted to a tex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with ASCII text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t text files using a “text edi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t in 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dPad in Wind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d will do… but is overk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44520" y="4853160"/>
            <a:ext cx="667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via: ASCII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merican Standard Code for Information Inter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52560" y="4672080"/>
            <a:ext cx="7381800" cy="7617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7265880" y="6033960"/>
            <a:ext cx="1600200" cy="609840"/>
            <a:chOff x="7265880" y="6033960"/>
            <a:chExt cx="1600200" cy="609840"/>
          </a:xfrm>
        </p:grpSpPr>
        <p:sp>
          <p:nvSpPr>
            <p:cNvPr id="24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318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"/>
          <p:cNvSpPr/>
          <p:nvPr/>
        </p:nvSpPr>
        <p:spPr>
          <a:xfrm>
            <a:off x="654840" y="547560"/>
            <a:ext cx="676116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CII text data can be imported into an Excel spread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import “wizar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t-and-paste is not practical for large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20640000">
            <a:off x="5841360" y="257004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7265880" y="6033960"/>
            <a:ext cx="1600200" cy="609840"/>
            <a:chOff x="7265880" y="6033960"/>
            <a:chExt cx="1600200" cy="609840"/>
          </a:xfrm>
        </p:grpSpPr>
        <p:sp>
          <p:nvSpPr>
            <p:cNvPr id="257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318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"/>
          <p:cNvSpPr/>
          <p:nvPr/>
        </p:nvSpPr>
        <p:spPr>
          <a:xfrm>
            <a:off x="651240" y="547560"/>
            <a:ext cx="76860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graphing, think spread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s are “liv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essional graphing packages also “work like” a spread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Graphing Wizard in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ng wizard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#1 - R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#2 - Char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#3 - Char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#4 - Sample chart for adjus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#5 - Sample chart to add label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#6 - Finish (chart can now be “prettified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20640000">
            <a:off x="7224120" y="427032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265880" y="6033960"/>
            <a:ext cx="1600200" cy="609840"/>
            <a:chOff x="7265880" y="6033960"/>
            <a:chExt cx="1600200" cy="609840"/>
          </a:xfrm>
        </p:grpSpPr>
        <p:sp>
          <p:nvSpPr>
            <p:cNvPr id="26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318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"/>
          <p:cNvSpPr/>
          <p:nvPr/>
        </p:nvSpPr>
        <p:spPr>
          <a:xfrm>
            <a:off x="657000" y="547560"/>
            <a:ext cx="58222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challenge is to select the right type of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XY for most engineering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e chart for mark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D for a slick l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general, the “data decides” the graph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265880" y="6033960"/>
            <a:ext cx="1600200" cy="609840"/>
            <a:chOff x="7265880" y="6033960"/>
            <a:chExt cx="1600200" cy="609840"/>
          </a:xfrm>
        </p:grpSpPr>
        <p:sp>
          <p:nvSpPr>
            <p:cNvPr id="27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318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/>
          <p:cNvSpPr/>
          <p:nvPr/>
        </p:nvSpPr>
        <p:spPr>
          <a:xfrm>
            <a:off x="665280" y="547560"/>
            <a:ext cx="26478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 is a pie 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62240" y="1922400"/>
            <a:ext cx="4631040" cy="325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25960" y="1986120"/>
            <a:ext cx="4503600" cy="31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3000" y="3301920"/>
            <a:ext cx="993600" cy="874800"/>
          </a:xfrm>
          <a:custGeom>
            <a:avLst/>
            <a:gdLst/>
            <a:ahLst/>
            <a:rect l="l" t="t" r="r" b="b"/>
            <a:pathLst>
              <a:path w="626" h="551">
                <a:moveTo>
                  <a:pt x="625" y="251"/>
                </a:moveTo>
                <a:lnTo>
                  <a:pt x="591" y="245"/>
                </a:lnTo>
                <a:lnTo>
                  <a:pt x="571" y="245"/>
                </a:lnTo>
                <a:lnTo>
                  <a:pt x="538" y="238"/>
                </a:lnTo>
                <a:lnTo>
                  <a:pt x="505" y="232"/>
                </a:lnTo>
                <a:lnTo>
                  <a:pt x="492" y="232"/>
                </a:lnTo>
                <a:lnTo>
                  <a:pt x="458" y="225"/>
                </a:lnTo>
                <a:lnTo>
                  <a:pt x="432" y="218"/>
                </a:lnTo>
                <a:lnTo>
                  <a:pt x="412" y="218"/>
                </a:lnTo>
                <a:lnTo>
                  <a:pt x="385" y="212"/>
                </a:lnTo>
                <a:lnTo>
                  <a:pt x="359" y="205"/>
                </a:lnTo>
                <a:lnTo>
                  <a:pt x="346" y="198"/>
                </a:lnTo>
                <a:lnTo>
                  <a:pt x="312" y="192"/>
                </a:lnTo>
                <a:lnTo>
                  <a:pt x="292" y="185"/>
                </a:lnTo>
                <a:lnTo>
                  <a:pt x="279" y="185"/>
                </a:lnTo>
                <a:lnTo>
                  <a:pt x="253" y="179"/>
                </a:lnTo>
                <a:lnTo>
                  <a:pt x="226" y="172"/>
                </a:lnTo>
                <a:lnTo>
                  <a:pt x="219" y="165"/>
                </a:lnTo>
                <a:lnTo>
                  <a:pt x="193" y="159"/>
                </a:lnTo>
                <a:lnTo>
                  <a:pt x="173" y="152"/>
                </a:lnTo>
                <a:lnTo>
                  <a:pt x="166" y="145"/>
                </a:lnTo>
                <a:lnTo>
                  <a:pt x="146" y="139"/>
                </a:lnTo>
                <a:lnTo>
                  <a:pt x="126" y="125"/>
                </a:lnTo>
                <a:lnTo>
                  <a:pt x="120" y="125"/>
                </a:lnTo>
                <a:lnTo>
                  <a:pt x="100" y="119"/>
                </a:lnTo>
                <a:lnTo>
                  <a:pt x="86" y="106"/>
                </a:lnTo>
                <a:lnTo>
                  <a:pt x="80" y="99"/>
                </a:lnTo>
                <a:lnTo>
                  <a:pt x="66" y="92"/>
                </a:lnTo>
                <a:lnTo>
                  <a:pt x="53" y="86"/>
                </a:lnTo>
                <a:lnTo>
                  <a:pt x="47" y="79"/>
                </a:lnTo>
                <a:lnTo>
                  <a:pt x="33" y="72"/>
                </a:lnTo>
                <a:lnTo>
                  <a:pt x="27" y="59"/>
                </a:lnTo>
                <a:lnTo>
                  <a:pt x="20" y="53"/>
                </a:lnTo>
                <a:lnTo>
                  <a:pt x="13" y="46"/>
                </a:lnTo>
                <a:lnTo>
                  <a:pt x="7" y="39"/>
                </a:lnTo>
                <a:lnTo>
                  <a:pt x="7" y="33"/>
                </a:lnTo>
                <a:lnTo>
                  <a:pt x="0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298"/>
                </a:lnTo>
                <a:lnTo>
                  <a:pt x="0" y="304"/>
                </a:lnTo>
                <a:lnTo>
                  <a:pt x="0" y="311"/>
                </a:lnTo>
                <a:lnTo>
                  <a:pt x="0" y="318"/>
                </a:lnTo>
                <a:lnTo>
                  <a:pt x="7" y="331"/>
                </a:lnTo>
                <a:lnTo>
                  <a:pt x="7" y="338"/>
                </a:lnTo>
                <a:lnTo>
                  <a:pt x="13" y="344"/>
                </a:lnTo>
                <a:lnTo>
                  <a:pt x="20" y="351"/>
                </a:lnTo>
                <a:lnTo>
                  <a:pt x="27" y="358"/>
                </a:lnTo>
                <a:lnTo>
                  <a:pt x="33" y="371"/>
                </a:lnTo>
                <a:lnTo>
                  <a:pt x="47" y="377"/>
                </a:lnTo>
                <a:lnTo>
                  <a:pt x="53" y="384"/>
                </a:lnTo>
                <a:lnTo>
                  <a:pt x="66" y="391"/>
                </a:lnTo>
                <a:lnTo>
                  <a:pt x="80" y="397"/>
                </a:lnTo>
                <a:lnTo>
                  <a:pt x="86" y="404"/>
                </a:lnTo>
                <a:lnTo>
                  <a:pt x="100" y="417"/>
                </a:lnTo>
                <a:lnTo>
                  <a:pt x="120" y="424"/>
                </a:lnTo>
                <a:lnTo>
                  <a:pt x="126" y="424"/>
                </a:lnTo>
                <a:lnTo>
                  <a:pt x="146" y="437"/>
                </a:lnTo>
                <a:lnTo>
                  <a:pt x="166" y="444"/>
                </a:lnTo>
                <a:lnTo>
                  <a:pt x="173" y="450"/>
                </a:lnTo>
                <a:lnTo>
                  <a:pt x="193" y="457"/>
                </a:lnTo>
                <a:lnTo>
                  <a:pt x="219" y="464"/>
                </a:lnTo>
                <a:lnTo>
                  <a:pt x="226" y="470"/>
                </a:lnTo>
                <a:lnTo>
                  <a:pt x="253" y="477"/>
                </a:lnTo>
                <a:lnTo>
                  <a:pt x="279" y="483"/>
                </a:lnTo>
                <a:lnTo>
                  <a:pt x="292" y="483"/>
                </a:lnTo>
                <a:lnTo>
                  <a:pt x="312" y="490"/>
                </a:lnTo>
                <a:lnTo>
                  <a:pt x="346" y="497"/>
                </a:lnTo>
                <a:lnTo>
                  <a:pt x="359" y="503"/>
                </a:lnTo>
                <a:lnTo>
                  <a:pt x="385" y="510"/>
                </a:lnTo>
                <a:lnTo>
                  <a:pt x="412" y="517"/>
                </a:lnTo>
                <a:lnTo>
                  <a:pt x="432" y="517"/>
                </a:lnTo>
                <a:lnTo>
                  <a:pt x="458" y="523"/>
                </a:lnTo>
                <a:lnTo>
                  <a:pt x="492" y="530"/>
                </a:lnTo>
                <a:lnTo>
                  <a:pt x="505" y="530"/>
                </a:lnTo>
                <a:lnTo>
                  <a:pt x="538" y="537"/>
                </a:lnTo>
                <a:lnTo>
                  <a:pt x="571" y="543"/>
                </a:lnTo>
                <a:lnTo>
                  <a:pt x="591" y="543"/>
                </a:lnTo>
                <a:lnTo>
                  <a:pt x="625" y="550"/>
                </a:lnTo>
                <a:lnTo>
                  <a:pt x="625" y="251"/>
                </a:lnTo>
              </a:path>
            </a:pathLst>
          </a:custGeom>
          <a:solidFill>
            <a:srgbClr val="7f7f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923240" y="3301920"/>
            <a:ext cx="169920" cy="663480"/>
          </a:xfrm>
          <a:custGeom>
            <a:avLst/>
            <a:gdLst/>
            <a:ahLst/>
            <a:rect l="l" t="t" r="r" b="b"/>
            <a:pathLst>
              <a:path w="107" h="418">
                <a:moveTo>
                  <a:pt x="106" y="0"/>
                </a:moveTo>
                <a:lnTo>
                  <a:pt x="106" y="6"/>
                </a:lnTo>
                <a:lnTo>
                  <a:pt x="106" y="13"/>
                </a:lnTo>
                <a:lnTo>
                  <a:pt x="99" y="19"/>
                </a:lnTo>
                <a:lnTo>
                  <a:pt x="99" y="33"/>
                </a:lnTo>
                <a:lnTo>
                  <a:pt x="93" y="39"/>
                </a:lnTo>
                <a:lnTo>
                  <a:pt x="86" y="46"/>
                </a:lnTo>
                <a:lnTo>
                  <a:pt x="79" y="53"/>
                </a:lnTo>
                <a:lnTo>
                  <a:pt x="79" y="59"/>
                </a:lnTo>
                <a:lnTo>
                  <a:pt x="66" y="72"/>
                </a:lnTo>
                <a:lnTo>
                  <a:pt x="59" y="79"/>
                </a:lnTo>
                <a:lnTo>
                  <a:pt x="53" y="86"/>
                </a:lnTo>
                <a:lnTo>
                  <a:pt x="40" y="92"/>
                </a:lnTo>
                <a:lnTo>
                  <a:pt x="26" y="99"/>
                </a:lnTo>
                <a:lnTo>
                  <a:pt x="20" y="106"/>
                </a:lnTo>
                <a:lnTo>
                  <a:pt x="0" y="119"/>
                </a:lnTo>
                <a:lnTo>
                  <a:pt x="0" y="417"/>
                </a:lnTo>
                <a:lnTo>
                  <a:pt x="20" y="404"/>
                </a:lnTo>
                <a:lnTo>
                  <a:pt x="26" y="397"/>
                </a:lnTo>
                <a:lnTo>
                  <a:pt x="40" y="391"/>
                </a:lnTo>
                <a:lnTo>
                  <a:pt x="53" y="384"/>
                </a:lnTo>
                <a:lnTo>
                  <a:pt x="59" y="377"/>
                </a:lnTo>
                <a:lnTo>
                  <a:pt x="66" y="371"/>
                </a:lnTo>
                <a:lnTo>
                  <a:pt x="79" y="358"/>
                </a:lnTo>
                <a:lnTo>
                  <a:pt x="79" y="351"/>
                </a:lnTo>
                <a:lnTo>
                  <a:pt x="86" y="344"/>
                </a:lnTo>
                <a:lnTo>
                  <a:pt x="93" y="338"/>
                </a:lnTo>
                <a:lnTo>
                  <a:pt x="99" y="331"/>
                </a:lnTo>
                <a:lnTo>
                  <a:pt x="99" y="318"/>
                </a:lnTo>
                <a:lnTo>
                  <a:pt x="106" y="311"/>
                </a:lnTo>
                <a:lnTo>
                  <a:pt x="106" y="304"/>
                </a:lnTo>
                <a:lnTo>
                  <a:pt x="106" y="298"/>
                </a:lnTo>
                <a:lnTo>
                  <a:pt x="106" y="0"/>
                </a:lnTo>
              </a:path>
            </a:pathLst>
          </a:custGeom>
          <a:solidFill>
            <a:srgbClr val="40407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645160" y="3490920"/>
            <a:ext cx="2279520" cy="727200"/>
          </a:xfrm>
          <a:custGeom>
            <a:avLst/>
            <a:gdLst/>
            <a:ahLst/>
            <a:rect l="l" t="t" r="r" b="b"/>
            <a:pathLst>
              <a:path w="1436" h="458">
                <a:moveTo>
                  <a:pt x="1435" y="0"/>
                </a:moveTo>
                <a:lnTo>
                  <a:pt x="1421" y="6"/>
                </a:lnTo>
                <a:lnTo>
                  <a:pt x="1415" y="6"/>
                </a:lnTo>
                <a:lnTo>
                  <a:pt x="1395" y="20"/>
                </a:lnTo>
                <a:lnTo>
                  <a:pt x="1375" y="26"/>
                </a:lnTo>
                <a:lnTo>
                  <a:pt x="1362" y="33"/>
                </a:lnTo>
                <a:lnTo>
                  <a:pt x="1342" y="40"/>
                </a:lnTo>
                <a:lnTo>
                  <a:pt x="1322" y="46"/>
                </a:lnTo>
                <a:lnTo>
                  <a:pt x="1308" y="53"/>
                </a:lnTo>
                <a:lnTo>
                  <a:pt x="1288" y="60"/>
                </a:lnTo>
                <a:lnTo>
                  <a:pt x="1262" y="66"/>
                </a:lnTo>
                <a:lnTo>
                  <a:pt x="1249" y="66"/>
                </a:lnTo>
                <a:lnTo>
                  <a:pt x="1222" y="73"/>
                </a:lnTo>
                <a:lnTo>
                  <a:pt x="1195" y="79"/>
                </a:lnTo>
                <a:lnTo>
                  <a:pt x="1182" y="86"/>
                </a:lnTo>
                <a:lnTo>
                  <a:pt x="1156" y="93"/>
                </a:lnTo>
                <a:lnTo>
                  <a:pt x="1122" y="99"/>
                </a:lnTo>
                <a:lnTo>
                  <a:pt x="1109" y="99"/>
                </a:lnTo>
                <a:lnTo>
                  <a:pt x="1076" y="106"/>
                </a:lnTo>
                <a:lnTo>
                  <a:pt x="1049" y="113"/>
                </a:lnTo>
                <a:lnTo>
                  <a:pt x="1029" y="113"/>
                </a:lnTo>
                <a:lnTo>
                  <a:pt x="996" y="119"/>
                </a:lnTo>
                <a:lnTo>
                  <a:pt x="963" y="126"/>
                </a:lnTo>
                <a:lnTo>
                  <a:pt x="950" y="126"/>
                </a:lnTo>
                <a:lnTo>
                  <a:pt x="916" y="132"/>
                </a:lnTo>
                <a:lnTo>
                  <a:pt x="877" y="132"/>
                </a:lnTo>
                <a:lnTo>
                  <a:pt x="863" y="139"/>
                </a:lnTo>
                <a:lnTo>
                  <a:pt x="823" y="139"/>
                </a:lnTo>
                <a:lnTo>
                  <a:pt x="790" y="146"/>
                </a:lnTo>
                <a:lnTo>
                  <a:pt x="770" y="146"/>
                </a:lnTo>
                <a:lnTo>
                  <a:pt x="737" y="146"/>
                </a:lnTo>
                <a:lnTo>
                  <a:pt x="697" y="152"/>
                </a:lnTo>
                <a:lnTo>
                  <a:pt x="684" y="152"/>
                </a:lnTo>
                <a:lnTo>
                  <a:pt x="644" y="152"/>
                </a:lnTo>
                <a:lnTo>
                  <a:pt x="604" y="152"/>
                </a:lnTo>
                <a:lnTo>
                  <a:pt x="591" y="152"/>
                </a:lnTo>
                <a:lnTo>
                  <a:pt x="551" y="159"/>
                </a:lnTo>
                <a:lnTo>
                  <a:pt x="511" y="159"/>
                </a:lnTo>
                <a:lnTo>
                  <a:pt x="491" y="159"/>
                </a:lnTo>
                <a:lnTo>
                  <a:pt x="458" y="159"/>
                </a:lnTo>
                <a:lnTo>
                  <a:pt x="418" y="159"/>
                </a:lnTo>
                <a:lnTo>
                  <a:pt x="398" y="159"/>
                </a:lnTo>
                <a:lnTo>
                  <a:pt x="365" y="159"/>
                </a:lnTo>
                <a:lnTo>
                  <a:pt x="325" y="152"/>
                </a:lnTo>
                <a:lnTo>
                  <a:pt x="305" y="152"/>
                </a:lnTo>
                <a:lnTo>
                  <a:pt x="265" y="152"/>
                </a:lnTo>
                <a:lnTo>
                  <a:pt x="232" y="152"/>
                </a:lnTo>
                <a:lnTo>
                  <a:pt x="212" y="152"/>
                </a:lnTo>
                <a:lnTo>
                  <a:pt x="179" y="146"/>
                </a:lnTo>
                <a:lnTo>
                  <a:pt x="139" y="146"/>
                </a:lnTo>
                <a:lnTo>
                  <a:pt x="119" y="146"/>
                </a:lnTo>
                <a:lnTo>
                  <a:pt x="86" y="139"/>
                </a:lnTo>
                <a:lnTo>
                  <a:pt x="53" y="139"/>
                </a:lnTo>
                <a:lnTo>
                  <a:pt x="33" y="132"/>
                </a:lnTo>
                <a:lnTo>
                  <a:pt x="0" y="132"/>
                </a:lnTo>
                <a:lnTo>
                  <a:pt x="0" y="431"/>
                </a:lnTo>
                <a:lnTo>
                  <a:pt x="33" y="431"/>
                </a:lnTo>
                <a:lnTo>
                  <a:pt x="53" y="437"/>
                </a:lnTo>
                <a:lnTo>
                  <a:pt x="86" y="437"/>
                </a:lnTo>
                <a:lnTo>
                  <a:pt x="119" y="444"/>
                </a:lnTo>
                <a:lnTo>
                  <a:pt x="139" y="444"/>
                </a:lnTo>
                <a:lnTo>
                  <a:pt x="179" y="444"/>
                </a:lnTo>
                <a:lnTo>
                  <a:pt x="212" y="451"/>
                </a:lnTo>
                <a:lnTo>
                  <a:pt x="232" y="451"/>
                </a:lnTo>
                <a:lnTo>
                  <a:pt x="265" y="451"/>
                </a:lnTo>
                <a:lnTo>
                  <a:pt x="305" y="451"/>
                </a:lnTo>
                <a:lnTo>
                  <a:pt x="325" y="451"/>
                </a:lnTo>
                <a:lnTo>
                  <a:pt x="365" y="457"/>
                </a:lnTo>
                <a:lnTo>
                  <a:pt x="398" y="457"/>
                </a:lnTo>
                <a:lnTo>
                  <a:pt x="418" y="457"/>
                </a:lnTo>
                <a:lnTo>
                  <a:pt x="458" y="457"/>
                </a:lnTo>
                <a:lnTo>
                  <a:pt x="491" y="457"/>
                </a:lnTo>
                <a:lnTo>
                  <a:pt x="511" y="457"/>
                </a:lnTo>
                <a:lnTo>
                  <a:pt x="551" y="457"/>
                </a:lnTo>
                <a:lnTo>
                  <a:pt x="591" y="451"/>
                </a:lnTo>
                <a:lnTo>
                  <a:pt x="604" y="451"/>
                </a:lnTo>
                <a:lnTo>
                  <a:pt x="644" y="451"/>
                </a:lnTo>
                <a:lnTo>
                  <a:pt x="684" y="451"/>
                </a:lnTo>
                <a:lnTo>
                  <a:pt x="697" y="451"/>
                </a:lnTo>
                <a:lnTo>
                  <a:pt x="737" y="444"/>
                </a:lnTo>
                <a:lnTo>
                  <a:pt x="770" y="444"/>
                </a:lnTo>
                <a:lnTo>
                  <a:pt x="790" y="444"/>
                </a:lnTo>
                <a:lnTo>
                  <a:pt x="823" y="437"/>
                </a:lnTo>
                <a:lnTo>
                  <a:pt x="863" y="437"/>
                </a:lnTo>
                <a:lnTo>
                  <a:pt x="877" y="431"/>
                </a:lnTo>
                <a:lnTo>
                  <a:pt x="916" y="431"/>
                </a:lnTo>
                <a:lnTo>
                  <a:pt x="950" y="424"/>
                </a:lnTo>
                <a:lnTo>
                  <a:pt x="963" y="424"/>
                </a:lnTo>
                <a:lnTo>
                  <a:pt x="996" y="418"/>
                </a:lnTo>
                <a:lnTo>
                  <a:pt x="1029" y="411"/>
                </a:lnTo>
                <a:lnTo>
                  <a:pt x="1049" y="411"/>
                </a:lnTo>
                <a:lnTo>
                  <a:pt x="1076" y="404"/>
                </a:lnTo>
                <a:lnTo>
                  <a:pt x="1109" y="398"/>
                </a:lnTo>
                <a:lnTo>
                  <a:pt x="1122" y="398"/>
                </a:lnTo>
                <a:lnTo>
                  <a:pt x="1156" y="391"/>
                </a:lnTo>
                <a:lnTo>
                  <a:pt x="1182" y="384"/>
                </a:lnTo>
                <a:lnTo>
                  <a:pt x="1195" y="378"/>
                </a:lnTo>
                <a:lnTo>
                  <a:pt x="1222" y="371"/>
                </a:lnTo>
                <a:lnTo>
                  <a:pt x="1249" y="364"/>
                </a:lnTo>
                <a:lnTo>
                  <a:pt x="1262" y="364"/>
                </a:lnTo>
                <a:lnTo>
                  <a:pt x="1288" y="358"/>
                </a:lnTo>
                <a:lnTo>
                  <a:pt x="1308" y="351"/>
                </a:lnTo>
                <a:lnTo>
                  <a:pt x="1322" y="345"/>
                </a:lnTo>
                <a:lnTo>
                  <a:pt x="1342" y="338"/>
                </a:lnTo>
                <a:lnTo>
                  <a:pt x="1362" y="331"/>
                </a:lnTo>
                <a:lnTo>
                  <a:pt x="1375" y="325"/>
                </a:lnTo>
                <a:lnTo>
                  <a:pt x="1395" y="318"/>
                </a:lnTo>
                <a:lnTo>
                  <a:pt x="1415" y="305"/>
                </a:lnTo>
                <a:lnTo>
                  <a:pt x="1421" y="305"/>
                </a:lnTo>
                <a:lnTo>
                  <a:pt x="1435" y="298"/>
                </a:lnTo>
                <a:lnTo>
                  <a:pt x="1435" y="0"/>
                </a:lnTo>
              </a:path>
            </a:pathLst>
          </a:custGeom>
          <a:solidFill>
            <a:srgbClr val="40103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3143160"/>
            <a:ext cx="1720800" cy="349200"/>
          </a:xfrm>
          <a:custGeom>
            <a:avLst/>
            <a:gdLst/>
            <a:ahLst/>
            <a:rect l="l" t="t" r="r" b="b"/>
            <a:pathLst>
              <a:path w="1084" h="220">
                <a:moveTo>
                  <a:pt x="1017" y="0"/>
                </a:moveTo>
                <a:lnTo>
                  <a:pt x="1030" y="13"/>
                </a:lnTo>
                <a:lnTo>
                  <a:pt x="1036" y="13"/>
                </a:lnTo>
                <a:lnTo>
                  <a:pt x="1043" y="27"/>
                </a:lnTo>
                <a:lnTo>
                  <a:pt x="1056" y="33"/>
                </a:lnTo>
                <a:lnTo>
                  <a:pt x="1056" y="40"/>
                </a:lnTo>
                <a:lnTo>
                  <a:pt x="1063" y="46"/>
                </a:lnTo>
                <a:lnTo>
                  <a:pt x="1070" y="60"/>
                </a:lnTo>
                <a:lnTo>
                  <a:pt x="1076" y="66"/>
                </a:lnTo>
                <a:lnTo>
                  <a:pt x="1076" y="73"/>
                </a:lnTo>
                <a:lnTo>
                  <a:pt x="1083" y="86"/>
                </a:lnTo>
                <a:lnTo>
                  <a:pt x="1083" y="100"/>
                </a:lnTo>
                <a:lnTo>
                  <a:pt x="1083" y="106"/>
                </a:lnTo>
                <a:lnTo>
                  <a:pt x="1083" y="113"/>
                </a:lnTo>
                <a:lnTo>
                  <a:pt x="1076" y="119"/>
                </a:lnTo>
                <a:lnTo>
                  <a:pt x="1076" y="133"/>
                </a:lnTo>
                <a:lnTo>
                  <a:pt x="1070" y="139"/>
                </a:lnTo>
                <a:lnTo>
                  <a:pt x="1063" y="146"/>
                </a:lnTo>
                <a:lnTo>
                  <a:pt x="1056" y="153"/>
                </a:lnTo>
                <a:lnTo>
                  <a:pt x="1056" y="159"/>
                </a:lnTo>
                <a:lnTo>
                  <a:pt x="1043" y="172"/>
                </a:lnTo>
                <a:lnTo>
                  <a:pt x="1036" y="179"/>
                </a:lnTo>
                <a:lnTo>
                  <a:pt x="1030" y="186"/>
                </a:lnTo>
                <a:lnTo>
                  <a:pt x="1017" y="192"/>
                </a:lnTo>
                <a:lnTo>
                  <a:pt x="1003" y="199"/>
                </a:lnTo>
                <a:lnTo>
                  <a:pt x="997" y="206"/>
                </a:lnTo>
                <a:lnTo>
                  <a:pt x="977" y="219"/>
                </a:lnTo>
                <a:lnTo>
                  <a:pt x="0" y="100"/>
                </a:lnTo>
                <a:lnTo>
                  <a:pt x="1017" y="0"/>
                </a:lnTo>
              </a:path>
            </a:pathLst>
          </a:custGeom>
          <a:solidFill>
            <a:srgbClr val="808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45160" y="3301920"/>
            <a:ext cx="2279520" cy="443160"/>
          </a:xfrm>
          <a:custGeom>
            <a:avLst/>
            <a:gdLst/>
            <a:ahLst/>
            <a:rect l="l" t="t" r="r" b="b"/>
            <a:pathLst>
              <a:path w="1436" h="279">
                <a:moveTo>
                  <a:pt x="1435" y="119"/>
                </a:moveTo>
                <a:lnTo>
                  <a:pt x="1421" y="125"/>
                </a:lnTo>
                <a:lnTo>
                  <a:pt x="1415" y="125"/>
                </a:lnTo>
                <a:lnTo>
                  <a:pt x="1395" y="139"/>
                </a:lnTo>
                <a:lnTo>
                  <a:pt x="1375" y="145"/>
                </a:lnTo>
                <a:lnTo>
                  <a:pt x="1362" y="152"/>
                </a:lnTo>
                <a:lnTo>
                  <a:pt x="1342" y="159"/>
                </a:lnTo>
                <a:lnTo>
                  <a:pt x="1322" y="165"/>
                </a:lnTo>
                <a:lnTo>
                  <a:pt x="1308" y="172"/>
                </a:lnTo>
                <a:lnTo>
                  <a:pt x="1288" y="179"/>
                </a:lnTo>
                <a:lnTo>
                  <a:pt x="1262" y="185"/>
                </a:lnTo>
                <a:lnTo>
                  <a:pt x="1249" y="185"/>
                </a:lnTo>
                <a:lnTo>
                  <a:pt x="1222" y="192"/>
                </a:lnTo>
                <a:lnTo>
                  <a:pt x="1195" y="198"/>
                </a:lnTo>
                <a:lnTo>
                  <a:pt x="1182" y="205"/>
                </a:lnTo>
                <a:lnTo>
                  <a:pt x="1156" y="212"/>
                </a:lnTo>
                <a:lnTo>
                  <a:pt x="1122" y="218"/>
                </a:lnTo>
                <a:lnTo>
                  <a:pt x="1109" y="218"/>
                </a:lnTo>
                <a:lnTo>
                  <a:pt x="1076" y="225"/>
                </a:lnTo>
                <a:lnTo>
                  <a:pt x="1049" y="232"/>
                </a:lnTo>
                <a:lnTo>
                  <a:pt x="1029" y="232"/>
                </a:lnTo>
                <a:lnTo>
                  <a:pt x="996" y="238"/>
                </a:lnTo>
                <a:lnTo>
                  <a:pt x="963" y="245"/>
                </a:lnTo>
                <a:lnTo>
                  <a:pt x="950" y="245"/>
                </a:lnTo>
                <a:lnTo>
                  <a:pt x="916" y="251"/>
                </a:lnTo>
                <a:lnTo>
                  <a:pt x="877" y="251"/>
                </a:lnTo>
                <a:lnTo>
                  <a:pt x="863" y="258"/>
                </a:lnTo>
                <a:lnTo>
                  <a:pt x="823" y="258"/>
                </a:lnTo>
                <a:lnTo>
                  <a:pt x="790" y="265"/>
                </a:lnTo>
                <a:lnTo>
                  <a:pt x="770" y="265"/>
                </a:lnTo>
                <a:lnTo>
                  <a:pt x="737" y="265"/>
                </a:lnTo>
                <a:lnTo>
                  <a:pt x="697" y="271"/>
                </a:lnTo>
                <a:lnTo>
                  <a:pt x="684" y="271"/>
                </a:lnTo>
                <a:lnTo>
                  <a:pt x="644" y="271"/>
                </a:lnTo>
                <a:lnTo>
                  <a:pt x="604" y="271"/>
                </a:lnTo>
                <a:lnTo>
                  <a:pt x="591" y="271"/>
                </a:lnTo>
                <a:lnTo>
                  <a:pt x="551" y="278"/>
                </a:lnTo>
                <a:lnTo>
                  <a:pt x="511" y="278"/>
                </a:lnTo>
                <a:lnTo>
                  <a:pt x="491" y="278"/>
                </a:lnTo>
                <a:lnTo>
                  <a:pt x="458" y="278"/>
                </a:lnTo>
                <a:lnTo>
                  <a:pt x="418" y="278"/>
                </a:lnTo>
                <a:lnTo>
                  <a:pt x="398" y="278"/>
                </a:lnTo>
                <a:lnTo>
                  <a:pt x="365" y="278"/>
                </a:lnTo>
                <a:lnTo>
                  <a:pt x="325" y="271"/>
                </a:lnTo>
                <a:lnTo>
                  <a:pt x="305" y="271"/>
                </a:lnTo>
                <a:lnTo>
                  <a:pt x="265" y="271"/>
                </a:lnTo>
                <a:lnTo>
                  <a:pt x="232" y="271"/>
                </a:lnTo>
                <a:lnTo>
                  <a:pt x="212" y="271"/>
                </a:lnTo>
                <a:lnTo>
                  <a:pt x="179" y="265"/>
                </a:lnTo>
                <a:lnTo>
                  <a:pt x="139" y="265"/>
                </a:lnTo>
                <a:lnTo>
                  <a:pt x="119" y="265"/>
                </a:lnTo>
                <a:lnTo>
                  <a:pt x="86" y="258"/>
                </a:lnTo>
                <a:lnTo>
                  <a:pt x="53" y="258"/>
                </a:lnTo>
                <a:lnTo>
                  <a:pt x="33" y="251"/>
                </a:lnTo>
                <a:lnTo>
                  <a:pt x="0" y="251"/>
                </a:lnTo>
                <a:lnTo>
                  <a:pt x="458" y="0"/>
                </a:lnTo>
                <a:lnTo>
                  <a:pt x="1435" y="119"/>
                </a:lnTo>
              </a:path>
            </a:pathLst>
          </a:custGeom>
          <a:solidFill>
            <a:srgbClr val="80206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53000" y="2859120"/>
            <a:ext cx="2997000" cy="842760"/>
          </a:xfrm>
          <a:custGeom>
            <a:avLst/>
            <a:gdLst/>
            <a:ahLst/>
            <a:rect l="l" t="t" r="r" b="b"/>
            <a:pathLst>
              <a:path w="1888" h="531">
                <a:moveTo>
                  <a:pt x="625" y="530"/>
                </a:moveTo>
                <a:lnTo>
                  <a:pt x="591" y="524"/>
                </a:lnTo>
                <a:lnTo>
                  <a:pt x="571" y="524"/>
                </a:lnTo>
                <a:lnTo>
                  <a:pt x="538" y="517"/>
                </a:lnTo>
                <a:lnTo>
                  <a:pt x="505" y="511"/>
                </a:lnTo>
                <a:lnTo>
                  <a:pt x="492" y="511"/>
                </a:lnTo>
                <a:lnTo>
                  <a:pt x="458" y="504"/>
                </a:lnTo>
                <a:lnTo>
                  <a:pt x="432" y="497"/>
                </a:lnTo>
                <a:lnTo>
                  <a:pt x="412" y="497"/>
                </a:lnTo>
                <a:lnTo>
                  <a:pt x="385" y="491"/>
                </a:lnTo>
                <a:lnTo>
                  <a:pt x="359" y="484"/>
                </a:lnTo>
                <a:lnTo>
                  <a:pt x="346" y="477"/>
                </a:lnTo>
                <a:lnTo>
                  <a:pt x="312" y="471"/>
                </a:lnTo>
                <a:lnTo>
                  <a:pt x="299" y="471"/>
                </a:lnTo>
                <a:lnTo>
                  <a:pt x="279" y="464"/>
                </a:lnTo>
                <a:lnTo>
                  <a:pt x="253" y="458"/>
                </a:lnTo>
                <a:lnTo>
                  <a:pt x="239" y="451"/>
                </a:lnTo>
                <a:lnTo>
                  <a:pt x="219" y="444"/>
                </a:lnTo>
                <a:lnTo>
                  <a:pt x="193" y="438"/>
                </a:lnTo>
                <a:lnTo>
                  <a:pt x="186" y="431"/>
                </a:lnTo>
                <a:lnTo>
                  <a:pt x="166" y="424"/>
                </a:lnTo>
                <a:lnTo>
                  <a:pt x="146" y="418"/>
                </a:lnTo>
                <a:lnTo>
                  <a:pt x="133" y="411"/>
                </a:lnTo>
                <a:lnTo>
                  <a:pt x="120" y="404"/>
                </a:lnTo>
                <a:lnTo>
                  <a:pt x="100" y="398"/>
                </a:lnTo>
                <a:lnTo>
                  <a:pt x="93" y="391"/>
                </a:lnTo>
                <a:lnTo>
                  <a:pt x="80" y="378"/>
                </a:lnTo>
                <a:lnTo>
                  <a:pt x="66" y="371"/>
                </a:lnTo>
                <a:lnTo>
                  <a:pt x="60" y="365"/>
                </a:lnTo>
                <a:lnTo>
                  <a:pt x="47" y="358"/>
                </a:lnTo>
                <a:lnTo>
                  <a:pt x="33" y="351"/>
                </a:lnTo>
                <a:lnTo>
                  <a:pt x="33" y="345"/>
                </a:lnTo>
                <a:lnTo>
                  <a:pt x="20" y="332"/>
                </a:lnTo>
                <a:lnTo>
                  <a:pt x="13" y="318"/>
                </a:lnTo>
                <a:lnTo>
                  <a:pt x="7" y="312"/>
                </a:lnTo>
                <a:lnTo>
                  <a:pt x="7" y="305"/>
                </a:lnTo>
                <a:lnTo>
                  <a:pt x="0" y="298"/>
                </a:lnTo>
                <a:lnTo>
                  <a:pt x="0" y="285"/>
                </a:lnTo>
                <a:lnTo>
                  <a:pt x="0" y="279"/>
                </a:lnTo>
                <a:lnTo>
                  <a:pt x="0" y="272"/>
                </a:lnTo>
                <a:lnTo>
                  <a:pt x="0" y="265"/>
                </a:lnTo>
                <a:lnTo>
                  <a:pt x="0" y="259"/>
                </a:lnTo>
                <a:lnTo>
                  <a:pt x="7" y="245"/>
                </a:lnTo>
                <a:lnTo>
                  <a:pt x="7" y="239"/>
                </a:lnTo>
                <a:lnTo>
                  <a:pt x="13" y="232"/>
                </a:lnTo>
                <a:lnTo>
                  <a:pt x="20" y="225"/>
                </a:lnTo>
                <a:lnTo>
                  <a:pt x="27" y="212"/>
                </a:lnTo>
                <a:lnTo>
                  <a:pt x="33" y="212"/>
                </a:lnTo>
                <a:lnTo>
                  <a:pt x="40" y="199"/>
                </a:lnTo>
                <a:lnTo>
                  <a:pt x="53" y="192"/>
                </a:lnTo>
                <a:lnTo>
                  <a:pt x="60" y="186"/>
                </a:lnTo>
                <a:lnTo>
                  <a:pt x="73" y="179"/>
                </a:lnTo>
                <a:lnTo>
                  <a:pt x="80" y="172"/>
                </a:lnTo>
                <a:lnTo>
                  <a:pt x="93" y="166"/>
                </a:lnTo>
                <a:lnTo>
                  <a:pt x="106" y="153"/>
                </a:lnTo>
                <a:lnTo>
                  <a:pt x="120" y="153"/>
                </a:lnTo>
                <a:lnTo>
                  <a:pt x="133" y="139"/>
                </a:lnTo>
                <a:lnTo>
                  <a:pt x="153" y="133"/>
                </a:lnTo>
                <a:lnTo>
                  <a:pt x="166" y="126"/>
                </a:lnTo>
                <a:lnTo>
                  <a:pt x="186" y="119"/>
                </a:lnTo>
                <a:lnTo>
                  <a:pt x="206" y="113"/>
                </a:lnTo>
                <a:lnTo>
                  <a:pt x="219" y="106"/>
                </a:lnTo>
                <a:lnTo>
                  <a:pt x="239" y="100"/>
                </a:lnTo>
                <a:lnTo>
                  <a:pt x="266" y="93"/>
                </a:lnTo>
                <a:lnTo>
                  <a:pt x="279" y="93"/>
                </a:lnTo>
                <a:lnTo>
                  <a:pt x="299" y="86"/>
                </a:lnTo>
                <a:lnTo>
                  <a:pt x="332" y="80"/>
                </a:lnTo>
                <a:lnTo>
                  <a:pt x="346" y="73"/>
                </a:lnTo>
                <a:lnTo>
                  <a:pt x="372" y="66"/>
                </a:lnTo>
                <a:lnTo>
                  <a:pt x="399" y="60"/>
                </a:lnTo>
                <a:lnTo>
                  <a:pt x="412" y="60"/>
                </a:lnTo>
                <a:lnTo>
                  <a:pt x="445" y="53"/>
                </a:lnTo>
                <a:lnTo>
                  <a:pt x="458" y="46"/>
                </a:lnTo>
                <a:lnTo>
                  <a:pt x="492" y="46"/>
                </a:lnTo>
                <a:lnTo>
                  <a:pt x="525" y="40"/>
                </a:lnTo>
                <a:lnTo>
                  <a:pt x="538" y="33"/>
                </a:lnTo>
                <a:lnTo>
                  <a:pt x="571" y="33"/>
                </a:lnTo>
                <a:lnTo>
                  <a:pt x="605" y="27"/>
                </a:lnTo>
                <a:lnTo>
                  <a:pt x="625" y="27"/>
                </a:lnTo>
                <a:lnTo>
                  <a:pt x="658" y="20"/>
                </a:lnTo>
                <a:lnTo>
                  <a:pt x="691" y="20"/>
                </a:lnTo>
                <a:lnTo>
                  <a:pt x="711" y="13"/>
                </a:lnTo>
                <a:lnTo>
                  <a:pt x="744" y="13"/>
                </a:lnTo>
                <a:lnTo>
                  <a:pt x="784" y="7"/>
                </a:lnTo>
                <a:lnTo>
                  <a:pt x="804" y="7"/>
                </a:lnTo>
                <a:lnTo>
                  <a:pt x="837" y="7"/>
                </a:lnTo>
                <a:lnTo>
                  <a:pt x="877" y="7"/>
                </a:lnTo>
                <a:lnTo>
                  <a:pt x="890" y="0"/>
                </a:lnTo>
                <a:lnTo>
                  <a:pt x="930" y="0"/>
                </a:lnTo>
                <a:lnTo>
                  <a:pt x="970" y="0"/>
                </a:lnTo>
                <a:lnTo>
                  <a:pt x="990" y="0"/>
                </a:lnTo>
                <a:lnTo>
                  <a:pt x="1023" y="0"/>
                </a:lnTo>
                <a:lnTo>
                  <a:pt x="1043" y="0"/>
                </a:lnTo>
                <a:lnTo>
                  <a:pt x="1083" y="0"/>
                </a:lnTo>
                <a:lnTo>
                  <a:pt x="1116" y="0"/>
                </a:lnTo>
                <a:lnTo>
                  <a:pt x="1136" y="0"/>
                </a:lnTo>
                <a:lnTo>
                  <a:pt x="1176" y="0"/>
                </a:lnTo>
                <a:lnTo>
                  <a:pt x="1216" y="0"/>
                </a:lnTo>
                <a:lnTo>
                  <a:pt x="1229" y="0"/>
                </a:lnTo>
                <a:lnTo>
                  <a:pt x="1269" y="0"/>
                </a:lnTo>
                <a:lnTo>
                  <a:pt x="1309" y="7"/>
                </a:lnTo>
                <a:lnTo>
                  <a:pt x="1322" y="7"/>
                </a:lnTo>
                <a:lnTo>
                  <a:pt x="1362" y="7"/>
                </a:lnTo>
                <a:lnTo>
                  <a:pt x="1395" y="13"/>
                </a:lnTo>
                <a:lnTo>
                  <a:pt x="1415" y="13"/>
                </a:lnTo>
                <a:lnTo>
                  <a:pt x="1448" y="13"/>
                </a:lnTo>
                <a:lnTo>
                  <a:pt x="1488" y="20"/>
                </a:lnTo>
                <a:lnTo>
                  <a:pt x="1502" y="20"/>
                </a:lnTo>
                <a:lnTo>
                  <a:pt x="1541" y="27"/>
                </a:lnTo>
                <a:lnTo>
                  <a:pt x="1575" y="27"/>
                </a:lnTo>
                <a:lnTo>
                  <a:pt x="1588" y="33"/>
                </a:lnTo>
                <a:lnTo>
                  <a:pt x="1621" y="33"/>
                </a:lnTo>
                <a:lnTo>
                  <a:pt x="1641" y="40"/>
                </a:lnTo>
                <a:lnTo>
                  <a:pt x="1674" y="46"/>
                </a:lnTo>
                <a:lnTo>
                  <a:pt x="1701" y="46"/>
                </a:lnTo>
                <a:lnTo>
                  <a:pt x="1721" y="53"/>
                </a:lnTo>
                <a:lnTo>
                  <a:pt x="1747" y="60"/>
                </a:lnTo>
                <a:lnTo>
                  <a:pt x="1781" y="66"/>
                </a:lnTo>
                <a:lnTo>
                  <a:pt x="1794" y="66"/>
                </a:lnTo>
                <a:lnTo>
                  <a:pt x="1820" y="73"/>
                </a:lnTo>
                <a:lnTo>
                  <a:pt x="1847" y="80"/>
                </a:lnTo>
                <a:lnTo>
                  <a:pt x="1860" y="86"/>
                </a:lnTo>
                <a:lnTo>
                  <a:pt x="1887" y="93"/>
                </a:lnTo>
                <a:lnTo>
                  <a:pt x="1083" y="279"/>
                </a:lnTo>
                <a:lnTo>
                  <a:pt x="625" y="530"/>
                </a:lnTo>
              </a:path>
            </a:pathLst>
          </a:custGeom>
          <a:solidFill>
            <a:srgbClr val="ffff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72360" y="3006720"/>
            <a:ext cx="1616040" cy="297000"/>
          </a:xfrm>
          <a:custGeom>
            <a:avLst/>
            <a:gdLst/>
            <a:ahLst/>
            <a:rect l="l" t="t" r="r" b="b"/>
            <a:pathLst>
              <a:path w="1018" h="187">
                <a:moveTo>
                  <a:pt x="804" y="0"/>
                </a:moveTo>
                <a:lnTo>
                  <a:pt x="817" y="0"/>
                </a:lnTo>
                <a:lnTo>
                  <a:pt x="837" y="7"/>
                </a:lnTo>
                <a:lnTo>
                  <a:pt x="850" y="13"/>
                </a:lnTo>
                <a:lnTo>
                  <a:pt x="877" y="20"/>
                </a:lnTo>
                <a:lnTo>
                  <a:pt x="884" y="26"/>
                </a:lnTo>
                <a:lnTo>
                  <a:pt x="904" y="33"/>
                </a:lnTo>
                <a:lnTo>
                  <a:pt x="917" y="33"/>
                </a:lnTo>
                <a:lnTo>
                  <a:pt x="937" y="46"/>
                </a:lnTo>
                <a:lnTo>
                  <a:pt x="943" y="46"/>
                </a:lnTo>
                <a:lnTo>
                  <a:pt x="963" y="60"/>
                </a:lnTo>
                <a:lnTo>
                  <a:pt x="970" y="60"/>
                </a:lnTo>
                <a:lnTo>
                  <a:pt x="990" y="73"/>
                </a:lnTo>
                <a:lnTo>
                  <a:pt x="997" y="73"/>
                </a:lnTo>
                <a:lnTo>
                  <a:pt x="1010" y="86"/>
                </a:lnTo>
                <a:lnTo>
                  <a:pt x="1017" y="86"/>
                </a:lnTo>
                <a:lnTo>
                  <a:pt x="0" y="186"/>
                </a:lnTo>
                <a:lnTo>
                  <a:pt x="804" y="0"/>
                </a:lnTo>
              </a:path>
            </a:pathLst>
          </a:custGeom>
          <a:solidFill>
            <a:srgbClr val="a0e0e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27800" y="360684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47240" y="38480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26480" y="424800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26120" y="4491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9560" y="2567160"/>
            <a:ext cx="40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89640" y="27939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964280" y="267984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996320" y="289872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62240" y="1922400"/>
            <a:ext cx="461988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316160" y="2664000"/>
          <a:ext cx="2241360" cy="1719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16160" y="2664000"/>
                    <a:ext cx="224136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7265880" y="6033960"/>
            <a:ext cx="1600200" cy="609840"/>
            <a:chOff x="7265880" y="6033960"/>
            <a:chExt cx="1600200" cy="609840"/>
          </a:xfrm>
        </p:grpSpPr>
        <p:sp>
          <p:nvSpPr>
            <p:cNvPr id="29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318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"/>
          <p:cNvSpPr/>
          <p:nvPr/>
        </p:nvSpPr>
        <p:spPr>
          <a:xfrm>
            <a:off x="654480" y="547560"/>
            <a:ext cx="6892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nd-of-Excel, part 1 of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 labs this and next we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 quiz in two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lecture will be problem solving using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, some advanced features of Excel will be cov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265880" y="6033960"/>
            <a:ext cx="1600200" cy="609840"/>
            <a:chOff x="7265880" y="6033960"/>
            <a:chExt cx="1600200" cy="609840"/>
          </a:xfrm>
        </p:grpSpPr>
        <p:sp>
          <p:nvSpPr>
            <p:cNvPr id="6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318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657000" y="547560"/>
            <a:ext cx="49474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scellaneo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hcad can be used for programming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21680" y="14616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496880" y="1905120"/>
          <a:ext cx="2637000" cy="352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6880" y="1905120"/>
                    <a:ext cx="263700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 rot="20488800">
            <a:off x="4864320" y="3114720"/>
            <a:ext cx="330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ze to the first person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tell me what X will eq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20491200">
            <a:off x="4096800" y="2773080"/>
            <a:ext cx="4834080" cy="1369800"/>
          </a:xfrm>
          <a:custGeom>
            <a:avLst/>
            <a:gdLst>
              <a:gd name="textAreaLeft" fmla="*/ 1103400 w 4834080"/>
              <a:gd name="textAreaRight" fmla="*/ 3730680 w 4834080"/>
              <a:gd name="textAreaTop" fmla="*/ 312480 h 1369800"/>
              <a:gd name="textAreaBottom" fmla="*/ 1057320 h 136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73320" y="1844640"/>
            <a:ext cx="2716200" cy="378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7265880" y="6033960"/>
            <a:ext cx="1600200" cy="609840"/>
            <a:chOff x="7265880" y="6033960"/>
            <a:chExt cx="1600200" cy="609840"/>
          </a:xfrm>
        </p:grpSpPr>
        <p:sp>
          <p:nvSpPr>
            <p:cNvPr id="74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318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"/>
          <p:cNvSpPr/>
          <p:nvPr/>
        </p:nvSpPr>
        <p:spPr>
          <a:xfrm>
            <a:off x="654840" y="547560"/>
            <a:ext cx="58723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scellaneou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hcad can be used for reading data from file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21680" y="14616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53440" y="2149560"/>
            <a:ext cx="2652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:\work\x.txt cont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output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371600" y="1946160"/>
          <a:ext cx="3584520" cy="463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946160"/>
                    <a:ext cx="358452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268280" y="1833480"/>
            <a:ext cx="3810240" cy="4083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85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653760" y="547560"/>
            <a:ext cx="67410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le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key capabilities, or uses, of Mathcad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kinds of variables in Mathcad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kinds of “equal signs” and their use in Mathcad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92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647640" y="547560"/>
            <a:ext cx="785988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lectur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reak-even analysis is used to determine ____________________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can be done in two ways with Mathcad, the two ways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tting a line to a set of data points is called 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he built-in functions to do this are ________________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______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n equation “screws-up” in Mathcad, it is often best to sim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_______________________ as a first pass at the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must work completely alone on the assignments and cannot as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one for help or give anyone help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265880" y="6033960"/>
            <a:ext cx="1600200" cy="648000"/>
            <a:chOff x="7265880" y="6033960"/>
            <a:chExt cx="1600200" cy="648000"/>
          </a:xfrm>
        </p:grpSpPr>
        <p:sp>
          <p:nvSpPr>
            <p:cNvPr id="99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6996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648000" y="547560"/>
            <a:ext cx="81691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 from last lectur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must work completely alone on the quiz and cannot ask other stud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help or give other students help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 copy my assignmet solutions to the hard disk before the quiz,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n’t get caught if no one sees me do it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36920" y="4881600"/>
            <a:ext cx="584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f you are still having downloading problem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ee me or a teaching assistant TODA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76400" y="4656240"/>
            <a:ext cx="6954840" cy="1301760"/>
          </a:xfrm>
          <a:prstGeom prst="ellipse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62920" y="3301920"/>
            <a:ext cx="419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ing able to download and work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osted course materials is a M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286080" y="3652920"/>
            <a:ext cx="2380320" cy="180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0880" y="547560"/>
            <a:ext cx="835344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preadsheet is a “live” accounting balance 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“what if”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ful fo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anything fina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de she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 statistic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ment data (and its analy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easily “import” data in text format into a spread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s, collected measurement data can be imported into a spread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36400" y="5276880"/>
            <a:ext cx="266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umber crun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32080" y="5011560"/>
            <a:ext cx="4157640" cy="1157400"/>
          </a:xfrm>
          <a:custGeom>
            <a:avLst/>
            <a:gdLst/>
            <a:ahLst/>
            <a:rect l="l" t="t" r="r" b="b"/>
            <a:pathLst>
              <a:path w="2619" h="729">
                <a:moveTo>
                  <a:pt x="469" y="254"/>
                </a:moveTo>
                <a:lnTo>
                  <a:pt x="123" y="132"/>
                </a:lnTo>
                <a:lnTo>
                  <a:pt x="145" y="132"/>
                </a:lnTo>
                <a:lnTo>
                  <a:pt x="489" y="168"/>
                </a:lnTo>
                <a:lnTo>
                  <a:pt x="379" y="35"/>
                </a:lnTo>
                <a:lnTo>
                  <a:pt x="406" y="39"/>
                </a:lnTo>
                <a:lnTo>
                  <a:pt x="606" y="125"/>
                </a:lnTo>
                <a:lnTo>
                  <a:pt x="627" y="118"/>
                </a:lnTo>
                <a:lnTo>
                  <a:pt x="737" y="18"/>
                </a:lnTo>
                <a:lnTo>
                  <a:pt x="923" y="132"/>
                </a:lnTo>
                <a:lnTo>
                  <a:pt x="1026" y="28"/>
                </a:lnTo>
                <a:lnTo>
                  <a:pt x="1047" y="28"/>
                </a:lnTo>
                <a:lnTo>
                  <a:pt x="1123" y="114"/>
                </a:lnTo>
                <a:lnTo>
                  <a:pt x="1247" y="21"/>
                </a:lnTo>
                <a:lnTo>
                  <a:pt x="1343" y="132"/>
                </a:lnTo>
                <a:lnTo>
                  <a:pt x="1447" y="32"/>
                </a:lnTo>
                <a:lnTo>
                  <a:pt x="1571" y="132"/>
                </a:lnTo>
                <a:lnTo>
                  <a:pt x="1577" y="118"/>
                </a:lnTo>
                <a:lnTo>
                  <a:pt x="1729" y="0"/>
                </a:lnTo>
                <a:lnTo>
                  <a:pt x="1742" y="14"/>
                </a:lnTo>
                <a:lnTo>
                  <a:pt x="1750" y="25"/>
                </a:lnTo>
                <a:lnTo>
                  <a:pt x="1866" y="114"/>
                </a:lnTo>
                <a:lnTo>
                  <a:pt x="2011" y="3"/>
                </a:lnTo>
                <a:lnTo>
                  <a:pt x="2114" y="132"/>
                </a:lnTo>
                <a:lnTo>
                  <a:pt x="2459" y="35"/>
                </a:lnTo>
                <a:lnTo>
                  <a:pt x="2383" y="150"/>
                </a:lnTo>
                <a:lnTo>
                  <a:pt x="2618" y="175"/>
                </a:lnTo>
                <a:lnTo>
                  <a:pt x="2431" y="283"/>
                </a:lnTo>
                <a:lnTo>
                  <a:pt x="2596" y="347"/>
                </a:lnTo>
                <a:lnTo>
                  <a:pt x="2362" y="347"/>
                </a:lnTo>
                <a:lnTo>
                  <a:pt x="2528" y="466"/>
                </a:lnTo>
                <a:lnTo>
                  <a:pt x="2321" y="426"/>
                </a:lnTo>
                <a:lnTo>
                  <a:pt x="2259" y="609"/>
                </a:lnTo>
                <a:lnTo>
                  <a:pt x="2135" y="498"/>
                </a:lnTo>
                <a:lnTo>
                  <a:pt x="1998" y="645"/>
                </a:lnTo>
                <a:lnTo>
                  <a:pt x="1929" y="473"/>
                </a:lnTo>
                <a:lnTo>
                  <a:pt x="1756" y="649"/>
                </a:lnTo>
                <a:lnTo>
                  <a:pt x="1695" y="495"/>
                </a:lnTo>
                <a:lnTo>
                  <a:pt x="1605" y="667"/>
                </a:lnTo>
                <a:lnTo>
                  <a:pt x="1447" y="498"/>
                </a:lnTo>
                <a:lnTo>
                  <a:pt x="1254" y="717"/>
                </a:lnTo>
                <a:lnTo>
                  <a:pt x="1226" y="491"/>
                </a:lnTo>
                <a:lnTo>
                  <a:pt x="1047" y="728"/>
                </a:lnTo>
                <a:lnTo>
                  <a:pt x="971" y="502"/>
                </a:lnTo>
                <a:lnTo>
                  <a:pt x="751" y="717"/>
                </a:lnTo>
                <a:lnTo>
                  <a:pt x="730" y="505"/>
                </a:lnTo>
                <a:lnTo>
                  <a:pt x="345" y="645"/>
                </a:lnTo>
                <a:lnTo>
                  <a:pt x="516" y="473"/>
                </a:lnTo>
                <a:lnTo>
                  <a:pt x="96" y="527"/>
                </a:lnTo>
                <a:lnTo>
                  <a:pt x="441" y="387"/>
                </a:lnTo>
                <a:lnTo>
                  <a:pt x="0" y="290"/>
                </a:lnTo>
                <a:lnTo>
                  <a:pt x="469" y="254"/>
                </a:lnTo>
              </a:path>
            </a:pathLst>
          </a:custGeom>
          <a:noFill/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265880" y="6033960"/>
            <a:ext cx="1600200" cy="609840"/>
            <a:chOff x="7265880" y="6033960"/>
            <a:chExt cx="1600200" cy="609840"/>
          </a:xfrm>
        </p:grpSpPr>
        <p:sp>
          <p:nvSpPr>
            <p:cNvPr id="113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3180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5400" y="95400"/>
            <a:ext cx="8953200" cy="666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4560" y="547560"/>
            <a:ext cx="29523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ce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spread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265880" y="6033960"/>
            <a:ext cx="1600200" cy="609840"/>
            <a:chOff x="7265880" y="6033960"/>
            <a:chExt cx="1600200" cy="609840"/>
          </a:xfrm>
        </p:grpSpPr>
        <p:sp>
          <p:nvSpPr>
            <p:cNvPr id="120" name=""/>
            <p:cNvSpPr/>
            <p:nvPr/>
          </p:nvSpPr>
          <p:spPr>
            <a:xfrm>
              <a:off x="7275600" y="6037200"/>
              <a:ext cx="1565280" cy="57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84000" y="6097680"/>
              <a:ext cx="98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llege of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7265880" y="6033960"/>
              <a:ext cx="63180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287360" y="1693800"/>
            <a:ext cx="5913720" cy="5019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522920" y="2496960"/>
            <a:ext cx="99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60600" y="3660840"/>
            <a:ext cx="55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905360" y="2693880"/>
            <a:ext cx="2627280" cy="86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564160" y="3868560"/>
            <a:ext cx="2317680" cy="116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0" y="10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JC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9440000">
            <a:off x="7747920" y="48243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0T03:40:38Z</dcterms:created>
  <dc:creator>Ken Christensen</dc:creator>
  <dc:description/>
  <dc:language>en-US</dc:language>
  <cp:lastModifiedBy>Kenneth J. Christensen</cp:lastModifiedBy>
  <cp:lastPrinted>1997-09-14T21:30:46Z</cp:lastPrinted>
  <dcterms:modified xsi:type="dcterms:W3CDTF">1999-09-10T01:27:40Z</dcterms:modified>
  <cp:revision>39</cp:revision>
  <dc:subject/>
  <dc:title>No Slide Title</dc:title>
</cp:coreProperties>
</file>