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435-66EA-4D4F-B660-9C14DACC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43F-BF61-482F-B4F6-DC33EC3C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6C1-5A42-43DC-922C-68A85E05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B0F-8C9C-44E7-822B-B216B5D9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5C8-BB87-494E-8C6B-C563B0A6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C33-7DDA-4679-88CC-9143B746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FA4-4ACB-49E4-845F-56BA0A05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449-1DF4-4996-840D-BBBC7ED5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35D-3802-4A64-A6FD-0592A992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39E-D616-4145-AAC8-5862D5B3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279-CF3F-4CF9-8E3F-724B0781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C82-A283-4DCA-A808-B4079B4C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C150-E2E4-4B17-BBDE-50871D1E4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10652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cture #7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8960" y="9968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8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657840" y="5584680"/>
            <a:ext cx="2198880" cy="1062360"/>
            <a:chOff x="6657840" y="5584680"/>
            <a:chExt cx="2198880" cy="1062360"/>
          </a:xfrm>
        </p:grpSpPr>
        <p:sp>
          <p:nvSpPr>
            <p:cNvPr id="45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657840" y="5584680"/>
              <a:ext cx="1100160" cy="106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7250040" y="152280"/>
            <a:ext cx="176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1 – day7.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5360" y="127080"/>
            <a:ext cx="239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29040" y="3397320"/>
            <a:ext cx="2446560" cy="158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62000" y="2701800"/>
            <a:ext cx="3114720" cy="3552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1260000">
            <a:off x="347400" y="3127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180000">
            <a:off x="2627640" y="45025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12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666720" y="547560"/>
            <a:ext cx="52678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constructing exam #1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 #2 w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the 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 #2 will c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charting (lots of 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ORTRAN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12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280" y="547560"/>
            <a:ext cx="840384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me flowcha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where the user enters a positive integer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n the program outputs “hello” this many t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where a user inputs a number and then twic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the number is output.  The program terminates whe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enters a negative number (without outputting the doubled valu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where a user enters a number and then the s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is number and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st entered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utput.  This conti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the sum value is exactly 1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1006000">
            <a:off x="1105920" y="5800680"/>
            <a:ext cx="39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Times New Roman"/>
              </a:rPr>
              <a:t>Do on board through-out the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13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8360" y="547560"/>
            <a:ext cx="81266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me flowchart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that output the integers 1 through 10.  Th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that inputs a positive integ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then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gers 1 through 1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to compute the series representation of “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21006000">
            <a:off x="1105920" y="5800680"/>
            <a:ext cx="39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Times New Roman"/>
              </a:rPr>
              <a:t>Do on board through-out the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14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648000" y="547560"/>
            <a:ext cx="82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me programming poin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, and such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Always use a hea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Always use inline comments for key code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Type all variables (never use FORTRAN implic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Use meaningful variable names (remember 6 letters maxim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Break-up long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 Use spaces to improve read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7) Do not use “magic numbers” (use constants inst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) Prompt for all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) Identify (label) all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) Watch-out for column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1) Remember to use all capitals (except in com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91040" y="5570640"/>
            <a:ext cx="7082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ven if just one line (e.g., in your quiz) - you must have a header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9840" y="1659240"/>
            <a:ext cx="2234520" cy="411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3" y="21600"/>
                </a:moveTo>
                <a:arcTo wR="10800" hR="10800" stAng="5424435" swAng="5375565"/>
                <a:lnTo>
                  <a:pt x="10800" y="10800"/>
                </a:lnTo>
                <a:close/>
              </a:path>
              <a:path fill="none" w="21600" h="21600">
                <a:moveTo>
                  <a:pt x="10723" y="21600"/>
                </a:moveTo>
                <a:arcTo wR="10800" hR="10800" stAng="5424435" swAng="537556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280" y="1803240"/>
            <a:ext cx="2235240" cy="411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0"/>
                </a:moveTo>
                <a:arcTo wR="10800" hR="10800" stAng="-10784073" swAng="5379189"/>
                <a:lnTo>
                  <a:pt x="10800" y="10800"/>
                </a:lnTo>
                <a:close/>
              </a:path>
              <a:path fill="none" w="21600" h="21600">
                <a:moveTo>
                  <a:pt x="0" y="10750"/>
                </a:moveTo>
                <a:arcTo wR="10800" hR="10800" stAng="-10784073" swAng="5379189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15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649440" y="547560"/>
            <a:ext cx="752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me programming pointer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error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errors (misspelled statements,  missing comma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position errors (remember the column ru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expression errors (remember rules of preced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89120" y="4541760"/>
            <a:ext cx="1595520" cy="308160"/>
          </a:xfrm>
          <a:prstGeom prst="rightArrow">
            <a:avLst>
              <a:gd name="adj1" fmla="val 50000"/>
              <a:gd name="adj2" fmla="val 2591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00920" y="447660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0_3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16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648000" y="547560"/>
            <a:ext cx="83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me programming pointer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ug tip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“debug print statements” to trace program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to print-out values of a variable before final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“watching” 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120" y="4541760"/>
            <a:ext cx="1595520" cy="308160"/>
          </a:xfrm>
          <a:prstGeom prst="rightArrow">
            <a:avLst>
              <a:gd name="adj1" fmla="val 50000"/>
              <a:gd name="adj2" fmla="val 2591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00920" y="447660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0_4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7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>
            <a:off x="646560" y="547560"/>
            <a:ext cx="838260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MATed I/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we “prettify” our outp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statement used in conjunction with a READ or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descri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w.d for real number (w digits including the “.”, d digits after the “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w for integer number (w dig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 for character data (w charac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X for space (n 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 for 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others, but this is all we’ll cover for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haracter i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nk for normal sp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for double sp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for page eject (think printer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for overstrike (but, probably will not 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18120" y="3316320"/>
            <a:ext cx="133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671800" y="3516480"/>
            <a:ext cx="1150920" cy="11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0580000">
            <a:off x="4736160" y="546120"/>
            <a:ext cx="148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0580000">
            <a:off x="4530600" y="471240"/>
            <a:ext cx="1871640" cy="63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8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658800" y="547560"/>
            <a:ext cx="4302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MATed I/O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 (a program snippet)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72440" y="2189160"/>
            <a:ext cx="64944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 *** Assume X = 1.23 real and N = 129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*, 10) X,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FORMAT(1X, ‘X = ‘, F9.3, 5X, ‘N = ‘, I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    1.23     N =  1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22400" y="4011120"/>
            <a:ext cx="7337160" cy="193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84560" y="4006800"/>
            <a:ext cx="4790520" cy="19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4016520"/>
            <a:ext cx="3044520" cy="19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2" y="21600"/>
                </a:moveTo>
                <a:arcTo wR="10800" hR="10800" stAng="5421543" swAng="5372802"/>
                <a:lnTo>
                  <a:pt x="10800" y="10800"/>
                </a:lnTo>
                <a:close/>
              </a:path>
              <a:path fill="none" w="21600" h="21600">
                <a:moveTo>
                  <a:pt x="10732" y="21600"/>
                </a:moveTo>
                <a:arcTo wR="10800" hR="10800" stAng="5421543" swAng="5372802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56960" y="5749920"/>
            <a:ext cx="152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sp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5480" y="4614840"/>
            <a:ext cx="129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03480" y="4815000"/>
            <a:ext cx="1601640" cy="6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9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655200" y="547560"/>
            <a:ext cx="75657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MATed I/O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number won’t f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*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use FORMAT as part of a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ad from files written with the same FORMA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65280" y="4316400"/>
            <a:ext cx="1595520" cy="308160"/>
          </a:xfrm>
          <a:prstGeom prst="rightArrow">
            <a:avLst>
              <a:gd name="adj1" fmla="val 50000"/>
              <a:gd name="adj2" fmla="val 25909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5440" y="4229280"/>
            <a:ext cx="256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3_1.f, ex13_2.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0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/>
          <p:cNvSpPr/>
          <p:nvPr/>
        </p:nvSpPr>
        <p:spPr>
          <a:xfrm>
            <a:off x="655200" y="547560"/>
            <a:ext cx="62672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MATed I/O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go crazy with fine tuning FORMAT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need to know... what we just covered, which i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Summary of Chapter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lu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, S, P, and B descri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STAT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9880" y="547560"/>
            <a:ext cx="371448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rom last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nstructing exam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flowch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programming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5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1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666000" y="547560"/>
            <a:ext cx="290700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gram f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) Sequ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)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) Re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754440" y="1611000"/>
            <a:ext cx="1922400" cy="515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35880" y="1419120"/>
            <a:ext cx="2566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ight-l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346560" y="2633400"/>
            <a:ext cx="1922400" cy="515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2680" y="2441520"/>
            <a:ext cx="41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48160" y="3597120"/>
            <a:ext cx="1922400" cy="516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33560" y="3405240"/>
            <a:ext cx="823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0320" y="2232000"/>
            <a:ext cx="807840" cy="67788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2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659160" y="547560"/>
            <a:ext cx="5939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gram flow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example of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sel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FORTRAN IF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09120" y="2657520"/>
            <a:ext cx="4142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logical expressio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27320" y="2436840"/>
            <a:ext cx="4738680" cy="29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873160" y="3044880"/>
            <a:ext cx="206640" cy="730080"/>
            <a:chOff x="2873160" y="3044880"/>
            <a:chExt cx="206640" cy="730080"/>
          </a:xfrm>
        </p:grpSpPr>
        <p:sp>
          <p:nvSpPr>
            <p:cNvPr id="235" name=""/>
            <p:cNvSpPr/>
            <p:nvPr/>
          </p:nvSpPr>
          <p:spPr>
            <a:xfrm>
              <a:off x="2873520" y="3044880"/>
              <a:ext cx="20628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873160" y="3413160"/>
              <a:ext cx="20628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873160" y="4091040"/>
            <a:ext cx="206640" cy="730080"/>
            <a:chOff x="2873160" y="4091040"/>
            <a:chExt cx="206640" cy="730080"/>
          </a:xfrm>
        </p:grpSpPr>
        <p:sp>
          <p:nvSpPr>
            <p:cNvPr id="238" name=""/>
            <p:cNvSpPr/>
            <p:nvPr/>
          </p:nvSpPr>
          <p:spPr>
            <a:xfrm>
              <a:off x="2873520" y="4091040"/>
              <a:ext cx="20628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873160" y="4459320"/>
              <a:ext cx="20628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V="1">
            <a:off x="3192480" y="2886120"/>
            <a:ext cx="3267000" cy="503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179880" y="3931920"/>
            <a:ext cx="3289320" cy="514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32840" y="269244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if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53000" y="373680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if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73400" y="1806480"/>
            <a:ext cx="6597000" cy="180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5"/>
                </a:moveTo>
                <a:arcTo wR="10800" hR="10800" stAng="-10769845" swAng="5368191"/>
                <a:lnTo>
                  <a:pt x="10800" y="10800"/>
                </a:lnTo>
                <a:close/>
              </a:path>
              <a:path fill="none" w="21600" h="21600">
                <a:moveTo>
                  <a:pt x="0" y="10705"/>
                </a:moveTo>
                <a:arcTo wR="10800" hR="10800" stAng="-10769845" swAng="5368191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0680" y="1622520"/>
            <a:ext cx="196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4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658800" y="547560"/>
            <a:ext cx="6153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gram flow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example of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pet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FORTRAN D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13800" y="2657520"/>
            <a:ext cx="2658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10 J = 1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  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27320" y="2436840"/>
            <a:ext cx="4332240" cy="19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325680" y="3081240"/>
            <a:ext cx="206640" cy="730440"/>
            <a:chOff x="3325680" y="3081240"/>
            <a:chExt cx="206640" cy="730440"/>
          </a:xfrm>
        </p:grpSpPr>
        <p:sp>
          <p:nvSpPr>
            <p:cNvPr id="256" name=""/>
            <p:cNvSpPr/>
            <p:nvPr/>
          </p:nvSpPr>
          <p:spPr>
            <a:xfrm>
              <a:off x="3325680" y="3081240"/>
              <a:ext cx="20664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325680" y="3449520"/>
              <a:ext cx="20664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 flipV="1">
            <a:off x="3611520" y="2884320"/>
            <a:ext cx="2849760" cy="54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32120" y="2692440"/>
            <a:ext cx="196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N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73400" y="1843200"/>
            <a:ext cx="6597000" cy="17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1"/>
                </a:moveTo>
                <a:arcTo wR="10800" hR="10800" stAng="-10768577" swAng="5366923"/>
                <a:lnTo>
                  <a:pt x="10800" y="10800"/>
                </a:lnTo>
                <a:close/>
              </a:path>
              <a:path fill="none" w="21600" h="21600">
                <a:moveTo>
                  <a:pt x="0" y="10701"/>
                </a:moveTo>
                <a:arcTo wR="10800" hR="10800" stAng="-10768577" swAng="5366923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31400" y="1622520"/>
            <a:ext cx="2324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 DO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46160" y="5153040"/>
            <a:ext cx="1595520" cy="307800"/>
          </a:xfrm>
          <a:prstGeom prst="rightArrow">
            <a:avLst>
              <a:gd name="adj1" fmla="val 50000"/>
              <a:gd name="adj2" fmla="val 25939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7040" y="5065560"/>
            <a:ext cx="13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3_3.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6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658440" y="547560"/>
            <a:ext cx="47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nd (almos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FORTRAN quiz this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roblem from assignment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random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084480"/>
            <a:ext cx="1503360" cy="479520"/>
          </a:xfrm>
          <a:prstGeom prst="rightArrow">
            <a:avLst>
              <a:gd name="adj1" fmla="val 50000"/>
              <a:gd name="adj2" fmla="val 7837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74640" y="2727360"/>
            <a:ext cx="55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member, you are responsible for ins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hat your diskette contains your quiz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sk for help, if you need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223560" y="190440"/>
            <a:ext cx="9339840" cy="63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d-term survey (anonymou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pace of this class i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way too fast    (b) fast    (c) average    (d) slow    (e) way too s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ifficulty of this class is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much too difficult   (b) difficult    (c) average    (d) easy    (e) triv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 spend about this many hours per week outside the class and lab studying for this cours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20 to 40 hrs    (b) 10 to 20 hrs    (c) 5 to 10 hrs    (d) 1 to 5 hrs    (e) 0 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use of the Web for this cours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great, everyone should do it     (b) OK     (c) A waste of your and m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instructor’s E-mail response time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faster than the speed of light   (b) awesomely fast   (c) really fast   (d) never send instructor ema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one thing I (student) can do to improve my learning 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one thing you (instructor) can do to improve my (student) learning 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f a grading mistake results in me getting points I don’t deserve, I will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y general comments on this course, instructor, TA’s, exam #1, and etc. a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72880" y="5305320"/>
            <a:ext cx="134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</a:rPr>
              <a:t>Short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48520" y="4640400"/>
            <a:ext cx="338040" cy="857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210440" y="5484600"/>
            <a:ext cx="277920" cy="80460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21240000">
            <a:off x="5798160" y="612720"/>
            <a:ext cx="29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Submit on a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21240000">
            <a:off x="5562360" y="502920"/>
            <a:ext cx="3456000" cy="620640"/>
          </a:xfrm>
          <a:prstGeom prst="ellipse">
            <a:avLst/>
          </a:prstGeom>
          <a:noFill/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6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668160" y="547560"/>
            <a:ext cx="2437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30240" y="2444760"/>
          <a:ext cx="2563920" cy="27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0240" y="2444760"/>
                    <a:ext cx="256392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995560" y="1260360"/>
            <a:ext cx="4546800" cy="1368720"/>
          </a:xfrm>
          <a:custGeom>
            <a:avLst/>
            <a:gdLst>
              <a:gd name="textAreaLeft" fmla="*/ 168120 w 4546800"/>
              <a:gd name="textAreaRight" fmla="*/ 4378680 w 4546800"/>
              <a:gd name="textAreaTop" fmla="*/ 50400 h 1368720"/>
              <a:gd name="textAreaBottom" fmla="*/ 1093320 h 1368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8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40800" y="1523880"/>
            <a:ext cx="3921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z #3 is this week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7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643680" y="547560"/>
            <a:ext cx="79329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ree parts of a program are 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gram must be readable by a _______________ and a 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ATFOR compiler gives three kinds of messages, they are 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ce between a variable and constant is 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can be initialized with the ___________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s are initialized with the ________________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math always 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-mode math means 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8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>
            <a:off x="647280" y="547560"/>
            <a:ext cx="79192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open a file, use the ______________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set a file, use the __________________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time a READ is issued to a file _______________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nput text (in a file or at the console), the text string must be bracke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built-in Math functions are 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rmula to convert a base-b log to base-a log is 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in doubt on how a function works, you can always 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8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646200" y="547560"/>
            <a:ext cx="79419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wo general classes of programming errors are 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two specific examples of a compile time error 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two general examples of a run time error 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9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652320" y="547560"/>
            <a:ext cx="6902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constructing exam #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important to analyze your performance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did poo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did we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did “O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industry this is called a “Post-Mortem” and is done a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of all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analyzing your test performance you can figure out if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studied too m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studied too li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studied the wrong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don’t know how to stud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49600" y="1676520"/>
            <a:ext cx="168480" cy="861840"/>
          </a:xfrm>
          <a:custGeom>
            <a:avLst/>
            <a:gdLst/>
            <a:ahLst/>
            <a:rect l="l" t="t" r="r" b="b"/>
            <a:pathLst>
              <a:path w="106" h="543">
                <a:moveTo>
                  <a:pt x="0" y="0"/>
                </a:moveTo>
                <a:lnTo>
                  <a:pt x="19" y="3"/>
                </a:lnTo>
                <a:lnTo>
                  <a:pt x="38" y="13"/>
                </a:lnTo>
                <a:lnTo>
                  <a:pt x="49" y="28"/>
                </a:lnTo>
                <a:lnTo>
                  <a:pt x="53" y="46"/>
                </a:lnTo>
                <a:lnTo>
                  <a:pt x="53" y="225"/>
                </a:lnTo>
                <a:lnTo>
                  <a:pt x="56" y="243"/>
                </a:lnTo>
                <a:lnTo>
                  <a:pt x="68" y="258"/>
                </a:lnTo>
                <a:lnTo>
                  <a:pt x="83" y="268"/>
                </a:lnTo>
                <a:lnTo>
                  <a:pt x="105" y="271"/>
                </a:lnTo>
                <a:lnTo>
                  <a:pt x="83" y="274"/>
                </a:lnTo>
                <a:lnTo>
                  <a:pt x="68" y="284"/>
                </a:lnTo>
                <a:lnTo>
                  <a:pt x="56" y="299"/>
                </a:lnTo>
                <a:lnTo>
                  <a:pt x="53" y="317"/>
                </a:lnTo>
                <a:lnTo>
                  <a:pt x="53" y="496"/>
                </a:lnTo>
                <a:lnTo>
                  <a:pt x="49" y="514"/>
                </a:lnTo>
                <a:lnTo>
                  <a:pt x="38" y="529"/>
                </a:lnTo>
                <a:lnTo>
                  <a:pt x="19" y="539"/>
                </a:lnTo>
                <a:lnTo>
                  <a:pt x="0" y="5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1760" y="1909800"/>
            <a:ext cx="413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ssumed that you want to do we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10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649080" y="547560"/>
            <a:ext cx="76543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constructing exam #1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ways to do poorly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Bleed a little on many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Do well on most problems, totally trash one or two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You did not understand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You did not know the answer to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You made a “stupid mistake” or are overly slop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11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55200" y="547560"/>
            <a:ext cx="6543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constructing exam #1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s with grading criteria have been po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grading errors have to be fixed by 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THIS FRI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xceptions (please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98120" y="3276720"/>
            <a:ext cx="26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1120" y="3594240"/>
            <a:ext cx="1363680" cy="511200"/>
          </a:xfrm>
          <a:prstGeom prst="rightArrow">
            <a:avLst>
              <a:gd name="adj1" fmla="val 50000"/>
              <a:gd name="adj2" fmla="val 66690"/>
            </a:avLst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22920" y="3321000"/>
            <a:ext cx="5978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 to think about… if you were given too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at a store, would you keep it?  If given too m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s on an exam, would you keep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 Christensen</cp:lastModifiedBy>
  <cp:lastPrinted>1998-10-20T15:50:29Z</cp:lastPrinted>
  <dcterms:modified xsi:type="dcterms:W3CDTF">1999-10-12T17:25:29Z</dcterms:modified>
  <cp:revision>93</cp:revision>
  <dc:subject/>
  <dc:title>No Slide Title</dc:title>
</cp:coreProperties>
</file>