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B641-00AA-40DE-9D46-45B69CA3E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E360-3F41-49B2-BA47-BBE7581A9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20B8-1253-4F76-AAED-D3EFDB930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AE5E-1F34-4656-BCE6-AE38BFFED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FDA1-1DF6-4849-AC7C-8592A6315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0040-5D3F-4579-90A9-DDBE15987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BA2C-71CD-48AA-9206-D62C74318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C92C-D747-410A-93A9-B2A3C70B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105B-3E29-4024-9638-9AC8C8586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0385-7610-4A46-AA3A-4758065A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EF84-7B7B-4497-A7A4-ECF0FF75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9A9C-2EEB-42F3-B9E2-0A0434E3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449DD-18B2-4FC6-8340-1700ECC339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41360" y="1065240"/>
            <a:ext cx="5938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Lecture #9 for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Computer Tools for Engine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758960" y="996840"/>
            <a:ext cx="6845400" cy="1739880"/>
          </a:xfrm>
          <a:custGeom>
            <a:avLst/>
            <a:gdLst>
              <a:gd name="textAreaLeft" fmla="*/ 253440 w 6845400"/>
              <a:gd name="textAreaRight" fmla="*/ 6591960 w 6845400"/>
              <a:gd name="textAreaTop" fmla="*/ 64440 h 1739880"/>
              <a:gd name="textAreaBottom" fmla="*/ 1389600 h 17398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1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6657840" y="5584680"/>
            <a:ext cx="2198880" cy="1049400"/>
            <a:chOff x="6657840" y="5584680"/>
            <a:chExt cx="2198880" cy="1049400"/>
          </a:xfrm>
        </p:grpSpPr>
        <p:sp>
          <p:nvSpPr>
            <p:cNvPr id="45" name=""/>
            <p:cNvSpPr/>
            <p:nvPr/>
          </p:nvSpPr>
          <p:spPr>
            <a:xfrm>
              <a:off x="6669000" y="5586480"/>
              <a:ext cx="2187720" cy="990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766640" y="562752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767360" y="6086520"/>
              <a:ext cx="10310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niversity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uth Florid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6657840" y="5584680"/>
              <a:ext cx="1087560" cy="1049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"/>
          <p:cNvSpPr/>
          <p:nvPr/>
        </p:nvSpPr>
        <p:spPr>
          <a:xfrm>
            <a:off x="6345720" y="147600"/>
            <a:ext cx="2672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01 – day9.ppt (10/27/9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9240" y="127080"/>
            <a:ext cx="397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werPoint foils for lecture #9 (week #11 in outli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829040" y="3397320"/>
            <a:ext cx="2433600" cy="1574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03280" y="2436840"/>
            <a:ext cx="1915920" cy="40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7265880" y="6033960"/>
            <a:ext cx="1600200" cy="635040"/>
            <a:chOff x="7265880" y="6033960"/>
            <a:chExt cx="1600200" cy="635040"/>
          </a:xfrm>
        </p:grpSpPr>
        <p:sp>
          <p:nvSpPr>
            <p:cNvPr id="141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3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57360" cy="63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"/>
          <p:cNvSpPr/>
          <p:nvPr/>
        </p:nvSpPr>
        <p:spPr>
          <a:xfrm>
            <a:off x="658800" y="547560"/>
            <a:ext cx="43027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MATed I/O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example (a program snippet)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72440" y="2189160"/>
            <a:ext cx="6494400" cy="31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 *** Assume X = 1.23 real and N = 129 inte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*, 10) X,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 FORMAT(1X, ‘X = ‘, F9.3, 5X, ‘N = ‘, I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 =     1.23     N =  12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22400" y="4011120"/>
            <a:ext cx="7337160" cy="193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84560" y="4006800"/>
            <a:ext cx="4790520" cy="1929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067280" y="4016520"/>
            <a:ext cx="3044520" cy="1929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32" y="21600"/>
                </a:moveTo>
                <a:arcTo wR="10800" hR="10800" stAng="5421543" swAng="5372802"/>
                <a:lnTo>
                  <a:pt x="10800" y="10800"/>
                </a:lnTo>
                <a:close/>
              </a:path>
              <a:path fill="none" w="21600" h="21600">
                <a:moveTo>
                  <a:pt x="10732" y="21600"/>
                </a:moveTo>
                <a:arcTo wR="10800" hR="10800" stAng="5421543" swAng="5372802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556960" y="5749920"/>
            <a:ext cx="1523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 spa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131320" y="16524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05480" y="4614840"/>
            <a:ext cx="1297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4803480" y="4815000"/>
            <a:ext cx="1601640" cy="66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952720" y="3611520"/>
            <a:ext cx="406440" cy="324000"/>
          </a:xfrm>
          <a:prstGeom prst="ellipse">
            <a:avLst/>
          </a:prstGeom>
          <a:noFill/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7265880" y="6033960"/>
            <a:ext cx="1600200" cy="635040"/>
            <a:chOff x="7265880" y="6033960"/>
            <a:chExt cx="1600200" cy="635040"/>
          </a:xfrm>
        </p:grpSpPr>
        <p:sp>
          <p:nvSpPr>
            <p:cNvPr id="156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8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57360" cy="63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"/>
          <p:cNvSpPr/>
          <p:nvPr/>
        </p:nvSpPr>
        <p:spPr>
          <a:xfrm>
            <a:off x="655200" y="547560"/>
            <a:ext cx="756576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MATed I/O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f number won’t fi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s *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also use FORMAT as part of a 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read from files written with the same FORMAT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65280" y="4316400"/>
            <a:ext cx="1595520" cy="308160"/>
          </a:xfrm>
          <a:prstGeom prst="rightArrow">
            <a:avLst>
              <a:gd name="adj1" fmla="val 50000"/>
              <a:gd name="adj2" fmla="val 259094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05440" y="4229280"/>
            <a:ext cx="2565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13_1.f, ex13_2.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131320" y="16524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7265880" y="6033960"/>
            <a:ext cx="1600200" cy="635040"/>
            <a:chOff x="7265880" y="6033960"/>
            <a:chExt cx="1600200" cy="635040"/>
          </a:xfrm>
        </p:grpSpPr>
        <p:sp>
          <p:nvSpPr>
            <p:cNvPr id="165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7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57360" cy="63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" name=""/>
          <p:cNvSpPr/>
          <p:nvPr/>
        </p:nvSpPr>
        <p:spPr>
          <a:xfrm>
            <a:off x="655200" y="547560"/>
            <a:ext cx="626724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MATed I/O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go crazy with fine tuning FORMAT stat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 need to know... what we just covered, which is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Summary of Chapter 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xclu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, S, P, and B descrip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OSTAT cl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D cl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131320" y="16524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7265880" y="6033960"/>
            <a:ext cx="1600200" cy="648000"/>
            <a:chOff x="7265880" y="6033960"/>
            <a:chExt cx="1600200" cy="648000"/>
          </a:xfrm>
        </p:grpSpPr>
        <p:sp>
          <p:nvSpPr>
            <p:cNvPr id="172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4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69960" cy="6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5" name=""/>
          <p:cNvSpPr/>
          <p:nvPr/>
        </p:nvSpPr>
        <p:spPr>
          <a:xfrm>
            <a:off x="660960" y="547560"/>
            <a:ext cx="46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o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kinds of loop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loops (</a:t>
            </a: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counter loo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LE-DO loop (</a:t>
            </a: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pre-test loo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-UNTIL loop (</a:t>
            </a: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post-test loo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140680" y="1494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7265880" y="6033960"/>
            <a:ext cx="1600200" cy="648000"/>
            <a:chOff x="7265880" y="6033960"/>
            <a:chExt cx="1600200" cy="648000"/>
          </a:xfrm>
        </p:grpSpPr>
        <p:sp>
          <p:nvSpPr>
            <p:cNvPr id="179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1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69960" cy="6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2" name=""/>
          <p:cNvSpPr/>
          <p:nvPr/>
        </p:nvSpPr>
        <p:spPr>
          <a:xfrm>
            <a:off x="662040" y="547560"/>
            <a:ext cx="396720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ops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owchart for DO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called a </a:t>
            </a: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counter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25760" y="3424320"/>
            <a:ext cx="1451160" cy="646200"/>
          </a:xfrm>
          <a:prstGeom prst="diamond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49520" y="4400640"/>
            <a:ext cx="1177920" cy="588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33800" y="3747960"/>
            <a:ext cx="285840" cy="648000"/>
          </a:xfrm>
          <a:custGeom>
            <a:avLst/>
            <a:gdLst/>
            <a:ahLst/>
            <a:rect l="l" t="t" r="r" b="b"/>
            <a:pathLst>
              <a:path w="180" h="408">
                <a:moveTo>
                  <a:pt x="179" y="0"/>
                </a:moveTo>
                <a:lnTo>
                  <a:pt x="0" y="0"/>
                </a:lnTo>
                <a:lnTo>
                  <a:pt x="0" y="40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49640" y="5016600"/>
            <a:ext cx="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119040" y="340524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58920" y="340524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54200" y="5299200"/>
            <a:ext cx="1177920" cy="588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55880" y="3287880"/>
            <a:ext cx="2190600" cy="2979720"/>
          </a:xfrm>
          <a:custGeom>
            <a:avLst/>
            <a:gdLst/>
            <a:ahLst/>
            <a:rect l="l" t="t" r="r" b="b"/>
            <a:pathLst>
              <a:path w="1380" h="1877">
                <a:moveTo>
                  <a:pt x="759" y="1657"/>
                </a:moveTo>
                <a:lnTo>
                  <a:pt x="759" y="1876"/>
                </a:lnTo>
                <a:lnTo>
                  <a:pt x="0" y="1876"/>
                </a:lnTo>
                <a:lnTo>
                  <a:pt x="0" y="0"/>
                </a:lnTo>
                <a:lnTo>
                  <a:pt x="137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576960" y="3576600"/>
            <a:ext cx="1212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nde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li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612880" y="4527720"/>
            <a:ext cx="1041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16760" y="5419800"/>
            <a:ext cx="1218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884840" y="3753000"/>
            <a:ext cx="285480" cy="2757240"/>
          </a:xfrm>
          <a:custGeom>
            <a:avLst/>
            <a:gdLst/>
            <a:ahLst/>
            <a:rect l="l" t="t" r="r" b="b"/>
            <a:pathLst>
              <a:path w="180" h="1737">
                <a:moveTo>
                  <a:pt x="0" y="0"/>
                </a:moveTo>
                <a:lnTo>
                  <a:pt x="179" y="0"/>
                </a:lnTo>
                <a:lnTo>
                  <a:pt x="179" y="17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575160" y="2516040"/>
            <a:ext cx="1177920" cy="588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693960" y="2519280"/>
            <a:ext cx="946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nit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li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51160" y="3125880"/>
            <a:ext cx="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156200" y="2233440"/>
            <a:ext cx="0" cy="27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140680" y="1494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7265880" y="6033960"/>
            <a:ext cx="1600200" cy="648000"/>
            <a:chOff x="7265880" y="6033960"/>
            <a:chExt cx="1600200" cy="648000"/>
          </a:xfrm>
        </p:grpSpPr>
        <p:sp>
          <p:nvSpPr>
            <p:cNvPr id="202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4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69960" cy="6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5" name=""/>
          <p:cNvSpPr/>
          <p:nvPr/>
        </p:nvSpPr>
        <p:spPr>
          <a:xfrm>
            <a:off x="660960" y="547560"/>
            <a:ext cx="430272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ops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owchart for WHILE-DO loop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called a </a:t>
            </a: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pre-test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549600" y="3076560"/>
            <a:ext cx="1451160" cy="646200"/>
          </a:xfrm>
          <a:prstGeom prst="diamond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73360" y="4052880"/>
            <a:ext cx="1177920" cy="588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57640" y="3400560"/>
            <a:ext cx="285840" cy="647640"/>
          </a:xfrm>
          <a:custGeom>
            <a:avLst/>
            <a:gdLst/>
            <a:ahLst/>
            <a:rect l="l" t="t" r="r" b="b"/>
            <a:pathLst>
              <a:path w="180" h="408">
                <a:moveTo>
                  <a:pt x="179" y="0"/>
                </a:moveTo>
                <a:lnTo>
                  <a:pt x="0" y="0"/>
                </a:lnTo>
                <a:lnTo>
                  <a:pt x="0" y="40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008680" y="3394080"/>
            <a:ext cx="285480" cy="1839960"/>
          </a:xfrm>
          <a:custGeom>
            <a:avLst/>
            <a:gdLst/>
            <a:ahLst/>
            <a:rect l="l" t="t" r="r" b="b"/>
            <a:pathLst>
              <a:path w="180" h="1159">
                <a:moveTo>
                  <a:pt x="0" y="0"/>
                </a:moveTo>
                <a:lnTo>
                  <a:pt x="179" y="0"/>
                </a:lnTo>
                <a:lnTo>
                  <a:pt x="179" y="115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276800" y="2382840"/>
            <a:ext cx="0" cy="69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42880" y="305604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982760" y="305604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79720" y="2697120"/>
            <a:ext cx="2190600" cy="2219400"/>
          </a:xfrm>
          <a:custGeom>
            <a:avLst/>
            <a:gdLst/>
            <a:ahLst/>
            <a:rect l="l" t="t" r="r" b="b"/>
            <a:pathLst>
              <a:path w="1380" h="1398">
                <a:moveTo>
                  <a:pt x="759" y="1234"/>
                </a:moveTo>
                <a:lnTo>
                  <a:pt x="759" y="1397"/>
                </a:lnTo>
                <a:lnTo>
                  <a:pt x="0" y="1397"/>
                </a:lnTo>
                <a:lnTo>
                  <a:pt x="0" y="0"/>
                </a:lnTo>
                <a:lnTo>
                  <a:pt x="137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99440" y="3216240"/>
            <a:ext cx="954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d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747880" y="4179960"/>
            <a:ext cx="1041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140680" y="1494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7265880" y="6033960"/>
            <a:ext cx="1600200" cy="648000"/>
            <a:chOff x="7265880" y="6033960"/>
            <a:chExt cx="1600200" cy="648000"/>
          </a:xfrm>
        </p:grpSpPr>
        <p:sp>
          <p:nvSpPr>
            <p:cNvPr id="219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1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69960" cy="6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2" name=""/>
          <p:cNvSpPr/>
          <p:nvPr/>
        </p:nvSpPr>
        <p:spPr>
          <a:xfrm>
            <a:off x="661320" y="547560"/>
            <a:ext cx="424656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ops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owchart for DO-UNTIL loop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called a </a:t>
            </a: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post-test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08160" y="4084560"/>
            <a:ext cx="1451160" cy="646200"/>
          </a:xfrm>
          <a:prstGeom prst="diamond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468680" y="4400640"/>
            <a:ext cx="285840" cy="752400"/>
          </a:xfrm>
          <a:custGeom>
            <a:avLst/>
            <a:gdLst/>
            <a:ahLst/>
            <a:rect l="l" t="t" r="r" b="b"/>
            <a:pathLst>
              <a:path w="180" h="474">
                <a:moveTo>
                  <a:pt x="0" y="0"/>
                </a:moveTo>
                <a:lnTo>
                  <a:pt x="179" y="0"/>
                </a:lnTo>
                <a:lnTo>
                  <a:pt x="179" y="47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736800" y="2476440"/>
            <a:ext cx="0" cy="69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690280" y="406404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430520" y="406404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146400" y="3168720"/>
            <a:ext cx="1177920" cy="588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46840" y="4224240"/>
            <a:ext cx="954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d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209760" y="3286080"/>
            <a:ext cx="1041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35360" y="3786120"/>
            <a:ext cx="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443320" y="2849400"/>
            <a:ext cx="1295280" cy="1554480"/>
          </a:xfrm>
          <a:custGeom>
            <a:avLst/>
            <a:gdLst/>
            <a:ahLst/>
            <a:rect l="l" t="t" r="r" b="b"/>
            <a:pathLst>
              <a:path w="816" h="979">
                <a:moveTo>
                  <a:pt x="343" y="978"/>
                </a:moveTo>
                <a:lnTo>
                  <a:pt x="0" y="978"/>
                </a:lnTo>
                <a:lnTo>
                  <a:pt x="0" y="0"/>
                </a:lnTo>
                <a:lnTo>
                  <a:pt x="815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94240" y="2224080"/>
            <a:ext cx="28702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ments always exec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least o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4533480" y="2585880"/>
            <a:ext cx="865080" cy="605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140680" y="1494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7265880" y="6033960"/>
            <a:ext cx="1600200" cy="648000"/>
            <a:chOff x="7265880" y="6033960"/>
            <a:chExt cx="1600200" cy="648000"/>
          </a:xfrm>
        </p:grpSpPr>
        <p:sp>
          <p:nvSpPr>
            <p:cNvPr id="238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0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69960" cy="6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1" name=""/>
          <p:cNvSpPr/>
          <p:nvPr/>
        </p:nvSpPr>
        <p:spPr>
          <a:xfrm>
            <a:off x="667080" y="547560"/>
            <a:ext cx="169524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O loop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ntax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567160" y="4916520"/>
            <a:ext cx="1595160" cy="307800"/>
          </a:xfrm>
          <a:prstGeom prst="rightArrow">
            <a:avLst>
              <a:gd name="adj1" fmla="val 50000"/>
              <a:gd name="adj2" fmla="val 259386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278960" y="4863960"/>
            <a:ext cx="1261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12_1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798920" y="2008080"/>
            <a:ext cx="4403520" cy="14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n index = initial, limit,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 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720800" y="1938240"/>
            <a:ext cx="4637160" cy="1643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140680" y="1494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7265880" y="6033960"/>
            <a:ext cx="1600200" cy="648000"/>
            <a:chOff x="7265880" y="6033960"/>
            <a:chExt cx="1600200" cy="648000"/>
          </a:xfrm>
        </p:grpSpPr>
        <p:sp>
          <p:nvSpPr>
            <p:cNvPr id="249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1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69960" cy="6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2" name=""/>
          <p:cNvSpPr/>
          <p:nvPr/>
        </p:nvSpPr>
        <p:spPr>
          <a:xfrm>
            <a:off x="656640" y="547560"/>
            <a:ext cx="520200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O loop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have loops within loops (nested loop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nest, cannot overl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711520" y="2913120"/>
            <a:ext cx="1595520" cy="307800"/>
          </a:xfrm>
          <a:prstGeom prst="rightArrow">
            <a:avLst>
              <a:gd name="adj1" fmla="val 50000"/>
              <a:gd name="adj2" fmla="val 25944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21160" y="2849400"/>
            <a:ext cx="1396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12_3a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140680" y="1494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7265880" y="6033960"/>
            <a:ext cx="1600200" cy="648000"/>
            <a:chOff x="7265880" y="6033960"/>
            <a:chExt cx="1600200" cy="648000"/>
          </a:xfrm>
        </p:grpSpPr>
        <p:sp>
          <p:nvSpPr>
            <p:cNvPr id="258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0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69960" cy="6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"/>
          <p:cNvSpPr/>
          <p:nvPr/>
        </p:nvSpPr>
        <p:spPr>
          <a:xfrm>
            <a:off x="655560" y="547560"/>
            <a:ext cx="5634720" cy="66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O loop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ent exercise… 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win free Halloween cand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person to shout correct answer wins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the output from this program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J, K, S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M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 10 J = 1,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 20 K = J,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M = SUM + 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0     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0   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 *, S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7059600" y="855720"/>
          <a:ext cx="1006560" cy="145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59600" y="855720"/>
                    <a:ext cx="1006560" cy="14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"/>
          <p:cNvSpPr/>
          <p:nvPr/>
        </p:nvSpPr>
        <p:spPr>
          <a:xfrm>
            <a:off x="1863720" y="2887560"/>
            <a:ext cx="3762360" cy="320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173280" y="3451680"/>
            <a:ext cx="1894680" cy="1396080"/>
            <a:chOff x="6173280" y="3451680"/>
            <a:chExt cx="1894680" cy="1396080"/>
          </a:xfrm>
        </p:grpSpPr>
        <p:sp>
          <p:nvSpPr>
            <p:cNvPr id="266" name=""/>
            <p:cNvSpPr/>
            <p:nvPr/>
          </p:nvSpPr>
          <p:spPr>
            <a:xfrm rot="20220000">
              <a:off x="6257520" y="3757680"/>
              <a:ext cx="1725480" cy="784080"/>
            </a:xfrm>
            <a:custGeom>
              <a:avLst/>
              <a:gdLst>
                <a:gd name="textAreaLeft" fmla="*/ 393840 w 1725480"/>
                <a:gd name="textAreaRight" fmla="*/ 1331640 w 1725480"/>
                <a:gd name="textAreaTop" fmla="*/ 178920 h 784080"/>
                <a:gd name="textAreaBottom" fmla="*/ 605160 h 78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20220000">
              <a:off x="6701760" y="3916440"/>
              <a:ext cx="777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as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8140680" y="1494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54840" y="547560"/>
            <a:ext cx="5005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oday’s agend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cellaneou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ew from last le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lowchart (or tw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“re-lecture” on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ps and more loo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roduction to functions and subrout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7265880" y="6033960"/>
            <a:ext cx="1600200" cy="635040"/>
            <a:chOff x="7265880" y="6033960"/>
            <a:chExt cx="1600200" cy="635040"/>
          </a:xfrm>
        </p:grpSpPr>
        <p:sp>
          <p:nvSpPr>
            <p:cNvPr id="56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57360" cy="63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"/>
          <p:cNvSpPr/>
          <p:nvPr/>
        </p:nvSpPr>
        <p:spPr>
          <a:xfrm>
            <a:off x="8140680" y="1494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7265880" y="6033960"/>
            <a:ext cx="1600200" cy="648000"/>
            <a:chOff x="7265880" y="6033960"/>
            <a:chExt cx="1600200" cy="648000"/>
          </a:xfrm>
        </p:grpSpPr>
        <p:sp>
          <p:nvSpPr>
            <p:cNvPr id="271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3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69960" cy="6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4" name=""/>
          <p:cNvSpPr/>
          <p:nvPr/>
        </p:nvSpPr>
        <p:spPr>
          <a:xfrm>
            <a:off x="655560" y="547560"/>
            <a:ext cx="5634720" cy="70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O loop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ent exercise… 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win free Halloween cand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person to shout correct answer wins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the output from this program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J, 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AL X,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 = 0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 10 I = 0, 5,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 20 J = 1, 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 = X + I / 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0      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0    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 *,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7059600" y="855720"/>
          <a:ext cx="1006560" cy="145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59600" y="855720"/>
                    <a:ext cx="1006560" cy="14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"/>
          <p:cNvSpPr/>
          <p:nvPr/>
        </p:nvSpPr>
        <p:spPr>
          <a:xfrm>
            <a:off x="1863720" y="2725560"/>
            <a:ext cx="3762360" cy="337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173280" y="3451680"/>
            <a:ext cx="1894680" cy="1396080"/>
            <a:chOff x="6173280" y="3451680"/>
            <a:chExt cx="1894680" cy="1396080"/>
          </a:xfrm>
        </p:grpSpPr>
        <p:sp>
          <p:nvSpPr>
            <p:cNvPr id="279" name=""/>
            <p:cNvSpPr/>
            <p:nvPr/>
          </p:nvSpPr>
          <p:spPr>
            <a:xfrm rot="20220000">
              <a:off x="6257520" y="3757680"/>
              <a:ext cx="1725480" cy="784080"/>
            </a:xfrm>
            <a:custGeom>
              <a:avLst/>
              <a:gdLst>
                <a:gd name="textAreaLeft" fmla="*/ 393840 w 1725480"/>
                <a:gd name="textAreaRight" fmla="*/ 1331640 w 1725480"/>
                <a:gd name="textAreaTop" fmla="*/ 178920 h 784080"/>
                <a:gd name="textAreaBottom" fmla="*/ 605160 h 78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20220000">
              <a:off x="6700320" y="3906360"/>
              <a:ext cx="828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ar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8140680" y="1494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7265880" y="6033960"/>
            <a:ext cx="1600200" cy="648000"/>
            <a:chOff x="7265880" y="6033960"/>
            <a:chExt cx="1600200" cy="648000"/>
          </a:xfrm>
        </p:grpSpPr>
        <p:sp>
          <p:nvSpPr>
            <p:cNvPr id="284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69960" cy="6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7" name=""/>
          <p:cNvSpPr/>
          <p:nvPr/>
        </p:nvSpPr>
        <p:spPr>
          <a:xfrm>
            <a:off x="653040" y="547560"/>
            <a:ext cx="76478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tudent exercise for DO loop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rcise #1 - Write a FORTRAN program that outputs the integ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thru 99 in increments of 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140680" y="1494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7265880" y="6033960"/>
            <a:ext cx="1600200" cy="648000"/>
            <a:chOff x="7265880" y="6033960"/>
            <a:chExt cx="1600200" cy="648000"/>
          </a:xfrm>
        </p:grpSpPr>
        <p:sp>
          <p:nvSpPr>
            <p:cNvPr id="291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3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69960" cy="6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4" name=""/>
          <p:cNvSpPr/>
          <p:nvPr/>
        </p:nvSpPr>
        <p:spPr>
          <a:xfrm>
            <a:off x="671400" y="547560"/>
            <a:ext cx="442944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ILE-DO (pre-test) loop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ntax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800360" y="2008080"/>
            <a:ext cx="4219200" cy="19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  IF (logical expression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TO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720800" y="1938240"/>
            <a:ext cx="4637160" cy="206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140680" y="1494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265880" y="6033960"/>
            <a:ext cx="1600200" cy="648000"/>
            <a:chOff x="7265880" y="6033960"/>
            <a:chExt cx="1600200" cy="648000"/>
          </a:xfrm>
        </p:grpSpPr>
        <p:sp>
          <p:nvSpPr>
            <p:cNvPr id="300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2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69960" cy="6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"/>
          <p:cNvSpPr/>
          <p:nvPr/>
        </p:nvSpPr>
        <p:spPr>
          <a:xfrm>
            <a:off x="671400" y="547560"/>
            <a:ext cx="44323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O-UNTIL (post-test) loop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ntax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800360" y="2008080"/>
            <a:ext cx="5100120" cy="14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  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(conditional expression) GOTO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20800" y="1938240"/>
            <a:ext cx="5275440" cy="1643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140680" y="1494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7265880" y="6033960"/>
            <a:ext cx="1600200" cy="648000"/>
            <a:chOff x="7265880" y="6033960"/>
            <a:chExt cx="1600200" cy="648000"/>
          </a:xfrm>
        </p:grpSpPr>
        <p:sp>
          <p:nvSpPr>
            <p:cNvPr id="309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1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69960" cy="6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2" name=""/>
          <p:cNvSpPr/>
          <p:nvPr/>
        </p:nvSpPr>
        <p:spPr>
          <a:xfrm>
            <a:off x="646200" y="547560"/>
            <a:ext cx="793584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tudent exercise for pre/post test loo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rcise #1 - Write a FORTRAN program that takes user input unt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egative number is input.  The program then outputs the number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values entered, the largest value entered, and the smalle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on-negative) value ente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140680" y="1494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7265880" y="6033960"/>
            <a:ext cx="1600200" cy="635040"/>
            <a:chOff x="7265880" y="6033960"/>
            <a:chExt cx="1600200" cy="635040"/>
          </a:xfrm>
        </p:grpSpPr>
        <p:sp>
          <p:nvSpPr>
            <p:cNvPr id="316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8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57360" cy="63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9" name=""/>
          <p:cNvSpPr/>
          <p:nvPr/>
        </p:nvSpPr>
        <p:spPr>
          <a:xfrm>
            <a:off x="772200" y="547560"/>
            <a:ext cx="7297560" cy="58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dular progra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life things are usually modular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od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a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adj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onstructed with standardized un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xampl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s in a 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s in a dog 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onents in a comp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s in a bo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sche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770120" y="2075040"/>
            <a:ext cx="6519960" cy="64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140680" y="1494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7265880" y="6033960"/>
            <a:ext cx="1600200" cy="635040"/>
            <a:chOff x="7265880" y="6033960"/>
            <a:chExt cx="1600200" cy="635040"/>
          </a:xfrm>
        </p:grpSpPr>
        <p:sp>
          <p:nvSpPr>
            <p:cNvPr id="324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6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57360" cy="63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"/>
          <p:cNvSpPr/>
          <p:nvPr/>
        </p:nvSpPr>
        <p:spPr>
          <a:xfrm>
            <a:off x="646920" y="547560"/>
            <a:ext cx="7711920" cy="60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dular programs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other word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Why do thi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00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Avoid writing the same code over-and-over a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00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Ability to reuse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00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Ability to split-up a project among team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00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Ability to easily distribute code for use by ot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00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Ability to hide complexity from programmers (you and oth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731960" y="2075040"/>
            <a:ext cx="5622840" cy="136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923120" y="2166840"/>
            <a:ext cx="5257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“real” program is a collection of m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programs call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routin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140680" y="1494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2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7265880" y="6033960"/>
            <a:ext cx="1600200" cy="635040"/>
            <a:chOff x="7265880" y="6033960"/>
            <a:chExt cx="1600200" cy="635040"/>
          </a:xfrm>
        </p:grpSpPr>
        <p:sp>
          <p:nvSpPr>
            <p:cNvPr id="333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5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57360" cy="63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6" name=""/>
          <p:cNvSpPr/>
          <p:nvPr/>
        </p:nvSpPr>
        <p:spPr>
          <a:xfrm>
            <a:off x="650160" y="547560"/>
            <a:ext cx="721836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dular programs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routines and functions are the leaves of a structure dia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786760" y="2165400"/>
            <a:ext cx="2000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mple payroll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790640" y="2665440"/>
            <a:ext cx="4270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3922200" y="2554200"/>
            <a:ext cx="180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271520" y="2736720"/>
            <a:ext cx="1036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171600" y="2724120"/>
            <a:ext cx="1488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298120" y="2736720"/>
            <a:ext cx="1535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ycheck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3922200" y="2671920"/>
            <a:ext cx="180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782720" y="2679840"/>
            <a:ext cx="1800" cy="10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6059520" y="2678040"/>
            <a:ext cx="1440" cy="13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929040" y="3017880"/>
            <a:ext cx="0" cy="10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886120" y="31291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921120" y="3144960"/>
            <a:ext cx="0" cy="11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5029200" y="3141720"/>
            <a:ext cx="1440" cy="13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451680" y="3262320"/>
            <a:ext cx="95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741920" y="3262320"/>
            <a:ext cx="596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059520" y="3002040"/>
            <a:ext cx="1440" cy="59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030640" y="3595680"/>
            <a:ext cx="2135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25960" y="3591000"/>
            <a:ext cx="180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062760" y="3611520"/>
            <a:ext cx="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495320" y="3684600"/>
            <a:ext cx="947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RS 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581440" y="3695760"/>
            <a:ext cx="947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le 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450120" y="3684600"/>
            <a:ext cx="1454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mployee 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176960" y="3602160"/>
            <a:ext cx="1800" cy="10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209680" y="3251160"/>
            <a:ext cx="1330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gular hou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959360" y="5475240"/>
            <a:ext cx="2864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Functions and subrout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654200" y="625320"/>
            <a:ext cx="6711480" cy="503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943600" y="1887480"/>
            <a:ext cx="1650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Main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736880" y="2071800"/>
            <a:ext cx="1230120" cy="266760"/>
          </a:xfrm>
          <a:prstGeom prst="line">
            <a:avLst/>
          </a:prstGeom>
          <a:ln w="1260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822400" y="1528560"/>
            <a:ext cx="4384440" cy="413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786120" y="1510200"/>
            <a:ext cx="2488680" cy="413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884320" y="3141720"/>
            <a:ext cx="0" cy="11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140680" y="1494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7265880" y="6033960"/>
            <a:ext cx="1600200" cy="635040"/>
            <a:chOff x="7265880" y="6033960"/>
            <a:chExt cx="1600200" cy="635040"/>
          </a:xfrm>
        </p:grpSpPr>
        <p:sp>
          <p:nvSpPr>
            <p:cNvPr id="371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57360" cy="63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658080" y="547560"/>
            <a:ext cx="6456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dular programs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example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h functions that are “prebuilt” into FORTR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17400" y="2700360"/>
            <a:ext cx="62442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LOG(1000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OG() function is probably many 10’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s of obscure FORTRAN code… but it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dden from you!  And, this is good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255680" y="2550960"/>
            <a:ext cx="6848640" cy="2992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140680" y="1494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7265880" y="6033960"/>
            <a:ext cx="1600200" cy="635040"/>
            <a:chOff x="7265880" y="6033960"/>
            <a:chExt cx="1600200" cy="635040"/>
          </a:xfrm>
        </p:grpSpPr>
        <p:sp>
          <p:nvSpPr>
            <p:cNvPr id="380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2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57360" cy="63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3" name=""/>
          <p:cNvSpPr/>
          <p:nvPr/>
        </p:nvSpPr>
        <p:spPr>
          <a:xfrm>
            <a:off x="647640" y="547560"/>
            <a:ext cx="8079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UNC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ust like in Mathcad, you can write your own functions in FORTR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unction is an independent program called from a main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630080" y="2414520"/>
            <a:ext cx="4574160" cy="32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GER X, </a:t>
            </a:r>
            <a:r>
              <a:rPr b="0" lang="en-US" sz="1800" spc="-1" strike="noStrike">
                <a:solidFill>
                  <a:srgbClr val="ff0033"/>
                </a:solidFill>
                <a:latin typeface="Courier New"/>
              </a:rPr>
              <a:t>ADD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NT *, </a:t>
            </a:r>
            <a:r>
              <a:rPr b="0" lang="en-US" sz="1800" spc="-1" strike="noStrike">
                <a:solidFill>
                  <a:srgbClr val="ff0033"/>
                </a:solidFill>
                <a:latin typeface="Courier New"/>
              </a:rPr>
              <a:t>ADDONE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ff0033"/>
                </a:solidFill>
                <a:latin typeface="Courier New"/>
              </a:rPr>
              <a:t>INTEGER FUNCTION ADDONE(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GER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ff0033"/>
                </a:solidFill>
                <a:latin typeface="Courier New"/>
              </a:rPr>
              <a:t>ADDON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Y +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425600" y="2332080"/>
            <a:ext cx="5000760" cy="337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311240" y="3986280"/>
            <a:ext cx="1219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312680" y="2486160"/>
            <a:ext cx="1180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4946400" y="2674800"/>
            <a:ext cx="2392200" cy="554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374960" y="3011400"/>
            <a:ext cx="785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5008320" y="3200400"/>
            <a:ext cx="2392200" cy="554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5930640" y="4184640"/>
            <a:ext cx="1430280" cy="334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128680" y="3083040"/>
            <a:ext cx="231840" cy="1135080"/>
          </a:xfrm>
          <a:custGeom>
            <a:avLst/>
            <a:gdLst/>
            <a:ahLst/>
            <a:rect l="l" t="t" r="r" b="b"/>
            <a:pathLst>
              <a:path w="146" h="715">
                <a:moveTo>
                  <a:pt x="145" y="0"/>
                </a:moveTo>
                <a:lnTo>
                  <a:pt x="116" y="4"/>
                </a:lnTo>
                <a:lnTo>
                  <a:pt x="93" y="17"/>
                </a:lnTo>
                <a:lnTo>
                  <a:pt x="83" y="30"/>
                </a:lnTo>
                <a:lnTo>
                  <a:pt x="76" y="38"/>
                </a:lnTo>
                <a:lnTo>
                  <a:pt x="74" y="47"/>
                </a:lnTo>
                <a:lnTo>
                  <a:pt x="71" y="60"/>
                </a:lnTo>
                <a:lnTo>
                  <a:pt x="71" y="298"/>
                </a:lnTo>
                <a:lnTo>
                  <a:pt x="69" y="310"/>
                </a:lnTo>
                <a:lnTo>
                  <a:pt x="67" y="323"/>
                </a:lnTo>
                <a:lnTo>
                  <a:pt x="59" y="332"/>
                </a:lnTo>
                <a:lnTo>
                  <a:pt x="50" y="340"/>
                </a:lnTo>
                <a:lnTo>
                  <a:pt x="28" y="353"/>
                </a:lnTo>
                <a:lnTo>
                  <a:pt x="0" y="357"/>
                </a:lnTo>
                <a:lnTo>
                  <a:pt x="28" y="361"/>
                </a:lnTo>
                <a:lnTo>
                  <a:pt x="50" y="374"/>
                </a:lnTo>
                <a:lnTo>
                  <a:pt x="59" y="383"/>
                </a:lnTo>
                <a:lnTo>
                  <a:pt x="67" y="391"/>
                </a:lnTo>
                <a:lnTo>
                  <a:pt x="69" y="404"/>
                </a:lnTo>
                <a:lnTo>
                  <a:pt x="71" y="417"/>
                </a:lnTo>
                <a:lnTo>
                  <a:pt x="71" y="655"/>
                </a:lnTo>
                <a:lnTo>
                  <a:pt x="74" y="667"/>
                </a:lnTo>
                <a:lnTo>
                  <a:pt x="76" y="676"/>
                </a:lnTo>
                <a:lnTo>
                  <a:pt x="83" y="689"/>
                </a:lnTo>
                <a:lnTo>
                  <a:pt x="93" y="697"/>
                </a:lnTo>
                <a:lnTo>
                  <a:pt x="116" y="710"/>
                </a:lnTo>
                <a:lnTo>
                  <a:pt x="145" y="7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05200" y="2781360"/>
            <a:ext cx="721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909720" y="3016080"/>
            <a:ext cx="1138320" cy="627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140680" y="1494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7265880" y="6033960"/>
            <a:ext cx="1600200" cy="635040"/>
            <a:chOff x="7265880" y="6033960"/>
            <a:chExt cx="1600200" cy="635040"/>
          </a:xfrm>
        </p:grpSpPr>
        <p:sp>
          <p:nvSpPr>
            <p:cNvPr id="62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57360" cy="63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671040" y="547560"/>
            <a:ext cx="68432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iscellaneous - where we are in this cour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9560" y="1368360"/>
            <a:ext cx="7599600" cy="890640"/>
          </a:xfrm>
          <a:prstGeom prst="roundRect">
            <a:avLst>
              <a:gd name="adj" fmla="val 16630"/>
            </a:avLst>
          </a:prstGeom>
          <a:noFill/>
          <a:ln w="1260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151840" y="13644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9200" y="1411200"/>
            <a:ext cx="8283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eek #11 (11/01 - 11/07) 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TRAN (Chap 4.1, 4.3, 4.4, 4.6, 4.7, and summa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ecture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petition using single and nested loops (DO, WHILE-DO, and DO-UNTIL)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ab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uiz #4 (FORTRAN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eek #12 (11/08 - 11/14) 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TRAN (Chap 6.1, 6.5, and summary 7.1, 7.5, 7.6 and summa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ecture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bprograms using functions and subroutines. Application case study (Chap 7.5)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ab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 lab this week (Veteran's Day holiday on Thursday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eek #13 (11/15 - 11/21) 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TRAN (Chap 8.1 - 8.3, 8.5, and summary, 9.1, and summa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ecture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e and two dimensional array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ab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uiz #5 (FORTRAN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eek #14 (11/22 - 11/28) 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TRAN (Chap 8.8, Chap 9.5, Chap 12.4, 12.6, 12.7, and summary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ecture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lication examples of arrays (sorting and matrix multiply).  Archaic FORTRA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ab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 lab this week (Thanksgiving holiday on Thursday and Friday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eek #15 (11/29 - 12/05) 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am #2 (No assigned read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ecture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am #2 during lecture perio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ab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 lab this wee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7265880" y="6033960"/>
            <a:ext cx="1600200" cy="635040"/>
            <a:chOff x="7265880" y="6033960"/>
            <a:chExt cx="1600200" cy="635040"/>
          </a:xfrm>
        </p:grpSpPr>
        <p:sp>
          <p:nvSpPr>
            <p:cNvPr id="398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0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57360" cy="63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"/>
          <p:cNvSpPr/>
          <p:nvPr/>
        </p:nvSpPr>
        <p:spPr>
          <a:xfrm>
            <a:off x="664560" y="547560"/>
            <a:ext cx="28396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BROUTI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imple example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629720" y="2414520"/>
            <a:ext cx="3751200" cy="34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GER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ff0033"/>
                </a:solidFill>
                <a:latin typeface="Courier New"/>
              </a:rPr>
              <a:t>CALL ADDONE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NT *,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ff0033"/>
                </a:solidFill>
                <a:latin typeface="Courier New"/>
              </a:rPr>
              <a:t>SUBROUTINE ADDONE(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GER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 = Y +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425600" y="2332080"/>
            <a:ext cx="5000760" cy="365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311240" y="3986280"/>
            <a:ext cx="1219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374960" y="3011400"/>
            <a:ext cx="785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4452480" y="3200400"/>
            <a:ext cx="2948040" cy="59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5100480" y="4184640"/>
            <a:ext cx="2260800" cy="58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140680" y="1494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7265880" y="6033960"/>
            <a:ext cx="1600200" cy="635040"/>
            <a:chOff x="7265880" y="6033960"/>
            <a:chExt cx="1600200" cy="635040"/>
          </a:xfrm>
        </p:grpSpPr>
        <p:sp>
          <p:nvSpPr>
            <p:cNvPr id="411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13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57360" cy="63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4" name=""/>
          <p:cNvSpPr/>
          <p:nvPr/>
        </p:nvSpPr>
        <p:spPr>
          <a:xfrm>
            <a:off x="647640" y="547560"/>
            <a:ext cx="7999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UNCTIONs and SUBROUTI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 the use of arguments to pass value into functions and subrout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s returns with a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ing the value of an argument is considered b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ROUTINES do not return with a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ing the value of an argument is how results are pas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792440" y="4321080"/>
            <a:ext cx="1595160" cy="308160"/>
          </a:xfrm>
          <a:prstGeom prst="rightArrow">
            <a:avLst>
              <a:gd name="adj1" fmla="val 50000"/>
              <a:gd name="adj2" fmla="val 259084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503520" y="4268880"/>
            <a:ext cx="248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14_1.f, ex15_1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8140680" y="1494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7265880" y="6033960"/>
            <a:ext cx="1600200" cy="635040"/>
            <a:chOff x="7265880" y="6033960"/>
            <a:chExt cx="1600200" cy="635040"/>
          </a:xfrm>
        </p:grpSpPr>
        <p:sp>
          <p:nvSpPr>
            <p:cNvPr id="420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57360" cy="63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3" name=""/>
          <p:cNvSpPr/>
          <p:nvPr/>
        </p:nvSpPr>
        <p:spPr>
          <a:xfrm>
            <a:off x="648720" y="547560"/>
            <a:ext cx="8016840" cy="21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tudent exercise for FUNCTIONs, etc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rcise #1 - Write a function with two integer arguments that retur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 value equal to the value of the smallest argument.  Name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, MIN2.  Write a main program that calls MIN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140680" y="1494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7265880" y="6033960"/>
            <a:ext cx="1600200" cy="635040"/>
            <a:chOff x="7265880" y="6033960"/>
            <a:chExt cx="1600200" cy="635040"/>
          </a:xfrm>
        </p:grpSpPr>
        <p:sp>
          <p:nvSpPr>
            <p:cNvPr id="427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29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57360" cy="63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0" name=""/>
          <p:cNvSpPr/>
          <p:nvPr/>
        </p:nvSpPr>
        <p:spPr>
          <a:xfrm>
            <a:off x="654840" y="547560"/>
            <a:ext cx="5754960" cy="21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iz #5 is next we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00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Take advantage of the extra office hours!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8140680" y="1494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3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7265880" y="6033960"/>
            <a:ext cx="1600200" cy="635040"/>
            <a:chOff x="7265880" y="6033960"/>
            <a:chExt cx="1600200" cy="635040"/>
          </a:xfrm>
        </p:grpSpPr>
        <p:sp>
          <p:nvSpPr>
            <p:cNvPr id="71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57360" cy="63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" name=""/>
          <p:cNvSpPr/>
          <p:nvPr/>
        </p:nvSpPr>
        <p:spPr>
          <a:xfrm>
            <a:off x="668520" y="547560"/>
            <a:ext cx="725796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iscellaneous – extra office hours and outli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Monday 11/8 through Friday 11/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no hours on Thursday (Veteran’s Day holid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151840" y="13644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27000" y="2220840"/>
            <a:ext cx="1203480" cy="486000"/>
          </a:xfrm>
          <a:prstGeom prst="rightArrow">
            <a:avLst>
              <a:gd name="adj1" fmla="val 50000"/>
              <a:gd name="adj2" fmla="val 61907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337840" y="2239920"/>
            <a:ext cx="23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 Zhou - - - - -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27000" y="3160800"/>
            <a:ext cx="1203480" cy="485640"/>
          </a:xfrm>
          <a:prstGeom prst="rightArrow">
            <a:avLst>
              <a:gd name="adj1" fmla="val 50000"/>
              <a:gd name="adj2" fmla="val 61953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37120" y="3179880"/>
            <a:ext cx="232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jit Vaidya - -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18080" y="2163600"/>
            <a:ext cx="415800" cy="1654200"/>
          </a:xfrm>
          <a:custGeom>
            <a:avLst/>
            <a:gdLst>
              <a:gd name="textAreaLeft" fmla="*/ 0 w 415800"/>
              <a:gd name="textAreaRight" fmla="*/ 150120 w 415800"/>
              <a:gd name="textAreaTop" fmla="*/ 42840 h 1654200"/>
              <a:gd name="textAreaBottom" fmla="*/ 1611360 h 165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79600" y="2579760"/>
            <a:ext cx="249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To Be Announc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and post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82960" y="4073400"/>
            <a:ext cx="86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===============================================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39240" y="4950000"/>
            <a:ext cx="73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all that we are about half a lecture ahead in the Out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4640" y="4710240"/>
            <a:ext cx="8264520" cy="949320"/>
          </a:xfrm>
          <a:prstGeom prst="ellipse">
            <a:avLst/>
          </a:prstGeom>
          <a:noFill/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7265880" y="6033960"/>
            <a:ext cx="1600200" cy="635040"/>
            <a:chOff x="7265880" y="6033960"/>
            <a:chExt cx="1600200" cy="635040"/>
          </a:xfrm>
        </p:grpSpPr>
        <p:sp>
          <p:nvSpPr>
            <p:cNvPr id="87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57360" cy="63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"/>
          <p:cNvSpPr/>
          <p:nvPr/>
        </p:nvSpPr>
        <p:spPr>
          <a:xfrm>
            <a:off x="669240" y="547560"/>
            <a:ext cx="565776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iscellaneous - how it all works (?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“academic continuum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84320" y="3200400"/>
            <a:ext cx="6942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76400" y="3022560"/>
            <a:ext cx="0" cy="344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016840" y="3022560"/>
            <a:ext cx="0" cy="344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7600" y="3303720"/>
            <a:ext cx="1667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oon fee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02240" y="3349800"/>
            <a:ext cx="14119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 figur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 yourse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97000" y="2714760"/>
            <a:ext cx="17607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63040" y="2257560"/>
            <a:ext cx="3103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reasing “academic maturity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53280" y="4710240"/>
            <a:ext cx="1785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rning is 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33920" y="3675240"/>
            <a:ext cx="2604960" cy="1046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1856880" y="3675240"/>
            <a:ext cx="2605320" cy="1046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30280" y="2962440"/>
            <a:ext cx="4710240" cy="45720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400" y="4686480"/>
            <a:ext cx="238248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rning is 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increasing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ight (up 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point w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fusion takes ov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276640" y="3499920"/>
            <a:ext cx="2224080" cy="165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140680" y="1494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65880" y="6033960"/>
            <a:ext cx="1600200" cy="635040"/>
            <a:chOff x="7265880" y="6033960"/>
            <a:chExt cx="1600200" cy="635040"/>
          </a:xfrm>
        </p:grpSpPr>
        <p:sp>
          <p:nvSpPr>
            <p:cNvPr id="107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9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57360" cy="63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" name=""/>
          <p:cNvSpPr/>
          <p:nvPr/>
        </p:nvSpPr>
        <p:spPr>
          <a:xfrm>
            <a:off x="647280" y="547560"/>
            <a:ext cx="7759080" cy="63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view from last lectu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IF is used to _____________ one or more statements to exec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“inside” of an IF statement is called a _____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our kinds of IF statements are __________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compare real numbers we must _____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 = Y.GT.100” is legal if X is a __________________ type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 the truth table for AND, OR, EQV, NEQV, and 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three kinds of loops are _____________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 and WHILE are legal FORTRAN77 statements - Yes / 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140680" y="1494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265880" y="6033960"/>
            <a:ext cx="1600200" cy="635040"/>
            <a:chOff x="7265880" y="6033960"/>
            <a:chExt cx="1600200" cy="635040"/>
          </a:xfrm>
        </p:grpSpPr>
        <p:sp>
          <p:nvSpPr>
            <p:cNvPr id="114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6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57360" cy="63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"/>
          <p:cNvSpPr/>
          <p:nvPr/>
        </p:nvSpPr>
        <p:spPr>
          <a:xfrm>
            <a:off x="651240" y="547560"/>
            <a:ext cx="752616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view from last lecture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ent exercise -  Write an IF-ELSE-IF statement for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gn a program that takes as input a score (0 to 100)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s “A” if score is 90 to 100, “B” if score is 80 to 89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” if score is 70 to 79, and “D or less” if score is below 7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140680" y="1494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7265880" y="6033960"/>
            <a:ext cx="1600200" cy="635040"/>
            <a:chOff x="7265880" y="6033960"/>
            <a:chExt cx="1600200" cy="635040"/>
          </a:xfrm>
        </p:grpSpPr>
        <p:sp>
          <p:nvSpPr>
            <p:cNvPr id="121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57360" cy="63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4" name=""/>
          <p:cNvSpPr/>
          <p:nvPr/>
        </p:nvSpPr>
        <p:spPr>
          <a:xfrm>
            <a:off x="640440" y="547560"/>
            <a:ext cx="811440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flowchart (or two)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lem #1 - Design a program that inputs a positive integer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outputs the integers 1 through 10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lem #2 - Design a program to output the following sequence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mbers, 1, 2, 3, 4, 5, 2, 3, 4, 5, 6, 3, 4, 5, 6, 7, 4, 5, 6, 7, 8, 5, 6, 7, 8, 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140680" y="1494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04720" y="3279600"/>
            <a:ext cx="5101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: This is silly, I will never need to do this 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eal world!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: You are correct... the purpose here is 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monstrate importan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ncep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o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lems that apply to non-trivial real worl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lems.  The concept demonstrated here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_________________________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96920" y="3141720"/>
            <a:ext cx="5632560" cy="2833560"/>
          </a:xfrm>
          <a:prstGeom prst="roundRect">
            <a:avLst>
              <a:gd name="adj" fmla="val 1663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7265880" y="6033960"/>
            <a:ext cx="1600200" cy="635040"/>
            <a:chOff x="7265880" y="6033960"/>
            <a:chExt cx="1600200" cy="635040"/>
          </a:xfrm>
        </p:grpSpPr>
        <p:sp>
          <p:nvSpPr>
            <p:cNvPr id="130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2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57360" cy="63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3" name=""/>
          <p:cNvSpPr/>
          <p:nvPr/>
        </p:nvSpPr>
        <p:spPr>
          <a:xfrm>
            <a:off x="647280" y="547560"/>
            <a:ext cx="8409960" cy="57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MAT “re-lecture”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do we “prettify” our outpu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AT statement used in conjunction with a READ or WR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AT descrip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w.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 real number (w digits including the “.”, d digits after the “.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 integer number (w digi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 character data (w charact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 space (n spac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y others, but this is all we’ll cover for n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character i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ank (“1x”) for normal spa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for double spa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for page eject (think printers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for overstrike (but, probably will not wor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131320" y="16524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18120" y="3316320"/>
            <a:ext cx="1337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ft al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5671800" y="3516480"/>
            <a:ext cx="1150920" cy="114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20580000">
            <a:off x="4736160" y="546120"/>
            <a:ext cx="1489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hapter 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20580000">
            <a:off x="4530600" y="471240"/>
            <a:ext cx="1871640" cy="630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20T03:40:38Z</dcterms:created>
  <dc:creator>Ken Christensen</dc:creator>
  <dc:description/>
  <dc:language>en-US</dc:language>
  <cp:lastModifiedBy>Ken Christensen</cp:lastModifiedBy>
  <cp:lastPrinted>1997-11-09T19:28:00Z</cp:lastPrinted>
  <dcterms:modified xsi:type="dcterms:W3CDTF">1999-10-27T20:01:04Z</dcterms:modified>
  <cp:revision>123</cp:revision>
  <dc:subject/>
  <dc:title>No Slide Title</dc:title>
</cp:coreProperties>
</file>